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7979-8930-4EFC-91EE-009EB442C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2F53-CE73-4989-ABC1-62BDF5955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4A18-861F-4402-93A5-A6803DB83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3C27-A751-4CA8-9F47-B0DD5E83A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39D6-9020-42F6-AF61-6783D2095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C698-2DAD-4A83-9DB0-41E3B5B20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862F-9FCF-4090-A3A8-4CC138B91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4AB0-9869-4E06-95D6-14A6BEA01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D99D-04D4-4F5F-AFBC-A5C53F1A2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087-114B-4430-95F4-26A7CAE2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2EEA-017C-484A-BC25-1B3C259C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144F-E179-4681-8B7B-AE968ACD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1FBC-3D2F-4E8D-B845-44981EA9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8ADD-7322-44EF-B34F-1E70CB5C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CAC3-65D2-445B-9D1A-DF0FDB2D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729-B453-4618-B07B-A520BA84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E58A-7371-45AA-9FC4-15BAB8E5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2F0-922B-458B-8AD3-92409BE4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7F5D-8593-4170-A182-382312AA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ED95-1CBD-4941-9B67-F88A097E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B761-CADE-4872-89BD-FD09EB1F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A8C8-53E3-48A5-BCEF-5512271AD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9/S_cerevisiae_under_DIC_microscopy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hyperlink" Target="http://ethnopharmacology.com/index.html" TargetMode="External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9/S_cerevisiae_under_DIC_microscopy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hyperlink" Target="http://ethnopharmacology.com/index.html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rijk van de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8" descr="Image:S cerevisiae under DIC microscop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628640"/>
            <a:ext cx="4762440" cy="4762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4" descr="hyphae"/>
          <p:cNvPicPr/>
          <p:nvPr/>
        </p:nvPicPr>
        <p:blipFill>
          <a:blip r:embed="rId3"/>
          <a:stretch/>
        </p:blipFill>
        <p:spPr>
          <a:xfrm>
            <a:off x="684360" y="1341360"/>
            <a:ext cx="6912000" cy="541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2" descr="Fungal_hyphae_620"/>
          <p:cNvPicPr/>
          <p:nvPr/>
        </p:nvPicPr>
        <p:blipFill>
          <a:blip r:embed="rId4"/>
          <a:stretch/>
        </p:blipFill>
        <p:spPr>
          <a:xfrm>
            <a:off x="1258920" y="1141560"/>
            <a:ext cx="6480000" cy="571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790px-Edible_Fungi"/>
          <p:cNvPicPr/>
          <p:nvPr/>
        </p:nvPicPr>
        <p:blipFill>
          <a:blip r:embed="rId5"/>
          <a:stretch/>
        </p:blipFill>
        <p:spPr>
          <a:xfrm>
            <a:off x="395280" y="907920"/>
            <a:ext cx="7777080" cy="5899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"/>
          <p:cNvPicPr/>
          <p:nvPr/>
        </p:nvPicPr>
        <p:blipFill>
          <a:blip r:embed="rId6"/>
          <a:stretch/>
        </p:blipFill>
        <p:spPr>
          <a:xfrm>
            <a:off x="684360" y="836640"/>
            <a:ext cx="7343640" cy="597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6" descr="delicious and nutritious? No.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92360" y="907920"/>
            <a:ext cx="5046480" cy="595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0" descr="baird-purple-fungi-1-large"/>
          <p:cNvPicPr/>
          <p:nvPr/>
        </p:nvPicPr>
        <p:blipFill>
          <a:blip r:embed="rId9"/>
          <a:stretch/>
        </p:blipFill>
        <p:spPr>
          <a:xfrm>
            <a:off x="539640" y="309600"/>
            <a:ext cx="8101080" cy="6548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6" descr="r159235_580502"/>
          <p:cNvPicPr/>
          <p:nvPr/>
        </p:nvPicPr>
        <p:blipFill>
          <a:blip r:embed="rId10"/>
          <a:stretch/>
        </p:blipFill>
        <p:spPr>
          <a:xfrm>
            <a:off x="1979640" y="0"/>
            <a:ext cx="474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cellig of Meercellig (schimmeldra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ker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wan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dgroenkorre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843280" y="33544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987640" y="393372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356000" y="4508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Image:S cerevisiae under DIC microscop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22050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yphae"/>
          <p:cNvPicPr/>
          <p:nvPr/>
        </p:nvPicPr>
        <p:blipFill>
          <a:blip r:embed="rId3"/>
          <a:stretch/>
        </p:blipFill>
        <p:spPr>
          <a:xfrm>
            <a:off x="3851280" y="2133720"/>
            <a:ext cx="15112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tpla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nop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g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het uiteinde van schimmeldr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penseelschimm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paddesto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vliegenzw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scanning EM of Candida budding"/>
          <p:cNvPicPr/>
          <p:nvPr/>
        </p:nvPicPr>
        <p:blipFill>
          <a:blip r:embed="rId1"/>
          <a:stretch/>
        </p:blipFill>
        <p:spPr>
          <a:xfrm>
            <a:off x="3348000" y="1413000"/>
            <a:ext cx="2736720" cy="253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yeast_02"/>
          <p:cNvPicPr/>
          <p:nvPr/>
        </p:nvPicPr>
        <p:blipFill>
          <a:blip r:embed="rId2"/>
          <a:stretch/>
        </p:blipFill>
        <p:spPr>
          <a:xfrm>
            <a:off x="6300720" y="476280"/>
            <a:ext cx="2673360" cy="345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humicola9"/>
          <p:cNvPicPr/>
          <p:nvPr/>
        </p:nvPicPr>
        <p:blipFill>
          <a:blip r:embed="rId3"/>
          <a:stretch/>
        </p:blipFill>
        <p:spPr>
          <a:xfrm>
            <a:off x="2411280" y="213372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delicious and nutritious? No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4720" y="4653000"/>
            <a:ext cx="1869840" cy="2205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3"/>
          <p:cNvSpPr/>
          <p:nvPr/>
        </p:nvSpPr>
        <p:spPr>
          <a:xfrm>
            <a:off x="0" y="76500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cell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0" y="306864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cell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e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al dode resten van organis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e opruimers in de natuu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clusief ons eigen voedsel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immelen van fruit, brood, groenten 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verwekkende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infectie: schimmel veroorzaakt een zie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Schimmelinfec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emmersecz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Candida albicans between the toes"/>
          <p:cNvPicPr/>
          <p:nvPr/>
        </p:nvPicPr>
        <p:blipFill>
          <a:blip r:embed="rId1"/>
          <a:stretch/>
        </p:blipFill>
        <p:spPr>
          <a:xfrm>
            <a:off x="5334120" y="4181400"/>
            <a:ext cx="38098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lpende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lpen bij maken van voedingsmidd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od (g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er en Wijn (g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mmelk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tbare paddesto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1"/>
          <a:stretch/>
        </p:blipFill>
        <p:spPr>
          <a:xfrm>
            <a:off x="2735280" y="2828880"/>
            <a:ext cx="640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fun01"/>
          <p:cNvPicPr/>
          <p:nvPr/>
        </p:nvPicPr>
        <p:blipFill>
          <a:blip r:embed="rId1"/>
          <a:stretch/>
        </p:blipFill>
        <p:spPr>
          <a:xfrm>
            <a:off x="1835280" y="170028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2:29:18Z</dcterms:created>
  <dc:creator>IT Servicedesk</dc:creator>
  <dc:description/>
  <dc:language>en-US</dc:language>
  <cp:lastModifiedBy>Joyce Vonk</cp:lastModifiedBy>
  <dcterms:modified xsi:type="dcterms:W3CDTF">2018-09-09T12:20:44Z</dcterms:modified>
  <cp:revision>10</cp:revision>
  <dc:subject/>
  <dc:title>Het rijk van de Bacteriën</dc:title>
</cp:coreProperties>
</file>