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97E7-97EA-4F1A-8566-4F97A882C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494C-B636-43A0-B5CE-B4F39A0B7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32D1-51C3-47EC-A75E-A4CDCA41C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1D31-BA84-422D-9702-0BE8BB6C0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8B45-B36D-47DB-B7F0-06F678C75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C1B8-04C8-4891-AA70-1508658E7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F8B6-4741-4A43-A916-63F4A214C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7546-0AD3-4568-91D6-AEC5AAA9D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99A1-8873-4263-8BB5-FB789849A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317-0063-4D28-985B-2DC4FF596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AF9C-AD83-4FC7-9061-04E1822E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5768-1358-441C-AF42-B58A4A7E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E6A4-3742-4037-85E6-88A32500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C8EE-4AEC-4F65-A3F6-76DFCB07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BC92-5335-4332-9F8C-0892C056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D00F-8C4D-4074-ABD5-DF9E1329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6301-3515-4545-BFC2-A1FAC861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8BD2-8AE9-49B1-AEE7-B7D37611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ED1A-E239-46E9-99DB-FF655375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4F2C-8819-4A52-A31E-102CFE35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0ADC-F14D-4525-A828-4E16C98D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CEC1-E670-410F-8DC8-1ECC65544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9/S_cerevisiae_under_DIC_microscopy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hyperlink" Target="http://ethnopharmacology.com/index.html" TargetMode="External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d/d9/S_cerevisiae_under_DIC_microscopy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hyperlink" Target="http://ethnopharmacology.com/index.html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rijk van de Sc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8" descr="Image:S cerevisiae under DIC microscop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628640"/>
            <a:ext cx="4762440" cy="4762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4" descr="hyphae"/>
          <p:cNvPicPr/>
          <p:nvPr/>
        </p:nvPicPr>
        <p:blipFill>
          <a:blip r:embed="rId3"/>
          <a:stretch/>
        </p:blipFill>
        <p:spPr>
          <a:xfrm>
            <a:off x="684360" y="1341360"/>
            <a:ext cx="6912000" cy="5411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2" descr="Fungal_hyphae_620"/>
          <p:cNvPicPr/>
          <p:nvPr/>
        </p:nvPicPr>
        <p:blipFill>
          <a:blip r:embed="rId4"/>
          <a:stretch/>
        </p:blipFill>
        <p:spPr>
          <a:xfrm>
            <a:off x="1258920" y="1141560"/>
            <a:ext cx="6480000" cy="5716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790px-Edible_Fungi"/>
          <p:cNvPicPr/>
          <p:nvPr/>
        </p:nvPicPr>
        <p:blipFill>
          <a:blip r:embed="rId5"/>
          <a:stretch/>
        </p:blipFill>
        <p:spPr>
          <a:xfrm>
            <a:off x="395280" y="907920"/>
            <a:ext cx="7777080" cy="5899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4" descr=""/>
          <p:cNvPicPr/>
          <p:nvPr/>
        </p:nvPicPr>
        <p:blipFill>
          <a:blip r:embed="rId6"/>
          <a:stretch/>
        </p:blipFill>
        <p:spPr>
          <a:xfrm>
            <a:off x="684360" y="836640"/>
            <a:ext cx="7343640" cy="5973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6" descr="delicious and nutritious? No.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692360" y="907920"/>
            <a:ext cx="5046480" cy="5950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0" descr="baird-purple-fungi-1-large"/>
          <p:cNvPicPr/>
          <p:nvPr/>
        </p:nvPicPr>
        <p:blipFill>
          <a:blip r:embed="rId9"/>
          <a:stretch/>
        </p:blipFill>
        <p:spPr>
          <a:xfrm>
            <a:off x="539640" y="309600"/>
            <a:ext cx="8101080" cy="6548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6" descr="r159235_580502"/>
          <p:cNvPicPr/>
          <p:nvPr/>
        </p:nvPicPr>
        <p:blipFill>
          <a:blip r:embed="rId10"/>
          <a:stretch/>
        </p:blipFill>
        <p:spPr>
          <a:xfrm>
            <a:off x="1979640" y="0"/>
            <a:ext cx="474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enmer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cellig of Meercellig (schimmeldrad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ker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wan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dgroenkorre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843280" y="335448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987640" y="393372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4356000" y="45086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Image:S cerevisiae under DIC microscop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22050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yphae"/>
          <p:cNvPicPr/>
          <p:nvPr/>
        </p:nvPicPr>
        <p:blipFill>
          <a:blip r:embed="rId3"/>
          <a:stretch/>
        </p:blipFill>
        <p:spPr>
          <a:xfrm>
            <a:off x="3851280" y="2133720"/>
            <a:ext cx="15112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tpla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915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nopv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g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o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het uiteinde van schimmeldr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penseelschimm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paddesto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vliegenzw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scanning EM of Candida budding"/>
          <p:cNvPicPr/>
          <p:nvPr/>
        </p:nvPicPr>
        <p:blipFill>
          <a:blip r:embed="rId1"/>
          <a:stretch/>
        </p:blipFill>
        <p:spPr>
          <a:xfrm>
            <a:off x="3348000" y="1413000"/>
            <a:ext cx="2736720" cy="2538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yeast_02"/>
          <p:cNvPicPr/>
          <p:nvPr/>
        </p:nvPicPr>
        <p:blipFill>
          <a:blip r:embed="rId2"/>
          <a:stretch/>
        </p:blipFill>
        <p:spPr>
          <a:xfrm>
            <a:off x="6300720" y="476280"/>
            <a:ext cx="2673360" cy="345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humicola9"/>
          <p:cNvPicPr/>
          <p:nvPr/>
        </p:nvPicPr>
        <p:blipFill>
          <a:blip r:embed="rId3"/>
          <a:stretch/>
        </p:blipFill>
        <p:spPr>
          <a:xfrm>
            <a:off x="2411280" y="2133720"/>
            <a:ext cx="2735280" cy="2050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delicious and nutritious? No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84720" y="4653000"/>
            <a:ext cx="1869840" cy="2205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3"/>
          <p:cNvSpPr/>
          <p:nvPr/>
        </p:nvSpPr>
        <p:spPr>
          <a:xfrm>
            <a:off x="0" y="76500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celli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0" y="3068640"/>
            <a:ext cx="26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celli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e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stal dode resten van organis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oede opruimers in de natuu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clusief ons eigen voedsel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immelen van fruit, brood, groenten 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ekteverwekkende sc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infectie: schimmel veroorzaakt een zie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beelden Schimmelinfec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wemmersecze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Candida albicans between the toes"/>
          <p:cNvPicPr/>
          <p:nvPr/>
        </p:nvPicPr>
        <p:blipFill>
          <a:blip r:embed="rId1"/>
          <a:stretch/>
        </p:blipFill>
        <p:spPr>
          <a:xfrm>
            <a:off x="5334120" y="4181400"/>
            <a:ext cx="38098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lpende schimm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lpen bij maken van voedingsmiddel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rood (g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er en Wijn (g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immelk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tbare paddesto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1"/>
          <a:stretch/>
        </p:blipFill>
        <p:spPr>
          <a:xfrm>
            <a:off x="2735280" y="2828880"/>
            <a:ext cx="640872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fun01"/>
          <p:cNvPicPr/>
          <p:nvPr/>
        </p:nvPicPr>
        <p:blipFill>
          <a:blip r:embed="rId1"/>
          <a:stretch/>
        </p:blipFill>
        <p:spPr>
          <a:xfrm>
            <a:off x="1835280" y="170028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2:29:18Z</dcterms:created>
  <dc:creator>IT Servicedesk</dc:creator>
  <dc:description/>
  <dc:language>en-US</dc:language>
  <cp:lastModifiedBy>Joyce Vonk</cp:lastModifiedBy>
  <dcterms:modified xsi:type="dcterms:W3CDTF">2018-09-09T12:20:44Z</dcterms:modified>
  <cp:revision>10</cp:revision>
  <dc:subject/>
  <dc:title>Het rijk van de Bacteriën</dc:title>
</cp:coreProperties>
</file>