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1B26-B54C-468D-A306-3BFCB1F4A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626B-C9E9-4206-B792-E92DF9C19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E0A0-B4C2-4DE8-999A-15D0FA551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8554-17BA-4DDF-99DB-8DB16780B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5E94-B315-4103-A0FC-8A550B52E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0F44-B6E4-4356-B50A-D3F73B9F3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8089-DE3B-4057-AE61-B7F9A56F8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2700-177E-40F7-B910-803444DD7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4BAC-9805-4F8E-8731-E47BE825C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145-64F5-412C-9C11-18219728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A4F-C697-4F38-93A6-4343AE85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68F-B0F7-4718-9111-1AE044C1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3F5-A342-43B9-86AC-9567B9C7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234-A582-4EB6-8927-9B1099A3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B40-F42C-4015-9465-BA7CA6F3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3938-6B9C-4E86-B29F-DF05066A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FFBB-42E4-4790-A545-B92D98A6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896E-FDA0-4615-BF4C-B1012808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7357-811E-45D3-BD45-3E3500B5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EE42-F7AA-4992-90ED-F130AFF6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DC0-A9F1-4B53-8F66-63DA24FE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7A9E-7D30-4DAB-BDCF-DEC4CECE4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9/S_cerevisiae_under_DIC_microscopy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hyperlink" Target="http://ethnopharmacology.com/index.html" TargetMode="Externa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9/S_cerevisiae_under_DIC_microscopy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hyperlink" Target="http://ethnopharmacology.com/index.html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rijk van 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8" descr="Image:S cerevisiae under DIC micros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628640"/>
            <a:ext cx="4762440" cy="4762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4" descr="hyphae"/>
          <p:cNvPicPr/>
          <p:nvPr/>
        </p:nvPicPr>
        <p:blipFill>
          <a:blip r:embed="rId3"/>
          <a:stretch/>
        </p:blipFill>
        <p:spPr>
          <a:xfrm>
            <a:off x="684360" y="1341360"/>
            <a:ext cx="6912000" cy="541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2" descr="Fungal_hyphae_620"/>
          <p:cNvPicPr/>
          <p:nvPr/>
        </p:nvPicPr>
        <p:blipFill>
          <a:blip r:embed="rId4"/>
          <a:stretch/>
        </p:blipFill>
        <p:spPr>
          <a:xfrm>
            <a:off x="1258920" y="1141560"/>
            <a:ext cx="6480000" cy="571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790px-Edible_Fungi"/>
          <p:cNvPicPr/>
          <p:nvPr/>
        </p:nvPicPr>
        <p:blipFill>
          <a:blip r:embed="rId5"/>
          <a:stretch/>
        </p:blipFill>
        <p:spPr>
          <a:xfrm>
            <a:off x="395280" y="907920"/>
            <a:ext cx="7777080" cy="5899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"/>
          <p:cNvPicPr/>
          <p:nvPr/>
        </p:nvPicPr>
        <p:blipFill>
          <a:blip r:embed="rId6"/>
          <a:stretch/>
        </p:blipFill>
        <p:spPr>
          <a:xfrm>
            <a:off x="684360" y="836640"/>
            <a:ext cx="7343640" cy="597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delicious and nutritious? No.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92360" y="907920"/>
            <a:ext cx="5046480" cy="595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0" descr="baird-purple-fungi-1-large"/>
          <p:cNvPicPr/>
          <p:nvPr/>
        </p:nvPicPr>
        <p:blipFill>
          <a:blip r:embed="rId9"/>
          <a:stretch/>
        </p:blipFill>
        <p:spPr>
          <a:xfrm>
            <a:off x="539640" y="309600"/>
            <a:ext cx="8101080" cy="6548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r159235_580502"/>
          <p:cNvPicPr/>
          <p:nvPr/>
        </p:nvPicPr>
        <p:blipFill>
          <a:blip r:embed="rId10"/>
          <a:stretch/>
        </p:blipFill>
        <p:spPr>
          <a:xfrm>
            <a:off x="1979640" y="0"/>
            <a:ext cx="474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cellig of Meercellig (schimmeldra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ker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wan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dgroenkorre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843280" y="33544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987640" y="393372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356000" y="4508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Image:S cerevisiae under DIC micros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205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yphae"/>
          <p:cNvPicPr/>
          <p:nvPr/>
        </p:nvPicPr>
        <p:blipFill>
          <a:blip r:embed="rId3"/>
          <a:stretch/>
        </p:blipFill>
        <p:spPr>
          <a:xfrm>
            <a:off x="3851280" y="2133720"/>
            <a:ext cx="15112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tpla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nop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g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het uiteinde van schimmeldr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penseelschimm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paddesto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vliegenzw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scanning EM of Candida budding"/>
          <p:cNvPicPr/>
          <p:nvPr/>
        </p:nvPicPr>
        <p:blipFill>
          <a:blip r:embed="rId1"/>
          <a:stretch/>
        </p:blipFill>
        <p:spPr>
          <a:xfrm>
            <a:off x="3348000" y="1413000"/>
            <a:ext cx="2736720" cy="253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yeast_02"/>
          <p:cNvPicPr/>
          <p:nvPr/>
        </p:nvPicPr>
        <p:blipFill>
          <a:blip r:embed="rId2"/>
          <a:stretch/>
        </p:blipFill>
        <p:spPr>
          <a:xfrm>
            <a:off x="6300720" y="476280"/>
            <a:ext cx="2673360" cy="345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humicola9"/>
          <p:cNvPicPr/>
          <p:nvPr/>
        </p:nvPicPr>
        <p:blipFill>
          <a:blip r:embed="rId3"/>
          <a:stretch/>
        </p:blipFill>
        <p:spPr>
          <a:xfrm>
            <a:off x="2411280" y="213372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delicious and nutritious? No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4720" y="4653000"/>
            <a:ext cx="1869840" cy="2205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3"/>
          <p:cNvSpPr/>
          <p:nvPr/>
        </p:nvSpPr>
        <p:spPr>
          <a:xfrm>
            <a:off x="0" y="76500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cell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0" y="306864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cell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e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al dode resten van organis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e opruimers in de natuu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clusief ons eigen voedsel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immelen van fruit, brood, groenten 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verwekken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infectie: schimmel veroorzaakt een zie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Schimmelinfec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emmersecz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Candida albicans between the toes"/>
          <p:cNvPicPr/>
          <p:nvPr/>
        </p:nvPicPr>
        <p:blipFill>
          <a:blip r:embed="rId1"/>
          <a:stretch/>
        </p:blipFill>
        <p:spPr>
          <a:xfrm>
            <a:off x="5334120" y="4181400"/>
            <a:ext cx="38098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lpen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lpen bij maken van voedingsmidd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d (g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er en Wijn (g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mmelk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tbare paddesto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1"/>
          <a:stretch/>
        </p:blipFill>
        <p:spPr>
          <a:xfrm>
            <a:off x="2735280" y="2828880"/>
            <a:ext cx="640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fun01"/>
          <p:cNvPicPr/>
          <p:nvPr/>
        </p:nvPicPr>
        <p:blipFill>
          <a:blip r:embed="rId1"/>
          <a:stretch/>
        </p:blipFill>
        <p:spPr>
          <a:xfrm>
            <a:off x="1835280" y="170028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2:29:18Z</dcterms:created>
  <dc:creator>IT Servicedesk</dc:creator>
  <dc:description/>
  <dc:language>en-US</dc:language>
  <cp:lastModifiedBy>Joyce Vonk</cp:lastModifiedBy>
  <dcterms:modified xsi:type="dcterms:W3CDTF">2018-09-09T12:20:44Z</dcterms:modified>
  <cp:revision>10</cp:revision>
  <dc:subject/>
  <dc:title>Het rijk van de Bacteriën</dc:title>
</cp:coreProperties>
</file>