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2B53-D66C-4B8A-A31F-F85F45CD3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2942-DA8D-43AB-8436-8F394C555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F01C-C018-4AE0-B9CC-288D332BF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83F6-11D0-4C3E-BBC1-FCC0F8EA1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EE44-00AE-429D-B28B-F095F5A0D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1650-A742-4E04-800B-C784EF30F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B57B-C0B3-4567-A737-1FF7D107E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66A2-45DA-4421-8192-BD43BD912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E816-74B5-46F1-B900-6D7B545FB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C4E0-86CB-4496-956F-692B0E555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07CD-1515-4F7A-BF1E-D140F74C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BE69-A63F-4BB0-91AD-1A611D8DC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BF05-050A-4B4B-A39A-B94CBC8B4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2845-DC85-4EA6-8721-6AE101E9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662B-A165-4782-9661-4BA5BDF0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6704-CED8-4490-B7A1-C8FFBA66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DD9A-F62C-4148-B15E-928AA83A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43F5-B501-45D7-BE79-5E106C73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FD40-4B2C-49F0-B70D-C6A70B19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31AB-2564-4431-A64F-FC2904CE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2712-7373-470A-8AF4-B27DD22C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3E68-C005-4FB6-B64D-813F2E570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9/S_cerevisiae_under_DIC_microscopy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hyperlink" Target="http://ethnopharmacology.com/index.html" TargetMode="External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9/S_cerevisiae_under_DIC_microscopy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hyperlink" Target="http://ethnopharmacology.com/index.html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rijk van de Schimm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8" descr="Image:S cerevisiae under DIC microscop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628640"/>
            <a:ext cx="4762440" cy="4762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4" descr="hyphae"/>
          <p:cNvPicPr/>
          <p:nvPr/>
        </p:nvPicPr>
        <p:blipFill>
          <a:blip r:embed="rId3"/>
          <a:stretch/>
        </p:blipFill>
        <p:spPr>
          <a:xfrm>
            <a:off x="684360" y="1341360"/>
            <a:ext cx="6912000" cy="5411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2" descr="Fungal_hyphae_620"/>
          <p:cNvPicPr/>
          <p:nvPr/>
        </p:nvPicPr>
        <p:blipFill>
          <a:blip r:embed="rId4"/>
          <a:stretch/>
        </p:blipFill>
        <p:spPr>
          <a:xfrm>
            <a:off x="1258920" y="1141560"/>
            <a:ext cx="6480000" cy="5716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8" descr="790px-Edible_Fungi"/>
          <p:cNvPicPr/>
          <p:nvPr/>
        </p:nvPicPr>
        <p:blipFill>
          <a:blip r:embed="rId5"/>
          <a:stretch/>
        </p:blipFill>
        <p:spPr>
          <a:xfrm>
            <a:off x="395280" y="907920"/>
            <a:ext cx="7777080" cy="5899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4" descr=""/>
          <p:cNvPicPr/>
          <p:nvPr/>
        </p:nvPicPr>
        <p:blipFill>
          <a:blip r:embed="rId6"/>
          <a:stretch/>
        </p:blipFill>
        <p:spPr>
          <a:xfrm>
            <a:off x="684360" y="836640"/>
            <a:ext cx="7343640" cy="5973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6" descr="delicious and nutritious? No.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692360" y="907920"/>
            <a:ext cx="5046480" cy="5950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0" descr="baird-purple-fungi-1-large"/>
          <p:cNvPicPr/>
          <p:nvPr/>
        </p:nvPicPr>
        <p:blipFill>
          <a:blip r:embed="rId9"/>
          <a:stretch/>
        </p:blipFill>
        <p:spPr>
          <a:xfrm>
            <a:off x="539640" y="309600"/>
            <a:ext cx="8101080" cy="6548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6" descr="r159235_580502"/>
          <p:cNvPicPr/>
          <p:nvPr/>
        </p:nvPicPr>
        <p:blipFill>
          <a:blip r:embed="rId10"/>
          <a:stretch/>
        </p:blipFill>
        <p:spPr>
          <a:xfrm>
            <a:off x="1979640" y="0"/>
            <a:ext cx="474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enmer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cellig of Meercellig (schimmeldrad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lker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lwan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dgroenkorre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843280" y="335448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2987640" y="393372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4356000" y="450864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Image:S cerevisiae under DIC microscop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220500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yphae"/>
          <p:cNvPicPr/>
          <p:nvPr/>
        </p:nvPicPr>
        <p:blipFill>
          <a:blip r:embed="rId3"/>
          <a:stretch/>
        </p:blipFill>
        <p:spPr>
          <a:xfrm>
            <a:off x="3851280" y="2133720"/>
            <a:ext cx="15112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tpla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91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nopv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g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o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 het uiteinde van schimmeldra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penseelschimm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paddesto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vliegenzw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scanning EM of Candida budding"/>
          <p:cNvPicPr/>
          <p:nvPr/>
        </p:nvPicPr>
        <p:blipFill>
          <a:blip r:embed="rId1"/>
          <a:stretch/>
        </p:blipFill>
        <p:spPr>
          <a:xfrm>
            <a:off x="3348000" y="1413000"/>
            <a:ext cx="2736720" cy="2538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yeast_02"/>
          <p:cNvPicPr/>
          <p:nvPr/>
        </p:nvPicPr>
        <p:blipFill>
          <a:blip r:embed="rId2"/>
          <a:stretch/>
        </p:blipFill>
        <p:spPr>
          <a:xfrm>
            <a:off x="6300720" y="476280"/>
            <a:ext cx="2673360" cy="3456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humicola9"/>
          <p:cNvPicPr/>
          <p:nvPr/>
        </p:nvPicPr>
        <p:blipFill>
          <a:blip r:embed="rId3"/>
          <a:stretch/>
        </p:blipFill>
        <p:spPr>
          <a:xfrm>
            <a:off x="2411280" y="213372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delicious and nutritious? No.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284720" y="4653000"/>
            <a:ext cx="1869840" cy="2205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3"/>
          <p:cNvSpPr/>
          <p:nvPr/>
        </p:nvSpPr>
        <p:spPr>
          <a:xfrm>
            <a:off x="0" y="76500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celli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0" y="306864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rcelli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e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stal dode resten van organis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e opruimers in de natuu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clusief ons eigen voedsel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chimmelen van fruit, brood, groenten en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iekteverwekkende schimm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mmelinfectie: schimmel veroorzaakt een zie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elden Schimmelinfec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wemmersecz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Candida albicans between the toes"/>
          <p:cNvPicPr/>
          <p:nvPr/>
        </p:nvPicPr>
        <p:blipFill>
          <a:blip r:embed="rId1"/>
          <a:stretch/>
        </p:blipFill>
        <p:spPr>
          <a:xfrm>
            <a:off x="5334120" y="4181400"/>
            <a:ext cx="38098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lpende schimm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lpen bij maken van voedingsmiddel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ood (g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er en Wijn (g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immelka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tbare paddesto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"/>
          <p:cNvPicPr/>
          <p:nvPr/>
        </p:nvPicPr>
        <p:blipFill>
          <a:blip r:embed="rId1"/>
          <a:stretch/>
        </p:blipFill>
        <p:spPr>
          <a:xfrm>
            <a:off x="2735280" y="2828880"/>
            <a:ext cx="6408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fun01"/>
          <p:cNvPicPr/>
          <p:nvPr/>
        </p:nvPicPr>
        <p:blipFill>
          <a:blip r:embed="rId1"/>
          <a:stretch/>
        </p:blipFill>
        <p:spPr>
          <a:xfrm>
            <a:off x="1835280" y="170028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2:29:18Z</dcterms:created>
  <dc:creator>IT Servicedesk</dc:creator>
  <dc:description/>
  <dc:language>en-US</dc:language>
  <cp:lastModifiedBy>Joyce Vonk</cp:lastModifiedBy>
  <dcterms:modified xsi:type="dcterms:W3CDTF">2018-09-09T12:20:44Z</dcterms:modified>
  <cp:revision>10</cp:revision>
  <dc:subject/>
  <dc:title>Het rijk van de Bacteriën</dc:title>
</cp:coreProperties>
</file>