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39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53.jpeg" ContentType="image/jpeg"/>
  <Override PartName="/ppt/media/image55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1.png" ContentType="image/png"/>
  <Override PartName="/ppt/media/image33.png" ContentType="image/pn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82E-3DD9-45AC-8542-D756F468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F22-2EF8-409F-9780-E617B350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0B9-9497-4018-B6C1-AA694650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B68-92E9-4293-A172-308542FB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4F9-144F-4B05-BD83-D43B4709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AFD-C331-4BCF-BACD-4AD239D7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1D1-0264-48F2-A003-844EAB00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BD8-996D-42B7-A9FF-0824DF29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B06-E6FC-49D3-A121-466D84E3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017-34FD-496B-8096-CEC93766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41F-C421-4441-8330-FF8B39A5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835-19BA-4078-8ED5-ECE995E4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E404-E12B-4071-B66B-92B4A55BEB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nl.wikipedia.org/wiki/Afbeelding:Brain_coral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ologiepagina.nl/Videobiologie/Ordeningoctopus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biologiepagina.nl/Videobiologie/BBeencelligen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biologiepagina.nl/Videobiologie/Ordeningzeeanemoon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wal-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Indeling van het dierenrij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koraalpoliep2"/>
          <p:cNvPicPr/>
          <p:nvPr/>
        </p:nvPicPr>
        <p:blipFill>
          <a:blip r:embed="rId1"/>
          <a:stretch/>
        </p:blipFill>
        <p:spPr>
          <a:xfrm>
            <a:off x="228600" y="2060640"/>
            <a:ext cx="1936800" cy="1946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514600" y="4014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" y="4005360"/>
            <a:ext cx="19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poli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baksteenanemoon1"/>
          <p:cNvPicPr/>
          <p:nvPr/>
        </p:nvPicPr>
        <p:blipFill>
          <a:blip r:embed="rId2"/>
          <a:stretch/>
        </p:blipFill>
        <p:spPr>
          <a:xfrm>
            <a:off x="4952880" y="2033640"/>
            <a:ext cx="2859120" cy="1893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952880" y="39448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ksteenane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wal"/>
          <p:cNvPicPr/>
          <p:nvPr/>
        </p:nvPicPr>
        <p:blipFill>
          <a:blip r:embed="rId3"/>
          <a:stretch/>
        </p:blipFill>
        <p:spPr>
          <a:xfrm>
            <a:off x="4952880" y="4489560"/>
            <a:ext cx="2355840" cy="1743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952880" y="621648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mushroom-coral"/>
          <p:cNvPicPr/>
          <p:nvPr/>
        </p:nvPicPr>
        <p:blipFill>
          <a:blip r:embed="rId4"/>
          <a:stretch/>
        </p:blipFill>
        <p:spPr>
          <a:xfrm>
            <a:off x="228600" y="4541760"/>
            <a:ext cx="2255760" cy="16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1"/>
          <p:cNvSpPr/>
          <p:nvPr/>
        </p:nvSpPr>
        <p:spPr>
          <a:xfrm>
            <a:off x="228600" y="621504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akt wel uitwendig kalkske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Brain coral (Diploria labyrinthiformis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060640"/>
            <a:ext cx="182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Parasieten-lintworm"/>
          <p:cNvPicPr/>
          <p:nvPr/>
        </p:nvPicPr>
        <p:blipFill>
          <a:blip r:embed="rId1"/>
          <a:stretch/>
        </p:blipFill>
        <p:spPr>
          <a:xfrm>
            <a:off x="468360" y="1700280"/>
            <a:ext cx="1373040" cy="2808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3951360" y="1109520"/>
            <a:ext cx="51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   Pl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mens of d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Taenia lintworm"/>
          <p:cNvPicPr/>
          <p:nvPr/>
        </p:nvPicPr>
        <p:blipFill>
          <a:blip r:embed="rId2"/>
          <a:stretch/>
        </p:blipFill>
        <p:spPr>
          <a:xfrm>
            <a:off x="3708360" y="4724280"/>
            <a:ext cx="1009800" cy="1522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4724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623736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van een 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platworm1"/>
          <p:cNvPicPr/>
          <p:nvPr/>
        </p:nvPicPr>
        <p:blipFill>
          <a:blip r:embed="rId3"/>
          <a:stretch/>
        </p:blipFill>
        <p:spPr>
          <a:xfrm>
            <a:off x="179280" y="5589720"/>
            <a:ext cx="2737080" cy="99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reddy4"/>
          <p:cNvPicPr/>
          <p:nvPr/>
        </p:nvPicPr>
        <p:blipFill>
          <a:blip r:embed="rId4"/>
          <a:stretch/>
        </p:blipFill>
        <p:spPr>
          <a:xfrm>
            <a:off x="6205680" y="3213000"/>
            <a:ext cx="2725560" cy="316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Taenia%20spp"/>
          <p:cNvPicPr/>
          <p:nvPr/>
        </p:nvPicPr>
        <p:blipFill>
          <a:blip r:embed="rId5"/>
          <a:stretch/>
        </p:blipFill>
        <p:spPr>
          <a:xfrm>
            <a:off x="2340000" y="1933560"/>
            <a:ext cx="3816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068720" y="1109520"/>
            <a:ext cx="52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mens of d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6120" y="54849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elworm bij een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poelworm hond"/>
          <p:cNvPicPr/>
          <p:nvPr/>
        </p:nvPicPr>
        <p:blipFill>
          <a:blip r:embed="rId1"/>
          <a:stretch/>
        </p:blipFill>
        <p:spPr>
          <a:xfrm>
            <a:off x="1716120" y="3098880"/>
            <a:ext cx="2852640" cy="2338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spoelworm%20en%20hondje"/>
          <p:cNvPicPr/>
          <p:nvPr/>
        </p:nvPicPr>
        <p:blipFill>
          <a:blip r:embed="rId2"/>
          <a:stretch/>
        </p:blipFill>
        <p:spPr>
          <a:xfrm>
            <a:off x="3419640" y="21337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regenworm"/>
          <p:cNvPicPr/>
          <p:nvPr/>
        </p:nvPicPr>
        <p:blipFill>
          <a:blip r:embed="rId1"/>
          <a:stretch/>
        </p:blipFill>
        <p:spPr>
          <a:xfrm>
            <a:off x="250920" y="2133720"/>
            <a:ext cx="3600360" cy="2706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250920" y="5013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068720" y="110952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Seg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0" descr="regenwormL"/>
          <p:cNvPicPr/>
          <p:nvPr/>
        </p:nvPicPr>
        <p:blipFill>
          <a:blip r:embed="rId2"/>
          <a:stretch/>
        </p:blipFill>
        <p:spPr>
          <a:xfrm>
            <a:off x="2857680" y="5013360"/>
            <a:ext cx="5376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716120" y="5907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film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86318304_5b6a65a9cd"/>
          <p:cNvPicPr/>
          <p:nvPr/>
        </p:nvPicPr>
        <p:blipFill>
          <a:blip r:embed="rId3"/>
          <a:stretch/>
        </p:blipFill>
        <p:spPr>
          <a:xfrm>
            <a:off x="61128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inktvis zeeschuim"/>
          <p:cNvPicPr/>
          <p:nvPr/>
        </p:nvPicPr>
        <p:blipFill>
          <a:blip r:embed="rId4"/>
          <a:stretch/>
        </p:blipFill>
        <p:spPr>
          <a:xfrm>
            <a:off x="6227640" y="1949400"/>
            <a:ext cx="2025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8600" y="3189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Fotex snail"/>
          <p:cNvPicPr/>
          <p:nvPr/>
        </p:nvPicPr>
        <p:blipFill>
          <a:blip r:embed="rId1"/>
          <a:stretch/>
        </p:blipFill>
        <p:spPr>
          <a:xfrm>
            <a:off x="1455840" y="2612880"/>
            <a:ext cx="253512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Oesters"/>
          <p:cNvPicPr/>
          <p:nvPr/>
        </p:nvPicPr>
        <p:blipFill>
          <a:blip r:embed="rId2"/>
          <a:stretch/>
        </p:blipFill>
        <p:spPr>
          <a:xfrm>
            <a:off x="1746360" y="4168800"/>
            <a:ext cx="2206440" cy="2206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28600" y="516240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794120" y="5805360"/>
            <a:ext cx="19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octo"/>
          <p:cNvPicPr/>
          <p:nvPr/>
        </p:nvPicPr>
        <p:blipFill>
          <a:blip r:embed="rId3"/>
          <a:stretch/>
        </p:blipFill>
        <p:spPr>
          <a:xfrm>
            <a:off x="4375080" y="2870280"/>
            <a:ext cx="4400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216320" y="1109520"/>
            <a:ext cx="51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op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 met stekels                   bodem v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z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64000" y="544500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948120" y="2995560"/>
            <a:ext cx="1247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8600" y="518148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zeester"/>
          <p:cNvPicPr/>
          <p:nvPr/>
        </p:nvPicPr>
        <p:blipFill>
          <a:blip r:embed="rId1"/>
          <a:stretch/>
        </p:blipFill>
        <p:spPr>
          <a:xfrm>
            <a:off x="395280" y="2131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120px-Zeeegel3"/>
          <p:cNvPicPr/>
          <p:nvPr/>
        </p:nvPicPr>
        <p:blipFill>
          <a:blip r:embed="rId2"/>
          <a:stretch/>
        </p:blipFill>
        <p:spPr>
          <a:xfrm>
            <a:off x="7236000" y="5589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280px-Woda-3_ubt"/>
          <p:cNvPicPr/>
          <p:nvPr/>
        </p:nvPicPr>
        <p:blipFill>
          <a:blip r:embed="rId3"/>
          <a:stretch/>
        </p:blipFill>
        <p:spPr>
          <a:xfrm>
            <a:off x="4500720" y="2492280"/>
            <a:ext cx="3598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693800" y="2514600"/>
            <a:ext cx="149868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izend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423040" y="2514600"/>
            <a:ext cx="14540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73360" y="2514600"/>
            <a:ext cx="14684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ef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257960" y="2514600"/>
            <a:ext cx="1541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216320" y="1109520"/>
            <a:ext cx="45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 is een pantser van chi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28600" y="25146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693800" y="3691080"/>
            <a:ext cx="67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             10 (of meer)         8                   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28600" y="37018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28600" y="5987880"/>
            <a:ext cx="75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izendpoten: gehele lichaam bestaat uit seg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05808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27212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duizendpoot"/>
          <p:cNvPicPr/>
          <p:nvPr/>
        </p:nvPicPr>
        <p:blipFill>
          <a:blip r:embed="rId1"/>
          <a:stretch/>
        </p:blipFill>
        <p:spPr>
          <a:xfrm>
            <a:off x="1547640" y="4581360"/>
            <a:ext cx="173376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Wespenspin"/>
          <p:cNvPicPr/>
          <p:nvPr/>
        </p:nvPicPr>
        <p:blipFill>
          <a:blip r:embed="rId2"/>
          <a:stretch/>
        </p:blipFill>
        <p:spPr>
          <a:xfrm>
            <a:off x="5675400" y="4581360"/>
            <a:ext cx="1128600" cy="136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Crab"/>
          <p:cNvPicPr/>
          <p:nvPr/>
        </p:nvPicPr>
        <p:blipFill>
          <a:blip r:embed="rId3"/>
          <a:stretch/>
        </p:blipFill>
        <p:spPr>
          <a:xfrm>
            <a:off x="3573360" y="4581360"/>
            <a:ext cx="171936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0" descr="Coccinella"/>
          <p:cNvPicPr/>
          <p:nvPr/>
        </p:nvPicPr>
        <p:blipFill>
          <a:blip r:embed="rId4"/>
          <a:stretch/>
        </p:blipFill>
        <p:spPr>
          <a:xfrm>
            <a:off x="7164360" y="4581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0" descr="vis_skelet"/>
          <p:cNvPicPr/>
          <p:nvPr/>
        </p:nvPicPr>
        <p:blipFill>
          <a:blip r:embed="rId1"/>
          <a:stretch/>
        </p:blipFill>
        <p:spPr>
          <a:xfrm>
            <a:off x="6084720" y="4005360"/>
            <a:ext cx="2916360" cy="2514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187200710748864_middel"/>
          <p:cNvPicPr/>
          <p:nvPr/>
        </p:nvPicPr>
        <p:blipFill>
          <a:blip r:embed="rId2"/>
          <a:stretch/>
        </p:blipFill>
        <p:spPr>
          <a:xfrm>
            <a:off x="1403280" y="5300640"/>
            <a:ext cx="316872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231840" y="321300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1840" y="36910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31840" y="41688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31840" y="464652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31840" y="51246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635280" y="321300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bben met 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3635280" y="36910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3635280" y="4168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6728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3635280" y="512460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3635280" y="464652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3632040" y="3433680"/>
            <a:ext cx="15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3632040" y="4389480"/>
            <a:ext cx="56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st: kieuwen, huid; later: longen,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3632040" y="4867200"/>
            <a:ext cx="35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3632040" y="534528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en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4" descr="boomkikker%25202"/>
          <p:cNvPicPr/>
          <p:nvPr/>
        </p:nvPicPr>
        <p:blipFill>
          <a:blip r:embed="rId1"/>
          <a:stretch/>
        </p:blipFill>
        <p:spPr>
          <a:xfrm>
            <a:off x="6948360" y="4959360"/>
            <a:ext cx="2195640" cy="144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CzechSalamander"/>
          <p:cNvPicPr/>
          <p:nvPr/>
        </p:nvPicPr>
        <p:blipFill>
          <a:blip r:embed="rId2"/>
          <a:stretch/>
        </p:blipFill>
        <p:spPr>
          <a:xfrm>
            <a:off x="5435640" y="5445000"/>
            <a:ext cx="201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mmet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373392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zijd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alsgewijs (rad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hobby-en-overige.infonu.nl/artikel-foto/hobby/382-tekenen-met-kinderen-symmetrie-vouwdruk.jpg"/>
          <p:cNvPicPr/>
          <p:nvPr/>
        </p:nvPicPr>
        <p:blipFill>
          <a:blip r:embed="rId1"/>
          <a:stretch/>
        </p:blipFill>
        <p:spPr>
          <a:xfrm>
            <a:off x="6715080" y="1285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okeefes.org/Barrier_Islands/Sanibel/sanibel_bay_sea_star.jpg"/>
          <p:cNvPicPr/>
          <p:nvPr/>
        </p:nvPicPr>
        <p:blipFill>
          <a:blip r:embed="rId2"/>
          <a:stretch/>
        </p:blipFill>
        <p:spPr>
          <a:xfrm>
            <a:off x="6464160" y="3714840"/>
            <a:ext cx="267984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home.planet.nl/~wal01068/protectit.gif"/>
          <p:cNvPicPr/>
          <p:nvPr/>
        </p:nvPicPr>
        <p:blipFill>
          <a:blip r:embed="rId3"/>
          <a:stretch/>
        </p:blipFill>
        <p:spPr>
          <a:xfrm>
            <a:off x="4500720" y="3500280"/>
            <a:ext cx="146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572880" y="292896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Tweezijdig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577200" y="607212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Straalsgewijs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4646880" y="51436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A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5"/>
          <p:cNvSpPr/>
          <p:nvPr/>
        </p:nvSpPr>
        <p:spPr>
          <a:xfrm>
            <a:off x="7572240" y="1285920"/>
            <a:ext cx="0" cy="15717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9"/>
          <p:cNvSpPr/>
          <p:nvPr/>
        </p:nvSpPr>
        <p:spPr>
          <a:xfrm flipH="1">
            <a:off x="6786360" y="4786200"/>
            <a:ext cx="1928520" cy="2145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 flipH="1">
            <a:off x="7214760" y="4000680"/>
            <a:ext cx="1357560" cy="15714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7357320" y="3714840"/>
            <a:ext cx="78588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6"/>
          <p:cNvSpPr/>
          <p:nvPr/>
        </p:nvSpPr>
        <p:spPr>
          <a:xfrm>
            <a:off x="6858000" y="4429080"/>
            <a:ext cx="1785960" cy="8571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8"/>
          <p:cNvSpPr/>
          <p:nvPr/>
        </p:nvSpPr>
        <p:spPr>
          <a:xfrm flipH="1">
            <a:off x="7643880" y="3857760"/>
            <a:ext cx="28584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31840" y="326556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231840" y="37432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231840" y="42210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231840" y="469908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231840" y="51768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9"/>
          <p:cNvSpPr/>
          <p:nvPr/>
        </p:nvSpPr>
        <p:spPr>
          <a:xfrm>
            <a:off x="3635280" y="326556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chu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0"/>
          <p:cNvSpPr/>
          <p:nvPr/>
        </p:nvSpPr>
        <p:spPr>
          <a:xfrm>
            <a:off x="3635280" y="37432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3635280" y="422100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3635280" y="472428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leerachtige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3635280" y="51768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e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4" descr="crocodile-nil-1"/>
          <p:cNvPicPr/>
          <p:nvPr/>
        </p:nvPicPr>
        <p:blipFill>
          <a:blip r:embed="rId1"/>
          <a:stretch/>
        </p:blipFill>
        <p:spPr>
          <a:xfrm>
            <a:off x="7236000" y="5730840"/>
            <a:ext cx="1908000" cy="1127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6" descr="schildpad"/>
          <p:cNvPicPr/>
          <p:nvPr/>
        </p:nvPicPr>
        <p:blipFill>
          <a:blip r:embed="rId2"/>
          <a:stretch/>
        </p:blipFill>
        <p:spPr>
          <a:xfrm>
            <a:off x="5724360" y="5734080"/>
            <a:ext cx="1513080" cy="1123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8" descr="adder%201"/>
          <p:cNvPicPr/>
          <p:nvPr/>
        </p:nvPicPr>
        <p:blipFill>
          <a:blip r:embed="rId3"/>
          <a:stretch/>
        </p:blipFill>
        <p:spPr>
          <a:xfrm>
            <a:off x="4067280" y="5734080"/>
            <a:ext cx="1657080" cy="1123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chameleon"/>
          <p:cNvPicPr/>
          <p:nvPr/>
        </p:nvPicPr>
        <p:blipFill>
          <a:blip r:embed="rId4"/>
          <a:stretch/>
        </p:blipFill>
        <p:spPr>
          <a:xfrm>
            <a:off x="2484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kalk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3632040" y="5345280"/>
            <a:ext cx="28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 (land en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5" descr="Buizerd"/>
          <p:cNvPicPr/>
          <p:nvPr/>
        </p:nvPicPr>
        <p:blipFill>
          <a:blip r:embed="rId1"/>
          <a:stretch/>
        </p:blipFill>
        <p:spPr>
          <a:xfrm>
            <a:off x="6919920" y="4100400"/>
            <a:ext cx="1913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ndba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3632040" y="534528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of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4286160" y="3019320"/>
            <a:ext cx="571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6" descr="Orang Oetang"/>
          <p:cNvPicPr/>
          <p:nvPr/>
        </p:nvPicPr>
        <p:blipFill>
          <a:blip r:embed="rId1"/>
          <a:stretch/>
        </p:blipFill>
        <p:spPr>
          <a:xfrm>
            <a:off x="7316640" y="3645000"/>
            <a:ext cx="1827360" cy="2584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8" descr="Image002"/>
          <p:cNvPicPr/>
          <p:nvPr/>
        </p:nvPicPr>
        <p:blipFill>
          <a:blip r:embed="rId2"/>
          <a:stretch/>
        </p:blipFill>
        <p:spPr>
          <a:xfrm>
            <a:off x="5508720" y="531648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0" descr="walvis007"/>
          <p:cNvPicPr/>
          <p:nvPr/>
        </p:nvPicPr>
        <p:blipFill>
          <a:blip r:embed="rId3"/>
          <a:stretch/>
        </p:blipFill>
        <p:spPr>
          <a:xfrm>
            <a:off x="5508720" y="4078440"/>
            <a:ext cx="18716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ke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373392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itwendig (pantser, schelp, huis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wendig (schelp, geraa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5686560" y="443880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713720" y="3449520"/>
            <a:ext cx="0" cy="4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76120" y="4773600"/>
            <a:ext cx="1676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13720" y="4791240"/>
            <a:ext cx="21063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809640" y="36766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0964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4191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2416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57625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930400" y="3659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0532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634000" y="111924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cel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bladgroenkorrels               ( dus heterotroof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cellig of veelcel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404120" y="81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761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390920" y="3981600"/>
            <a:ext cx="1981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49680" y="6141960"/>
            <a:ext cx="2109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3559320" y="3683160"/>
            <a:ext cx="0" cy="173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3908520" y="3691080"/>
            <a:ext cx="17280" cy="239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3335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333520" y="4791240"/>
            <a:ext cx="19209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2554200" y="5465880"/>
            <a:ext cx="21780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8183520" y="3700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390920" y="4791240"/>
            <a:ext cx="23623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6480000" y="3981600"/>
            <a:ext cx="2438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276120" y="2981160"/>
            <a:ext cx="17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ierlijkecel.jpg"/>
          <p:cNvPicPr/>
          <p:nvPr/>
        </p:nvPicPr>
        <p:blipFill>
          <a:blip r:embed="rId1"/>
          <a:stretch/>
        </p:blipFill>
        <p:spPr>
          <a:xfrm>
            <a:off x="3000240" y="9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Vorticella.mpg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021040" cy="16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orticella Klokdiertje"/>
          <p:cNvPicPr/>
          <p:nvPr/>
        </p:nvPicPr>
        <p:blipFill>
          <a:blip r:embed="rId2"/>
          <a:stretch/>
        </p:blipFill>
        <p:spPr>
          <a:xfrm>
            <a:off x="2771640" y="2708280"/>
            <a:ext cx="1584360" cy="1670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28600" y="30956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k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8600" y="5410080"/>
            <a:ext cx="26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offel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Pantoffeldiertje"/>
          <p:cNvPicPr/>
          <p:nvPr/>
        </p:nvPicPr>
        <p:blipFill>
          <a:blip r:embed="rId3"/>
          <a:stretch/>
        </p:blipFill>
        <p:spPr>
          <a:xfrm>
            <a:off x="2876400" y="4991040"/>
            <a:ext cx="1838520" cy="1417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cilia1"/>
          <p:cNvPicPr/>
          <p:nvPr/>
        </p:nvPicPr>
        <p:blipFill>
          <a:blip r:embed="rId4"/>
          <a:stretch/>
        </p:blipFill>
        <p:spPr>
          <a:xfrm rot="5400000">
            <a:off x="5178960" y="4766400"/>
            <a:ext cx="1482840" cy="19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ilm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522936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323532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apzi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rypanosomes in blood"/>
          <p:cNvPicPr/>
          <p:nvPr/>
        </p:nvPicPr>
        <p:blipFill>
          <a:blip r:embed="rId1"/>
          <a:stretch/>
        </p:blipFill>
        <p:spPr>
          <a:xfrm>
            <a:off x="6934320" y="2658960"/>
            <a:ext cx="1895400" cy="150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rypanosoom"/>
          <p:cNvPicPr/>
          <p:nvPr/>
        </p:nvPicPr>
        <p:blipFill>
          <a:blip r:embed="rId2"/>
          <a:stretch/>
        </p:blipFill>
        <p:spPr>
          <a:xfrm>
            <a:off x="5038560" y="2612880"/>
            <a:ext cx="1597320" cy="15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setse fly"/>
          <p:cNvPicPr/>
          <p:nvPr/>
        </p:nvPicPr>
        <p:blipFill>
          <a:blip r:embed="rId3"/>
          <a:stretch/>
        </p:blipFill>
        <p:spPr>
          <a:xfrm>
            <a:off x="2514600" y="2603520"/>
            <a:ext cx="2225520" cy="1539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28600" y="5176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400px-Anopheles_albimanus_mosquito"/>
          <p:cNvPicPr/>
          <p:nvPr/>
        </p:nvPicPr>
        <p:blipFill>
          <a:blip r:embed="rId4"/>
          <a:stretch/>
        </p:blipFill>
        <p:spPr>
          <a:xfrm>
            <a:off x="2514600" y="4614840"/>
            <a:ext cx="257796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lasmodium Malaria"/>
          <p:cNvPicPr/>
          <p:nvPr/>
        </p:nvPicPr>
        <p:blipFill>
          <a:blip r:embed="rId5"/>
          <a:stretch/>
        </p:blipFill>
        <p:spPr>
          <a:xfrm>
            <a:off x="5718240" y="4595760"/>
            <a:ext cx="196992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impleSponge"/>
          <p:cNvPicPr/>
          <p:nvPr/>
        </p:nvPicPr>
        <p:blipFill>
          <a:blip r:embed="rId1"/>
          <a:stretch/>
        </p:blipFill>
        <p:spPr>
          <a:xfrm>
            <a:off x="1187280" y="2644920"/>
            <a:ext cx="416880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     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pongebob"/>
          <p:cNvPicPr/>
          <p:nvPr/>
        </p:nvPicPr>
        <p:blipFill>
          <a:blip r:embed="rId2"/>
          <a:stretch/>
        </p:blipFill>
        <p:spPr>
          <a:xfrm>
            <a:off x="6372360" y="3213000"/>
            <a:ext cx="2170080" cy="23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6659640" y="3284640"/>
            <a:ext cx="194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eweispons1"/>
          <p:cNvPicPr/>
          <p:nvPr/>
        </p:nvPicPr>
        <p:blipFill>
          <a:blip r:embed="rId1"/>
          <a:stretch/>
        </p:blipFill>
        <p:spPr>
          <a:xfrm>
            <a:off x="4952880" y="2044800"/>
            <a:ext cx="3148200" cy="21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514600" y="60865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sspons (tr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637080"/>
            <a:ext cx="29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ongia offic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dsp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adspons"/>
          <p:cNvPicPr/>
          <p:nvPr/>
        </p:nvPicPr>
        <p:blipFill>
          <a:blip r:embed="rId2"/>
          <a:stretch/>
        </p:blipFill>
        <p:spPr>
          <a:xfrm>
            <a:off x="228600" y="1833480"/>
            <a:ext cx="2327400" cy="1768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935600" y="430056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eispons (Oosterschel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Buisspons tropen"/>
          <p:cNvPicPr/>
          <p:nvPr/>
        </p:nvPicPr>
        <p:blipFill>
          <a:blip r:embed="rId3"/>
          <a:stretch/>
        </p:blipFill>
        <p:spPr>
          <a:xfrm>
            <a:off x="2050920" y="4167360"/>
            <a:ext cx="2737080" cy="1884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symmetrisch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neteldier_bouw"/>
          <p:cNvPicPr/>
          <p:nvPr/>
        </p:nvPicPr>
        <p:blipFill>
          <a:blip r:embed="rId1"/>
          <a:stretch/>
        </p:blipFill>
        <p:spPr>
          <a:xfrm>
            <a:off x="971640" y="2060640"/>
            <a:ext cx="4392360" cy="456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film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28:16Z</dcterms:created>
  <dc:creator>Jarco Smeenk</dc:creator>
  <dc:description/>
  <dc:language>en-US</dc:language>
  <cp:lastModifiedBy>Jarco Smeenk</cp:lastModifiedBy>
  <dcterms:modified xsi:type="dcterms:W3CDTF">2015-11-16T16:08:07Z</dcterms:modified>
  <cp:revision>22</cp:revision>
  <dc:subject/>
  <dc:title>Dia 1</dc:title>
</cp:coreProperties>
</file>