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5.jpeg" ContentType="image/jpeg"/>
  <Override PartName="/ppt/media/image8.png" ContentType="image/png"/>
  <Override PartName="/ppt/media/image11.jpeg" ContentType="image/jpeg"/>
  <Override PartName="/ppt/media/image13.png" ContentType="image/png"/>
  <Override PartName="/ppt/media/image10.png" ContentType="image/png"/>
  <Override PartName="/ppt/media/image6.jpeg" ContentType="image/jpeg"/>
  <Override PartName="/ppt/media/image12.wmf" ContentType="image/x-wmf"/>
  <Override PartName="/ppt/media/image4.png" ContentType="image/png"/>
  <Override PartName="/ppt/media/image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 id="286" r:id="rId65"/>
    <p:sldId id="287" r:id="rId66"/>
    <p:sldId id="288" r:id="rId67"/>
  </p:sldIdLst>
  <p:sldSz cx="9144000" cy="6858000"/>
  <p:notesSz cx="6796088" cy="9925050"/>
</p:presentation>
</file>

<file path=ppt/commentAuthors.xml><?xml version="1.0" encoding="utf-8"?>
<p:cmAuthorLst xmlns:p="http://schemas.openxmlformats.org/presentationml/2006/main">
  <p:cmAuthor id="0" name="Inge Lantman" initials="I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slide" Target="slides/slide31.xml"/><Relationship Id="rId66" Type="http://schemas.openxmlformats.org/officeDocument/2006/relationships/slide" Target="slides/slide32.xml"/><Relationship Id="rId67" Type="http://schemas.openxmlformats.org/officeDocument/2006/relationships/slide" Target="slides/slide33.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9.xml><?xml version="1.0" encoding="utf-8"?>
<p:cmLst xmlns:p="http://schemas.openxmlformats.org/presentationml/2006/main">
  <p:cm authorId="0" dt="2014-09-08T13:53:19.385000000" idx="1">
    <p:pos x="10" y="10"/>
    <p:text>zou hier bij vermelden dat poly staat voor meerdere en wordt gebruikt voor alles meer dan 2</p:text>
  </p:cm>
</p:cmLst>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7"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0"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1"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17B7-EE24-42AC-AE3A-BCCF9D3D9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917640" y="744480"/>
            <a:ext cx="4962600" cy="3722760"/>
          </a:xfrm>
          <a:prstGeom prst="rect">
            <a:avLst/>
          </a:prstGeom>
          <a:ln w="0">
            <a:noFill/>
          </a:ln>
        </p:spPr>
      </p:sp>
      <p:sp>
        <p:nvSpPr>
          <p:cNvPr id="1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4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E9D7-D849-433C-B05D-258B711B92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2323-B536-4D1D-BBD4-883C5C7E814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0" name="PlaceHolder 1"/>
          <p:cNvSpPr>
            <a:spLocks noGrp="1"/>
          </p:cNvSpPr>
          <p:nvPr>
            <p:ph type="sldImg"/>
          </p:nvPr>
        </p:nvSpPr>
        <p:spPr>
          <a:xfrm>
            <a:off x="917640" y="744480"/>
            <a:ext cx="4962600" cy="3722760"/>
          </a:xfrm>
          <a:prstGeom prst="rect">
            <a:avLst/>
          </a:prstGeom>
          <a:ln w="0">
            <a:noFill/>
          </a:ln>
        </p:spPr>
      </p:sp>
      <p:sp>
        <p:nvSpPr>
          <p:cNvPr id="14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nl-NL" sz="1200" spc="-1" strike="noStrike">
                <a:solidFill>
                  <a:srgbClr val="000000"/>
                </a:solidFill>
                <a:latin typeface="Arial"/>
              </a:rPr>
              <a:t>oolhydraten komen ook voor in hout, watten en katoen in de vorm van cellu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nl-NL" sz="1200" spc="-1" strike="noStrike">
                <a:solidFill>
                  <a:srgbClr val="000000"/>
                </a:solidFill>
                <a:latin typeface="Arial"/>
              </a:rPr>
              <a:t>et plaatje is een weergave van de chemische verbinding van lactose, let op de CH verbinding wat staat voor Kool (C) hydraat (H) zijn benaming geef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4521-A342-44A9-8565-099AF949C4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917640" y="744480"/>
            <a:ext cx="4962600" cy="3722760"/>
          </a:xfrm>
          <a:prstGeom prst="rect">
            <a:avLst/>
          </a:prstGeom>
          <a:ln w="0">
            <a:noFill/>
          </a:ln>
        </p:spPr>
      </p:sp>
      <p:sp>
        <p:nvSpPr>
          <p:cNvPr id="1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1205-4B0D-4407-95CE-D0E8B1C8CD7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6" name="PlaceHolder 1"/>
          <p:cNvSpPr>
            <a:spLocks noGrp="1"/>
          </p:cNvSpPr>
          <p:nvPr>
            <p:ph type="sldImg"/>
          </p:nvPr>
        </p:nvSpPr>
        <p:spPr>
          <a:xfrm>
            <a:off x="917640" y="744480"/>
            <a:ext cx="4962600" cy="3722760"/>
          </a:xfrm>
          <a:prstGeom prst="rect">
            <a:avLst/>
          </a:prstGeom>
          <a:ln w="0">
            <a:noFill/>
          </a:ln>
        </p:spPr>
      </p:sp>
      <p:sp>
        <p:nvSpPr>
          <p:cNvPr id="14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Arial"/>
              </a:rPr>
              <a:t>Koolhydraten worden door de spijsvertering en stofwisseling afgebroken en opgeslagen als glycogeen. Bij behoefte aan energie – bijvoorbeeld tijdens hoge lichamelijke inspanning – wordt glycogeen afgebroken tot talloze glucose-eenheden. </a:t>
            </a:r>
            <a:r>
              <a:rPr b="1" lang="nl-NL" sz="1200" spc="-1" strike="noStrike">
                <a:solidFill>
                  <a:srgbClr val="ff0000"/>
                </a:solidFill>
                <a:latin typeface="Arial"/>
              </a:rPr>
              <a:t>Bij een overmaat aan energie (koolhydraten) wordt glycogeen juist opgebouwd uit glucose-eenheden en opgeslagen als energierese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751F-C852-47BA-B375-4CD26A86DE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9" name="PlaceHolder 1"/>
          <p:cNvSpPr>
            <a:spLocks noGrp="1"/>
          </p:cNvSpPr>
          <p:nvPr>
            <p:ph type="sldImg"/>
          </p:nvPr>
        </p:nvSpPr>
        <p:spPr>
          <a:xfrm>
            <a:off x="917640" y="744480"/>
            <a:ext cx="4962600" cy="3722760"/>
          </a:xfrm>
          <a:prstGeom prst="rect">
            <a:avLst/>
          </a:prstGeom>
          <a:ln w="0">
            <a:noFill/>
          </a:ln>
        </p:spPr>
      </p:sp>
      <p:sp>
        <p:nvSpPr>
          <p:cNvPr id="1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917640" y="744480"/>
            <a:ext cx="4962600" cy="3722760"/>
          </a:xfrm>
          <a:prstGeom prst="rect">
            <a:avLst/>
          </a:prstGeom>
          <a:ln w="0">
            <a:noFill/>
          </a:ln>
        </p:spPr>
      </p:sp>
      <p:sp>
        <p:nvSpPr>
          <p:cNvPr id="1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8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FE29-616E-422C-8AD5-D3F306DB51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8A27-CD6E-4630-940D-FE5B4091ECD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5" name="PlaceHolder 1"/>
          <p:cNvSpPr>
            <a:spLocks noGrp="1"/>
          </p:cNvSpPr>
          <p:nvPr>
            <p:ph type="sldImg"/>
          </p:nvPr>
        </p:nvSpPr>
        <p:spPr>
          <a:xfrm>
            <a:off x="917640" y="744480"/>
            <a:ext cx="4962600" cy="3722760"/>
          </a:xfrm>
          <a:prstGeom prst="rect">
            <a:avLst/>
          </a:prstGeom>
          <a:ln w="0">
            <a:noFill/>
          </a:ln>
        </p:spPr>
      </p:sp>
      <p:sp>
        <p:nvSpPr>
          <p:cNvPr id="1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4D70-58A0-4274-A087-E273D629E7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8" name="PlaceHolder 1"/>
          <p:cNvSpPr>
            <a:spLocks noGrp="1"/>
          </p:cNvSpPr>
          <p:nvPr>
            <p:ph type="sldImg"/>
          </p:nvPr>
        </p:nvSpPr>
        <p:spPr>
          <a:xfrm>
            <a:off x="917640" y="744480"/>
            <a:ext cx="4962600" cy="3722760"/>
          </a:xfrm>
          <a:prstGeom prst="rect">
            <a:avLst/>
          </a:prstGeom>
          <a:ln w="0">
            <a:noFill/>
          </a:ln>
        </p:spPr>
      </p:sp>
      <p:sp>
        <p:nvSpPr>
          <p:cNvPr id="14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0A50-8BF4-4BCB-BE17-7597C26250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86E2-BCA2-43D7-A6D9-4B07934A5BFB}" type="slidenum">
              <a:rPr b="0" lang="nl-NL"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917640" y="744480"/>
            <a:ext cx="4962600" cy="3722760"/>
          </a:xfrm>
          <a:prstGeom prst="rect">
            <a:avLst/>
          </a:prstGeom>
          <a:ln w="0">
            <a:noFill/>
          </a:ln>
        </p:spPr>
      </p:sp>
      <p:sp>
        <p:nvSpPr>
          <p:cNvPr id="1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FA39-AF03-4F55-A507-EBFBFE7B41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917640" y="744480"/>
            <a:ext cx="4962600" cy="3722760"/>
          </a:xfrm>
          <a:prstGeom prst="rect">
            <a:avLst/>
          </a:prstGeom>
          <a:ln w="0">
            <a:noFill/>
          </a:ln>
        </p:spPr>
      </p:sp>
      <p:sp>
        <p:nvSpPr>
          <p:cNvPr id="1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AC7A-3D9B-4C32-8489-07DBC4D6D5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917640" y="744480"/>
            <a:ext cx="4962600" cy="3722760"/>
          </a:xfrm>
          <a:prstGeom prst="rect">
            <a:avLst/>
          </a:prstGeom>
          <a:ln w="0">
            <a:noFill/>
          </a:ln>
        </p:spPr>
      </p:sp>
      <p:sp>
        <p:nvSpPr>
          <p:cNvPr id="14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Eiwitten</a:t>
            </a:r>
            <a:r>
              <a:rPr b="0" lang="nl-NL" sz="1200" spc="-1" strike="noStrike">
                <a:solidFill>
                  <a:srgbClr val="000000"/>
                </a:solidFill>
                <a:latin typeface="Arial"/>
              </a:rPr>
              <a:t> of </a:t>
            </a:r>
            <a:r>
              <a:rPr b="1" lang="nl-NL" sz="1200" spc="-1" strike="noStrike">
                <a:solidFill>
                  <a:srgbClr val="000000"/>
                </a:solidFill>
                <a:latin typeface="Arial"/>
              </a:rPr>
              <a:t>proteïnen</a:t>
            </a:r>
            <a:r>
              <a:rPr b="0" lang="nl-NL" sz="1200" spc="-1" strike="noStrike">
                <a:solidFill>
                  <a:srgbClr val="000000"/>
                </a:solidFill>
                <a:latin typeface="Arial"/>
              </a:rPr>
              <a:t> vormen een grote klasse van biologische moleculen, die bestaan uit polymere ketens van aminozuren. De aminozuren in deze ketens zijn verbonden door peptidebindingen. Polypeptiden bestaan uit een lange keten van aminozuren die met elkaar verbonden zijn. Pas wanneer polypeptiden nog eens ruimtelijk opgevouwen worden door interacties tussen de atomen van de aminozuren, spreekt men van een proteï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ganismen produceren eiwitten met verschillende functies, zoals bouwstoffen, enzymen, afweerstoffen. Voor organismen zijn eiwitten in hun voedsel essentieel. Eiwitten zitten in hogere concentraties onder andere in peulvruchten, vleeswaren, gevogelte, eieren, vis, zuivelproducten en not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917640" y="744480"/>
            <a:ext cx="4962600" cy="3722760"/>
          </a:xfrm>
          <a:prstGeom prst="rect">
            <a:avLst/>
          </a:prstGeom>
          <a:ln w="0">
            <a:noFill/>
          </a:ln>
        </p:spPr>
      </p:sp>
      <p:sp>
        <p:nvSpPr>
          <p:cNvPr id="1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2BDF-AEB2-4A2F-9A5B-5A480EEFA2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1682-15CE-46D9-A936-5C728DF6849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917640" y="744480"/>
            <a:ext cx="4962600" cy="3722760"/>
          </a:xfrm>
          <a:prstGeom prst="rect">
            <a:avLst/>
          </a:prstGeom>
          <a:ln w="0">
            <a:noFill/>
          </a:ln>
        </p:spPr>
      </p:sp>
      <p:sp>
        <p:nvSpPr>
          <p:cNvPr id="1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00B8-A6D4-4795-80D1-494B259D8D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8814-9BCD-4447-A9C2-04AAC9D4DDA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917640" y="744480"/>
            <a:ext cx="4962600" cy="3722760"/>
          </a:xfrm>
          <a:prstGeom prst="rect">
            <a:avLst/>
          </a:prstGeom>
          <a:ln w="0">
            <a:noFill/>
          </a:ln>
        </p:spPr>
      </p:sp>
      <p:sp>
        <p:nvSpPr>
          <p:cNvPr id="1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AB04-58E1-4291-887D-83CFF400A9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917640" y="744480"/>
            <a:ext cx="4962600" cy="3722760"/>
          </a:xfrm>
          <a:prstGeom prst="rect">
            <a:avLst/>
          </a:prstGeom>
          <a:ln w="0">
            <a:noFill/>
          </a:ln>
        </p:spPr>
      </p:sp>
      <p:sp>
        <p:nvSpPr>
          <p:cNvPr id="15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nl-NL" sz="1200" spc="-1" strike="noStrike">
                <a:solidFill>
                  <a:srgbClr val="000000"/>
                </a:solidFill>
                <a:latin typeface="Arial"/>
              </a:rPr>
              <a:t>erwijs naar de kaartjes eiw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661D-595A-44D4-A6F3-6EA8D4C903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917640" y="744480"/>
            <a:ext cx="4962600" cy="3722760"/>
          </a:xfrm>
          <a:prstGeom prst="rect">
            <a:avLst/>
          </a:prstGeom>
          <a:ln w="0">
            <a:noFill/>
          </a:ln>
        </p:spPr>
      </p:sp>
      <p:sp>
        <p:nvSpPr>
          <p:cNvPr id="1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F520-6DAE-4EF3-8016-10337AD372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CEAF-9A2F-498D-8229-05EDA97258F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917640" y="744480"/>
            <a:ext cx="4962600" cy="3722760"/>
          </a:xfrm>
          <a:prstGeom prst="rect">
            <a:avLst/>
          </a:prstGeom>
          <a:ln w="0">
            <a:noFill/>
          </a:ln>
        </p:spPr>
      </p:sp>
      <p:sp>
        <p:nvSpPr>
          <p:cNvPr id="1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917640" y="744480"/>
            <a:ext cx="4962600" cy="3722760"/>
          </a:xfrm>
          <a:prstGeom prst="rect">
            <a:avLst/>
          </a:prstGeom>
          <a:ln w="0">
            <a:noFill/>
          </a:ln>
        </p:spPr>
      </p:sp>
      <p:sp>
        <p:nvSpPr>
          <p:cNvPr id="15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FADB-85E9-4D41-8A2A-DAF04360A02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917640" y="744480"/>
            <a:ext cx="4962600" cy="3722760"/>
          </a:xfrm>
          <a:prstGeom prst="rect">
            <a:avLst/>
          </a:prstGeom>
          <a:ln w="0">
            <a:noFill/>
          </a:ln>
        </p:spPr>
      </p:sp>
      <p:sp>
        <p:nvSpPr>
          <p:cNvPr id="15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4880-40BE-49A8-8E77-63BB76196D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917640" y="744480"/>
            <a:ext cx="4962600" cy="3722760"/>
          </a:xfrm>
          <a:prstGeom prst="rect">
            <a:avLst/>
          </a:prstGeom>
          <a:ln w="0">
            <a:noFill/>
          </a:ln>
        </p:spPr>
      </p:sp>
      <p:sp>
        <p:nvSpPr>
          <p:cNvPr id="1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731C-7D50-4F3A-A376-FC654710987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917640" y="744480"/>
            <a:ext cx="4962600" cy="3722760"/>
          </a:xfrm>
          <a:prstGeom prst="rect">
            <a:avLst/>
          </a:prstGeom>
          <a:ln w="0">
            <a:noFill/>
          </a:ln>
        </p:spPr>
      </p:sp>
      <p:sp>
        <p:nvSpPr>
          <p:cNvPr id="1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1FB8-A1C6-4372-B3FC-A02F5C703C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0DF6-CBAB-4107-B57E-AF0F059B0A1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917640" y="744480"/>
            <a:ext cx="4962600" cy="3722760"/>
          </a:xfrm>
          <a:prstGeom prst="rect">
            <a:avLst/>
          </a:prstGeom>
          <a:ln w="0">
            <a:noFill/>
          </a:ln>
        </p:spPr>
      </p:sp>
      <p:sp>
        <p:nvSpPr>
          <p:cNvPr id="15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F7A8-897C-452C-B857-E5B4B4255D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917640" y="744480"/>
            <a:ext cx="4962600" cy="3722760"/>
          </a:xfrm>
          <a:prstGeom prst="rect">
            <a:avLst/>
          </a:prstGeom>
          <a:ln w="0">
            <a:noFill/>
          </a:ln>
        </p:spPr>
      </p:sp>
      <p:sp>
        <p:nvSpPr>
          <p:cNvPr id="15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84AD-A425-493B-8595-2291B97BF5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917640" y="744480"/>
            <a:ext cx="4962600" cy="3722760"/>
          </a:xfrm>
          <a:prstGeom prst="rect">
            <a:avLst/>
          </a:prstGeom>
          <a:ln w="0">
            <a:noFill/>
          </a:ln>
        </p:spPr>
      </p:sp>
      <p:sp>
        <p:nvSpPr>
          <p:cNvPr id="15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53FB-FB74-4AA3-8941-1961775774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917640" y="744480"/>
            <a:ext cx="4962600" cy="3722760"/>
          </a:xfrm>
          <a:prstGeom prst="rect">
            <a:avLst/>
          </a:prstGeom>
          <a:ln w="0">
            <a:noFill/>
          </a:ln>
        </p:spPr>
      </p:sp>
      <p:sp>
        <p:nvSpPr>
          <p:cNvPr id="1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Een voorbeeld van een s</a:t>
            </a:r>
            <a:r>
              <a:rPr b="0" lang="nl-NL" sz="1200" spc="-1" strike="noStrike">
                <a:solidFill>
                  <a:srgbClr val="ff0000"/>
                </a:solidFill>
                <a:latin typeface="Verdana"/>
              </a:rPr>
              <a:t>tof die voornamelijk buiten de spijsvertering om ons lichaam binnenkomt is vitamine D. Zonlicht stimuleert aanmaak van vitamine D in de huid. (voorkomt rachitis en stimuleert tevens pigment aanmaa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917640" y="744480"/>
            <a:ext cx="4962600" cy="3722760"/>
          </a:xfrm>
          <a:prstGeom prst="rect">
            <a:avLst/>
          </a:prstGeom>
          <a:ln w="0">
            <a:noFill/>
          </a:ln>
        </p:spPr>
      </p:sp>
      <p:sp>
        <p:nvSpPr>
          <p:cNvPr id="1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81FC-D901-4E21-8820-D109A4041A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564B-E7CD-4A76-BD23-F8B5D7B485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917640" y="744480"/>
            <a:ext cx="4962600" cy="3722760"/>
          </a:xfrm>
          <a:prstGeom prst="rect">
            <a:avLst/>
          </a:prstGeom>
          <a:ln w="0">
            <a:noFill/>
          </a:ln>
        </p:spPr>
      </p:sp>
      <p:sp>
        <p:nvSpPr>
          <p:cNvPr id="1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4F23-8665-4A38-A3AB-4B48CFB9FB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4" name="PlaceHolder 1"/>
          <p:cNvSpPr>
            <a:spLocks noGrp="1"/>
          </p:cNvSpPr>
          <p:nvPr>
            <p:ph type="sldImg"/>
          </p:nvPr>
        </p:nvSpPr>
        <p:spPr>
          <a:xfrm>
            <a:off x="917640" y="744480"/>
            <a:ext cx="4962600" cy="3722760"/>
          </a:xfrm>
          <a:prstGeom prst="rect">
            <a:avLst/>
          </a:prstGeom>
          <a:ln w="0">
            <a:noFill/>
          </a:ln>
        </p:spPr>
      </p:sp>
      <p:sp>
        <p:nvSpPr>
          <p:cNvPr id="14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17640" y="744480"/>
            <a:ext cx="4962600" cy="3722760"/>
          </a:xfrm>
          <a:prstGeom prst="rect">
            <a:avLst/>
          </a:prstGeom>
          <a:ln w="0">
            <a:noFill/>
          </a:ln>
        </p:spPr>
      </p:sp>
      <p:sp>
        <p:nvSpPr>
          <p:cNvPr id="14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agen of iemands ouders ooit hebben verteld dat witbrood minder gezond is dan bruinbrood, dat komt omdat witbrood. In witbrood zitten veel minder vez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zels zorgen ervoor dat je darmen beter werken. Hierdoor krijg je een betere stoel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oolhydraten in het lichaam</a:t>
            </a:r>
            <a:r>
              <a:rPr b="0" lang="nl-NL" sz="1200" spc="-1" strike="noStrike">
                <a:solidFill>
                  <a:srgbClr val="000000"/>
                </a:solidFill>
                <a:latin typeface="Arial"/>
              </a:rPr>
              <a:t> De weg die koolhydraten in het lichaam afleggen ziet er als volgt uit: je eet bijvoorbeeld een snee brood waarin koolhydraten in de vorm van zetmeel aanwezig zijn. Zetmeel kun je qua structuur het beste vergelijken met een lange ketting van ‘suikerkralen’. Dit zetmeel belandt in de maag en komt later in de twaalfvingerige darm en de dunne darm terecht. Deze organen verteren het voedsel. Dat wil zeggen dat de ketting van suikerkralen in stukjes wordt gehakt. Op deze manier wordt het zetmeel ontleed. Uit de ketting zetmeel ontstaan de losse suikerkraaltjes (monosacchariden). Deze suiker wordt aan het bloed afgegeven en heet dan bloedsuiker. De bloedsuikerspiegel stijgt, waardoor het hormoon insuline vanuit de alvleesklier wordt afgegeven. Met de hulp van het hormoon insuline komt de bloedsuiker in de spiercellen terecht.</a:t>
            </a:r>
            <a:endParaRPr b="0" lang="en-US" sz="1200" spc="-1" strike="noStrike">
              <a:solidFill>
                <a:srgbClr val="000000"/>
              </a:solidFill>
              <a:latin typeface="Arial"/>
            </a:endParaRPr>
          </a:p>
        </p:txBody>
      </p:sp>
      <p:sp>
        <p:nvSpPr>
          <p:cNvPr id="146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5130-514A-481A-8FB8-2720EDDDBB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E7548-A311-449E-BD8B-2815443CEC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B25D405-47C3-4B30-8FD9-7D39D65E865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F922164-CA42-4530-A920-CC205886CC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16D43EE-02A5-482F-B55D-A0C17D09C2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815CC2FC-EEEA-486B-85CE-321A1415F9C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F639FEE4-F728-49DA-97EC-1D33448AF92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CBC67F6C-627D-4468-AFC9-BD5D168479F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D3468ABC-9FF3-4D14-AA02-23D81D1115B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7E914242-9218-45A4-A27E-543F9C88F7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9608A88B-4CD1-4275-ADCC-76A17497DCF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AC58661-C75E-4603-AADE-50B19A21DC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991FF08-C84A-4D12-96A2-4AD75E0A38D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A2340748-F31C-4409-ABC1-95DF1D5BF90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7B6F6C38-D38C-4D98-82D0-6BB367F2F6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709E423-6CC1-46CA-AD05-FCE8A158FC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C719DD9A-30A5-4A60-BF79-0984D7F9768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F411A6C-AB5C-47B1-B65D-ED823FB4A05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5690E7CC-EFDC-46DE-9DB2-3E20CEF42D7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D07A1FCD-F28C-4DF8-89FE-B89814AE9C2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1991061F-259C-41DE-8EA7-9B73A9147DB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A1B8DD9E-005C-44BA-9FC7-8FC0AC352AB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43974B9D-86A9-479A-85AD-907128159E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9490615-80FB-487A-B1EC-D913864F73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9A4702CB-0277-46C1-9C24-199FFFC500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AE9A193-326B-497E-AF9E-C5233C98E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A91787-1BE2-43B8-9601-30D5DC67544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FA4EBDFB-7078-4B95-862F-A6E0D1FB4F6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DC1F2EE1-6895-4372-939A-73C1FB2EFE9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24EE032E-CB11-4A10-99E8-333D60B25AA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7A5449A-9BFA-4F1C-A7D8-67C4962B64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CDCA6F55-3748-4C33-86C7-782C17F496D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CEA06FC9-5D60-48F7-A36F-028E994089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69110AFB-AEF1-496C-879A-30A1A70E00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ABC108C3-D717-461C-80F9-9B8BBDA459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B334DDB5-E1CD-47EC-915D-9B4C89381FD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3E66B3E-ADEE-489B-98CD-BE76067B11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2CD9F7D-9A38-414E-9F53-29B3F1B9913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9D09CD7-BE85-480A-B152-F81237D498D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29EF413-8C1A-4209-98DC-6B794659E33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E05F4702-03EA-4BCD-B7E9-1DB28CD747B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81F6CC84-BAE6-4D48-ACB0-B265FDBA55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A65C2A37-3C1A-4C43-A902-2FE136EEB0C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87DADC7-219A-40FE-A5AE-493A78CC770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9561830-624C-4211-BE6A-9AF94D19B4D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47FA462-6F48-4032-A6B0-8F149D718B0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3B3B8B0-578E-49F0-AC5D-4C8D1904775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3565E9CD-8218-48C7-84EC-A51950EB95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72E503-9590-46DE-828C-DACE1538420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8015B682-E87A-44FA-8E7D-91EB3421944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8167CB8-49C6-4FF4-9AAE-44D2EF4E7FD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142E497-ACB0-49C0-BA1B-CA2AE1E8DA0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4ECE552-EC5F-4A4D-B940-A59685D9F30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B46CDC6-5A28-4A80-8924-00B6DAF1616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D968C9F-C3BB-4E3A-8922-DDCD634A81F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B633F935-E1D0-42C6-A66F-A5CC1268044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0D8B365-3D28-4822-8323-72A8DD0127E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50896D4-627E-4961-8E3D-89FA0A59780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0FAC12E-F27E-4975-A6ED-BC36610412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660F02-DA2E-41BB-A053-A95D1DD8159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6A23AAD-31D4-4430-84F1-DD93B9EFEB0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8D2A02E-7914-46ED-A077-4D047DF2972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E6C148EC-A9D9-401C-B363-28FCE9F8F61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9B41836-A538-4734-8467-817F9C6A4E5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1C5A548-3A33-4CEB-99AC-4D9F4640449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3DCFA7C-D614-43E9-B949-20E0ED4F7E2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A9E070D-1893-491F-8982-6B52A999D39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73990B9-F83A-4E97-9074-80C10204605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528134B-ECAF-4F2E-AFB5-3E57F6C7A02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E9AE2FC-CCFF-4E39-9B2E-E8A92DAB92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4A45862-C669-4F2B-8741-D5AED882EF7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55D28E91-306E-42C4-BA95-752EE4F5228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A0B5C6BA-7CFE-4902-91CE-23E0B6CE4F9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573B5B57-2987-4069-8DE2-4F36FC33D89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398B5726-B12C-4372-870D-D36B73EE2B9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68369119-970E-4C72-A75D-D4F578EBE0C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AC93B5A4-1FE0-41AD-B37B-23A2C2CB587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E6ECE0EC-D1A8-4424-A974-AAB3A0391B5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FCED5611-1D46-455E-B57E-0C3EBC12DA5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23BBA88B-BE0F-419E-866C-0F95CF1F24C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2AF4CAAE-6FA9-4AB7-88D2-20BD3F753E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DDB44C6-B09D-4098-9FEE-AB5F35D0A41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EE5069BE-F66C-41E5-AF67-75FF6B494A6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B624D17-2FB2-4834-BE83-8117B395A90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07D62095-69FF-48BA-9741-5E11A43DA4A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FFF6C08-E00C-4BCB-9B18-8E09F4866E9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C93CB85D-86F7-4835-BD1D-B3B87D34A31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F878DCFA-3BB7-4DE5-8AF8-9D4C0E63286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BCB9D825-4B90-4EE7-A195-9034D7F97F8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15079B2-6739-4819-B8FF-0C931DD7108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4F34B202-8932-499D-A03D-BFB5CA2203F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4F02274F-A943-4550-A632-74261F5076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FDF640-0B40-45FF-A9BC-9C88AD2FC1A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B28DBC2-8AF7-4E04-A0C9-2133166DBAE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578A86E0-CCE9-45D5-924B-52C5CC8F8BF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6F70EBB5-3D8C-40DF-BE3D-52C8FE517D7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A70A2F1-A00D-4B4A-984A-299B54DB23C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21B488DA-685F-4109-AE2E-67455064B00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2B8D3F4A-7ABF-449E-AC09-0DB4C6105A8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DCE43E85-B2B8-4A6D-88EF-68F04520077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AFD8C7EF-5D3E-4949-B899-8E03698805D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CA5837AE-6FFC-476B-8ADD-A5AEA81E9B8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4C5D3449-07FA-4758-9D0F-C4B53DF78F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0629DCC-D63B-46CA-B67B-4F82A108F6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B7B058-3726-49B3-BF25-4F6B486D5DC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97B62BEA-6CBE-49E3-8B63-0747ED36FB7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CC481FBC-62E4-4B2E-A197-40F7E4767A1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6D65C905-DE2B-438F-9799-769821384CF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C3430E9B-D986-4007-97B1-5C8FBAD4DE4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9FC35F3B-C606-48C5-90B0-B6C305DD233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4132920-4334-48F6-BDB1-BC71FBA5F0C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2ADACAC-2E50-4B82-9C09-0A6C8311594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EBEC246-3854-4E18-BB0B-8516AB51EA5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9FDABCF-5949-4A9C-9B2B-DB0888B89F8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DB40E44A-E7B2-486D-A46E-AAC084C9C7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7D651F-E1D5-435D-BBEA-6C385213F1E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1A936AE-BE0B-4FF0-9486-85ADA9E68B9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BE6420E-F36E-403C-A688-A839A4FEADD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AA8E3FC-7D3F-4F91-AE27-23A4EC7B2C1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12995F0-938C-41A0-AFC6-B91BC5CBBD7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012DE74-88B8-4BFE-B915-4CCA011E672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3BB96DC3-462A-4620-B036-57290739B9E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2968296F-37CB-4457-9AF7-D088E25D418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F23C24F-57EE-4036-BB0E-B2DB23F6BD5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EF1B4CAA-78F9-4A5E-AE41-6E89AB678DC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67CF7BFD-2EF2-4BF6-A9B8-AA733FEB8C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9377278-9D57-49E6-B219-E20C8F8211A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804174F3-5879-4563-83A1-52883358994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33074025-8C4F-4B5E-9AF0-3658D8BAF70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310541DD-28C9-4782-955F-39BC218C81A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847747C5-4D3D-4884-9698-A3FFC816707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AF3FCC27-2909-4454-A197-BDBE1846B9D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D1BB0F03-6FE0-4CDE-B24C-6A2CF5920EA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90C3CE74-3DDA-4D3E-8B00-BD8C3595E2D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06576603-03BD-4955-9CFC-DAC05F66BD1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A47D2C8C-2265-40BF-BC75-0A9E20E9271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20F764D-96C3-4806-A0B9-90E3BC8003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EE9D60B-B2F1-4139-A07B-73BFFA9C401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D883CB9C-EC10-48FE-8B80-EE500C7C1CB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75D9181D-12B7-420B-A308-1A81BE4A2AA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5462EDA-81E9-496C-8EEC-7F9A0072337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933BB5A8-AE72-40D8-9F01-2937E0E24F1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29B2DE6B-AE76-4D2B-98C3-F3504852871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DC721E9-925A-434C-AA6C-0E2A0843FF3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2A8E1CE4-DC42-4DF9-B9AC-C780765671D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5B0FA75E-204C-4A21-A331-E1856842597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B66FB1C3-2811-4156-8181-E89F52EE051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301C6E0F-8AFC-4A26-9A44-1E8F5547CE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DF6398F-7560-4D5C-8584-79CB13CB49E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61F7E393-0935-4176-B12A-D42D0D0B59D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7B55F89-0E9D-43D6-920F-EC21AF9ADE4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35F696E-6125-486A-ADC4-D7244FE0A05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A43A4B6-16C0-409C-8297-CD6EE91EB0D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2EACE6B-354E-4C5B-B495-3859D8982D6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E4D3920-3C87-470D-ABF9-3253ED5E4FE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91DD42D-6951-426E-BD7F-B32A0454191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8B32A7D-1A81-434F-ACA3-8E44C09D764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DEAE0B9-879F-4222-968D-20AB5190864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5351346-0D45-4149-A9EA-60C03AF1208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039936-E98F-44C0-9AF5-6323F5F54F8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CECCA4A-14FE-4EC8-9836-DFB3A192E4E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B6FD6D4-6125-4654-9C56-085174A6F45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D7277FB-9E06-4E04-9FF3-7CDEC618174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B64AB94-3B6F-40A8-8A87-1A293CDB6BB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0D79E7B-856D-4EC6-AF2A-8516096F528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7965F18-2388-47D0-ABCE-68014BB46D4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1AD3E2D-4368-4E6B-8B5E-9D69B1C565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D679FA4-B8B1-4B74-9291-8D61BA64DF2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67F312D-0D00-45A0-99FE-6B10C11FB9A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2FFC32A-97E8-4DA7-9584-B2357A7171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EF83A7-845C-4258-BD16-BA322CE52DE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A2A6C0D-8939-44CE-BD8A-4A4BBF5639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68C8336-5F2C-4554-90E7-C01E496662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3235193-B6F6-426F-AE0E-4C1781C894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79F68CE-46B8-4429-8C4E-3B202008E28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5F8EFB1-11FB-4D0A-9F4C-8C939222C83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47028F6-C7A6-4B74-8B6E-37A31521FA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1899965-0E9B-4DD3-9A40-F7E2C03624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9CB057A-B53B-489F-B81C-0F83647858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3A2F202-4688-4494-AB3A-E3BB37656D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8C33376-DFE5-4CBA-910A-439333AB8A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8729E13-28CC-4F7B-9D92-A4EFA303C00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A306FAC-A7A0-4A7C-9A42-C84065759E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C8B5FAD-6722-47E2-9A1D-12F3490074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61926A3-81B0-493A-933B-3B55490B5A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452A349-6018-4D0E-8AE3-8B33AEAA1C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260CFCE-A763-4801-8149-F72C738A0D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1F04433-7E11-475D-8158-E5C3D98010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8B0388E-F2F5-4EE1-8521-3D01DF1970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2275570-F8F1-4A58-919C-E70021B7E8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24899FD-7F1B-4ECD-8125-E8CFEE4D84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E708A5C-CE42-4FAF-B941-C87B40A95B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5F3E4FF-526B-40E4-9B16-BB73B4D1842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25F14DF-6723-49A4-9412-B26D19502E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4377E9A-AA49-440A-BFC2-0C985E326D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8FFDE47-2850-4CE4-9CBE-4C987C2EA1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4A527AD-2004-4F21-B35E-A3157E532E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0F2FDB2-FC3B-4125-AE84-A840F33A8F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5A61BA4-EBE7-42D4-84F0-952FA04F99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CBE573D-6AE8-4F74-A138-B7308B4925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6D59261-F7CA-48DF-A1C2-5EC45F6336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AB539E0-11B1-43B0-B85D-1D3A5F20FE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7C93CFA-96F9-4286-AFC2-DC64A7687A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95A3B17D-EBB7-4713-8865-411BA770E5B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E373C64-E088-4846-A300-7C50F25AF5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AF75630-3C1A-4E70-9AC7-A66C2A1708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A44F26F-ACEB-445B-AAAE-1CDF586687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DFDD043-1E7C-4658-B9C9-B964E7400C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622350F-3E0B-4CA9-B366-0C3B1285F8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269767C-BB99-437B-9B7B-0B4FFBEB7C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7C84755-BEAE-4A84-A289-CD1DB9109C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D23EC29-BB89-462C-9AF7-1C9D856674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4239399-ABE8-4D72-90FD-AE89483922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FA9FDCD-C6AF-4CD0-A971-94BA5BB41B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CE2B25A-EFDA-422D-B682-84FBA327D9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82C336C-B0E5-4DFA-A3A6-6EDB30E291A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09C12CC-FF5B-4A08-967D-D08AC7047C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8CC8EC8F-C2BA-42A7-8780-4EDFF77C92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2801C9A-88E0-40CB-8ABC-399FB7917D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2C3D2D3-45E8-4A98-97C7-691A7E09D7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7D6DBAA-BBEC-4E06-8249-E6B31DB2CE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C6D5585-4863-4A14-8CF4-0C8D8A7746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E39AB45-CE96-4411-BBE7-6A912E9E5E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F49FFDE-2946-4F00-8234-124F51E3A8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4694180-8FFF-4747-8449-ADB18F4BED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91D24FE-F6F1-4DAE-BFEC-870154A695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D0087E-025F-4681-A14A-66E66568BFA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8BDA918-A659-4F57-8CDC-2C168A1B8F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E2B7340-60FE-4C63-B2D6-C5B9E5A4D3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5679754-FC24-41F6-B5EE-8D42772B6B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7314D06-04D5-4E2A-963C-7EB32D5A9E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8CCF4B5-D7F9-4F0D-9CE1-5659E8551A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B422C0B-22D3-4696-9B9A-C2FE004215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7140DA8-13D7-496A-AAEC-5A23E4776B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68436B7-C98B-4A41-B344-C840D82A95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C024E10-A103-4078-A621-BAD5E26F4B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89C0C83-0A6E-4E86-A905-61823B7645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55D36E-6AD3-4021-8D99-D17797D3556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5CBD70F-2A80-4CC8-B9A7-A3576550CD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FC3B224-3C59-4074-8552-BC4CE01AB3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08B4824-3293-4494-AA90-BA715FCC48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22328258-5A88-43F4-90BB-2DB86FBA9A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C28C9E42-F769-499F-B6BC-929DBD05FE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38489D02-5871-4EF3-952E-F7AC97CF75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576DECA-8E6C-4BA5-9AF6-CCC489D36B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CB0E783-9380-49D9-905F-E7A49B6DBD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C59F0CF-78F9-490C-AB2C-BAEEFDA344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2AC92B8-266B-48AE-8845-0A8F644F3B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6C7B5B-025D-4B30-9B27-411858809B4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22F1BCB-269E-4DD2-B5E3-1B584D3C00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178D7AC-6FE5-44DF-9F95-54B12CC2F1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589D024-5A94-404A-865C-0F7AA73FF1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6145C27-5F9E-40B1-81EC-49B36C63A1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E7E1955-8E23-4FC2-A7DE-9BC2D661DA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8E766993-4C4D-4A14-B7CC-18826EC4D2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8B20A24-7059-4543-BCCC-6C07FF032B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EA982A8-EFF9-45ED-9789-9C1A5964B6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D87F1BA-DA28-4E52-83FF-6FB95AB99F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B0F3C16-F236-4029-9A0A-E7070E7D5B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24FA93-751E-41A7-8E34-D74302498B2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8155228-EE10-48C0-830F-CBC6BFFC60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EC0E061-1AAE-46C3-86EA-716969ECB8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F446A6A-1F4B-4A89-B63C-B702DA3039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83045CD-1E9F-42C2-9C7C-8A0B7E157C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F122453-A253-45EF-96D7-6E98E89282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833ECF1-53F3-40A3-8F79-09F298AE5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3E18D09-AFD2-437E-A29F-D2D0E36965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35C936F-09FD-48B8-A31B-3CFF06DE73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FDD7C4D-7B7A-44C3-B8D8-4710C6161E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E53A6A2F-7938-4408-B2DF-F3849C0B94D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46DC6E3-8369-4896-84B3-DB8F169E00E8}"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12D090B-B4BB-4F76-A8DF-9A1DA22623E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FA28797-4BBB-4A8E-B963-5D97297C6C5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401EAAC-50F9-485D-8DE9-A34AADB0199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E826CA1-02B8-4E30-9CD2-B5529559B05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98D6887-A33B-4924-8295-C765704663B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8156585-B277-4DB3-9B28-5644BA4274B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CE2FB78-15C1-445B-BD23-91F061E755F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13E9C05-2932-44AB-8131-EFD801D2E02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C45B200-FDF3-45A7-B165-F6E6C19C2AE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8F38A67F-1308-42DC-B8BA-DE45CF83189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12CA3EA-46FC-4E59-8FA5-AF726D84036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9D1873C-D882-40B8-BCFE-5C2767F508E9}"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EA1716B4-3A50-4F35-B858-EF4E194D867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EF83CC02-A135-47E2-8882-0E3390FC2E0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E35B85FF-6717-42FF-BDB7-CF930B4690D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3512F92E-CA91-4F70-AF40-CFCFEF91CD2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66AF2450-9791-4C33-BA96-2D1540A43AE1}"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6ECAFD34-50E2-4D68-9A41-4ED92D0F1EA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7BCDC091-34AE-424F-9FF9-5E393F12667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02E0342-FA70-4318-AE9A-ED6CB7BC2799}"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B1817D57-6730-477B-AAA1-D3BD365F5C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4AE398-0EF7-4E74-A4AD-9F1669EDE42F}"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90627CFF-0740-46BD-BB0B-EFF3400139A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D5DBF10B-5732-4DE6-B89A-764652E0FDFD}"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95C5F541-EE6C-495B-B1D5-FB00E1F04BC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4A070A9-348E-4F01-A1E7-376D4D1F215A}"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C7F6D45F-ED9A-44B0-83FA-2EE54809B32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58B8F25E-9BC3-420D-80B7-D350C838E92A}"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E0CFDE64-A536-450E-B4DC-3D10E8ACCAF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4"/>
          </p:nvPr>
        </p:nvSpPr>
        <p:spPr/>
        <p:txBody>
          <a:bodyPr/>
          <a:p>
            <a:fld id="{275004C9-D5FE-40D5-9485-DEFAB15637DB}"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4"/>
          </p:nvPr>
        </p:nvSpPr>
        <p:spPr/>
        <p:txBody>
          <a:bodyPr/>
          <a:p>
            <a:fld id="{49B81C2A-218F-4C68-B5F0-528786344A3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B7C768D2-8BC8-42EB-A352-64065E3F866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E31F4A3-7011-459E-8089-B14F3E1170F1}"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66C3A69A-5CE3-4D39-BF8E-12174E7C7CC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CABB0F3F-7534-4F2C-B868-2B89FD72381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FA4C5546-0341-4C79-BB53-D531E74615F8}"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4"/>
          </p:nvPr>
        </p:nvSpPr>
        <p:spPr/>
        <p:txBody>
          <a:bodyPr/>
          <a:p>
            <a:fld id="{798F2A21-8789-4C57-835D-FB435BB6DF9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4"/>
          </p:nvPr>
        </p:nvSpPr>
        <p:spPr/>
        <p:txBody>
          <a:bodyPr/>
          <a:p>
            <a:fld id="{BE0FAD6A-D5D4-42D7-A70B-E9F7671E98C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C39285-8D63-441B-A222-17EA423068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A37EFC8-DDF9-4E15-A5AC-8E78B9B7E42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C640E41-0325-409F-A5FE-37B7AFE8219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1864E87-29C2-4535-9C30-F849C3979D2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C455F86-AD5E-4C12-B24E-6D7381698D5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50CCF1-75C0-4D0E-BE76-38ACC815E7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D82BA75-D6D6-48C3-84B2-4032B5A4E7A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452669C-80E3-4F55-BF5A-66E9B7E8C2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E5BC8D-0357-4886-8069-4E5F3794988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9CE8773-0023-4396-839B-E0AAAFAA8FA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24B6FF4-AFF6-4AF6-808E-DAF61FAFDA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F8E752B-5C01-4E4C-945A-549A752CE2C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5B0D6BA-1349-46D7-8F1B-2E444B4A579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5B4C3CB-4125-4D98-B4EB-9338003686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8C205F3-BAC3-4ED4-9DA7-FB6D4FDC3B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8DA4DF0-61C3-46E3-A5DB-8E1272A178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D58EF56-4362-4B64-ADA3-AA0F13BE2DF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5FDF0BF-8F5C-4B4E-A854-6E0BBD66934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B3C058-5AF4-41BF-A21D-3D3ACD3CA9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B3FDE2B-D13E-4DE3-B62F-C377E877A01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0516B3-B169-4C0A-8853-8A222C23DE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4B5D7F9-8FE5-4DF5-9735-DDB2D3114A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D02DB53-A5AF-4AC9-95EF-A07FC898CB5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0DE6EFE-FF26-443D-AA34-B3EED823F13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810E484-6956-4FDB-9420-30A456A1348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145B47-8763-4F3C-B5DC-5F0162CDAA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B80AA7-C32B-4234-951F-CF17538020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58D84AE-C183-4303-AF1B-1FA152C39B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A7C6-BA33-4E6C-8B75-81E8A2AEA72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4920" y="-23760"/>
            <a:ext cx="9215280" cy="6912000"/>
          </a:xfrm>
          <a:prstGeom prst="rect">
            <a:avLst/>
          </a:prstGeom>
          <a:ln w="0">
            <a:noFill/>
          </a:ln>
        </p:spPr>
      </p:pic>
      <p:sp>
        <p:nvSpPr>
          <p:cNvPr id="37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7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7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78" name="PlaceHolder 3"/>
          <p:cNvSpPr>
            <a:spLocks noGrp="1"/>
          </p:cNvSpPr>
          <p:nvPr>
            <p:ph type="sldNum" idx="1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7DAC-3E54-4180-9D04-2E42269B822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
          <p:cNvPicPr/>
          <p:nvPr/>
        </p:nvPicPr>
        <p:blipFill>
          <a:blip r:embed="rId2"/>
          <a:stretch/>
        </p:blipFill>
        <p:spPr>
          <a:xfrm>
            <a:off x="-34920" y="-23760"/>
            <a:ext cx="9215280" cy="6912000"/>
          </a:xfrm>
          <a:prstGeom prst="rect">
            <a:avLst/>
          </a:prstGeom>
          <a:ln w="0">
            <a:noFill/>
          </a:ln>
        </p:spPr>
      </p:pic>
      <p:sp>
        <p:nvSpPr>
          <p:cNvPr id="41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17"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18"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19" name="PlaceHolder 3"/>
          <p:cNvSpPr>
            <a:spLocks noGrp="1"/>
          </p:cNvSpPr>
          <p:nvPr>
            <p:ph type="sldNum" idx="1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0789-A979-43E2-956D-E6C0E0788C8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34920" y="-23760"/>
            <a:ext cx="9215280" cy="6912000"/>
          </a:xfrm>
          <a:prstGeom prst="rect">
            <a:avLst/>
          </a:prstGeom>
          <a:ln w="0">
            <a:noFill/>
          </a:ln>
        </p:spPr>
      </p:pic>
      <p:sp>
        <p:nvSpPr>
          <p:cNvPr id="45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5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5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60" name="PlaceHolder 3"/>
          <p:cNvSpPr>
            <a:spLocks noGrp="1"/>
          </p:cNvSpPr>
          <p:nvPr>
            <p:ph type="sldNum" idx="1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A6D8-FC4A-4AD5-B5CF-56E155E728D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
          <p:cNvPicPr/>
          <p:nvPr/>
        </p:nvPicPr>
        <p:blipFill>
          <a:blip r:embed="rId2"/>
          <a:stretch/>
        </p:blipFill>
        <p:spPr>
          <a:xfrm>
            <a:off x="-34920" y="-23760"/>
            <a:ext cx="9215280" cy="6912000"/>
          </a:xfrm>
          <a:prstGeom prst="rect">
            <a:avLst/>
          </a:prstGeom>
          <a:ln w="0">
            <a:noFill/>
          </a:ln>
        </p:spPr>
      </p:pic>
      <p:sp>
        <p:nvSpPr>
          <p:cNvPr id="498"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9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0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01" name="PlaceHolder 3"/>
          <p:cNvSpPr>
            <a:spLocks noGrp="1"/>
          </p:cNvSpPr>
          <p:nvPr>
            <p:ph type="sldNum" idx="15"/>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D628-F23F-49BF-9383-BD73CEF4FEB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2" descr=""/>
          <p:cNvPicPr/>
          <p:nvPr/>
        </p:nvPicPr>
        <p:blipFill>
          <a:blip r:embed="rId2"/>
          <a:stretch/>
        </p:blipFill>
        <p:spPr>
          <a:xfrm>
            <a:off x="-34920" y="-23760"/>
            <a:ext cx="9215280" cy="6912000"/>
          </a:xfrm>
          <a:prstGeom prst="rect">
            <a:avLst/>
          </a:prstGeom>
          <a:ln w="0">
            <a:noFill/>
          </a:ln>
        </p:spPr>
      </p:pic>
      <p:sp>
        <p:nvSpPr>
          <p:cNvPr id="539"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4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4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42" name="PlaceHolder 3"/>
          <p:cNvSpPr>
            <a:spLocks noGrp="1"/>
          </p:cNvSpPr>
          <p:nvPr>
            <p:ph type="sldNum" idx="16"/>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65CD-1F03-4352-907A-88778EC3660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2" descr=""/>
          <p:cNvPicPr/>
          <p:nvPr/>
        </p:nvPicPr>
        <p:blipFill>
          <a:blip r:embed="rId2"/>
          <a:stretch/>
        </p:blipFill>
        <p:spPr>
          <a:xfrm>
            <a:off x="-34920" y="-23760"/>
            <a:ext cx="9215280" cy="6912000"/>
          </a:xfrm>
          <a:prstGeom prst="rect">
            <a:avLst/>
          </a:prstGeom>
          <a:ln w="0">
            <a:noFill/>
          </a:ln>
        </p:spPr>
      </p:pic>
      <p:sp>
        <p:nvSpPr>
          <p:cNvPr id="580"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8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8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83" name="PlaceHolder 3"/>
          <p:cNvSpPr>
            <a:spLocks noGrp="1"/>
          </p:cNvSpPr>
          <p:nvPr>
            <p:ph type="sldNum" idx="17"/>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BCB8-EFBD-4A89-A947-54BC08A06733}"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tretch/>
        </p:blipFill>
        <p:spPr>
          <a:xfrm>
            <a:off x="-34920" y="-23760"/>
            <a:ext cx="9215280" cy="6912000"/>
          </a:xfrm>
          <a:prstGeom prst="rect">
            <a:avLst/>
          </a:prstGeom>
          <a:ln w="0">
            <a:noFill/>
          </a:ln>
        </p:spPr>
      </p:pic>
      <p:sp>
        <p:nvSpPr>
          <p:cNvPr id="621"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2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2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24" name="PlaceHolder 3"/>
          <p:cNvSpPr>
            <a:spLocks noGrp="1"/>
          </p:cNvSpPr>
          <p:nvPr>
            <p:ph type="sldNum" idx="18"/>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F6DC-93EE-4584-A117-E35E8499563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
          <p:cNvPicPr/>
          <p:nvPr/>
        </p:nvPicPr>
        <p:blipFill>
          <a:blip r:embed="rId2"/>
          <a:stretch/>
        </p:blipFill>
        <p:spPr>
          <a:xfrm>
            <a:off x="-34920" y="-23760"/>
            <a:ext cx="9215280" cy="6912000"/>
          </a:xfrm>
          <a:prstGeom prst="rect">
            <a:avLst/>
          </a:prstGeom>
          <a:ln w="0">
            <a:noFill/>
          </a:ln>
        </p:spPr>
      </p:pic>
      <p:sp>
        <p:nvSpPr>
          <p:cNvPr id="662"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6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6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65" name="PlaceHolder 3"/>
          <p:cNvSpPr>
            <a:spLocks noGrp="1"/>
          </p:cNvSpPr>
          <p:nvPr>
            <p:ph type="sldNum" idx="19"/>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B405-C268-441C-9FFE-481439202B6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
          <p:cNvPicPr/>
          <p:nvPr/>
        </p:nvPicPr>
        <p:blipFill>
          <a:blip r:embed="rId2"/>
          <a:stretch/>
        </p:blipFill>
        <p:spPr>
          <a:xfrm>
            <a:off x="-34920" y="-23760"/>
            <a:ext cx="9215280" cy="6912000"/>
          </a:xfrm>
          <a:prstGeom prst="rect">
            <a:avLst/>
          </a:prstGeom>
          <a:ln w="0">
            <a:noFill/>
          </a:ln>
        </p:spPr>
      </p:pic>
      <p:sp>
        <p:nvSpPr>
          <p:cNvPr id="703"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0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0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06" name="PlaceHolder 3"/>
          <p:cNvSpPr>
            <a:spLocks noGrp="1"/>
          </p:cNvSpPr>
          <p:nvPr>
            <p:ph type="sldNum" idx="20"/>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1B81-F9C8-4073-89DC-4BE39C57563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2" descr=""/>
          <p:cNvPicPr/>
          <p:nvPr/>
        </p:nvPicPr>
        <p:blipFill>
          <a:blip r:embed="rId2"/>
          <a:stretch/>
        </p:blipFill>
        <p:spPr>
          <a:xfrm>
            <a:off x="-34920" y="-23760"/>
            <a:ext cx="9215280" cy="6912000"/>
          </a:xfrm>
          <a:prstGeom prst="rect">
            <a:avLst/>
          </a:prstGeom>
          <a:ln w="0">
            <a:noFill/>
          </a:ln>
        </p:spPr>
      </p:pic>
      <p:sp>
        <p:nvSpPr>
          <p:cNvPr id="74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4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4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47" name="PlaceHolder 3"/>
          <p:cNvSpPr>
            <a:spLocks noGrp="1"/>
          </p:cNvSpPr>
          <p:nvPr>
            <p:ph type="sldNum" idx="2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EFE0-CF55-435C-A5E4-617FF8554A6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802C-41CD-45E2-9770-3A7F26F8EC0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2" descr=""/>
          <p:cNvPicPr/>
          <p:nvPr/>
        </p:nvPicPr>
        <p:blipFill>
          <a:blip r:embed="rId2"/>
          <a:stretch/>
        </p:blipFill>
        <p:spPr>
          <a:xfrm>
            <a:off x="-34920" y="-23760"/>
            <a:ext cx="9215280" cy="6912000"/>
          </a:xfrm>
          <a:prstGeom prst="rect">
            <a:avLst/>
          </a:prstGeom>
          <a:ln w="0">
            <a:noFill/>
          </a:ln>
        </p:spPr>
      </p:pic>
      <p:sp>
        <p:nvSpPr>
          <p:cNvPr id="78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8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8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88" name="PlaceHolder 3"/>
          <p:cNvSpPr>
            <a:spLocks noGrp="1"/>
          </p:cNvSpPr>
          <p:nvPr>
            <p:ph type="sldNum" idx="2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0EF1-376C-482C-8784-3EE47D211A8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Picture 2" descr=""/>
          <p:cNvPicPr/>
          <p:nvPr/>
        </p:nvPicPr>
        <p:blipFill>
          <a:blip r:embed="rId2"/>
          <a:stretch/>
        </p:blipFill>
        <p:spPr>
          <a:xfrm>
            <a:off x="0" y="0"/>
            <a:ext cx="9142560" cy="6856560"/>
          </a:xfrm>
          <a:prstGeom prst="rect">
            <a:avLst/>
          </a:prstGeom>
          <a:ln w="0">
            <a:noFill/>
          </a:ln>
        </p:spPr>
      </p:pic>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B04A-AB8E-451B-9F84-0529F33ABF12}"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82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9D22-B0D6-4FC3-BC7A-7734213DD245}" type="slidenum">
              <a:rPr b="0" lang="nl-NL"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Picture 2" descr=""/>
          <p:cNvPicPr/>
          <p:nvPr/>
        </p:nvPicPr>
        <p:blipFill>
          <a:blip r:embed="rId2"/>
          <a:stretch/>
        </p:blipFill>
        <p:spPr>
          <a:xfrm>
            <a:off x="0" y="0"/>
            <a:ext cx="9142560" cy="6856560"/>
          </a:xfrm>
          <a:prstGeom prst="rect">
            <a:avLst/>
          </a:prstGeom>
          <a:ln w="0">
            <a:noFill/>
          </a:ln>
        </p:spPr>
      </p:pic>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8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48B8-EC59-4DDA-B946-8F59B806450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Picture 2" descr=""/>
          <p:cNvPicPr/>
          <p:nvPr/>
        </p:nvPicPr>
        <p:blipFill>
          <a:blip r:embed="rId2"/>
          <a:stretch/>
        </p:blipFill>
        <p:spPr>
          <a:xfrm>
            <a:off x="0" y="0"/>
            <a:ext cx="9142560" cy="6856560"/>
          </a:xfrm>
          <a:prstGeom prst="rect">
            <a:avLst/>
          </a:prstGeom>
          <a:ln w="0">
            <a:noFill/>
          </a:ln>
        </p:spPr>
      </p:pic>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13"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6424-CD9C-4419-A87F-E67F15F4D49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Picture 2" descr=""/>
          <p:cNvPicPr/>
          <p:nvPr/>
        </p:nvPicPr>
        <p:blipFill>
          <a:blip r:embed="rId2"/>
          <a:stretch/>
        </p:blipFill>
        <p:spPr>
          <a:xfrm>
            <a:off x="0" y="0"/>
            <a:ext cx="9142560" cy="6856560"/>
          </a:xfrm>
          <a:prstGeom prst="rect">
            <a:avLst/>
          </a:prstGeom>
          <a:ln w="0">
            <a:noFill/>
          </a:ln>
        </p:spPr>
      </p:pic>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4"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55"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869E-004B-451E-AF7D-46B0EFE9EC4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Picture 2" descr=""/>
          <p:cNvPicPr/>
          <p:nvPr/>
        </p:nvPicPr>
        <p:blipFill>
          <a:blip r:embed="rId2"/>
          <a:stretch/>
        </p:blipFill>
        <p:spPr>
          <a:xfrm>
            <a:off x="0" y="0"/>
            <a:ext cx="9142560" cy="6856560"/>
          </a:xfrm>
          <a:prstGeom prst="rect">
            <a:avLst/>
          </a:prstGeom>
          <a:ln w="0">
            <a:noFill/>
          </a:ln>
        </p:spPr>
      </p:pic>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9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2FAC-A3C0-4277-9059-705B97DAE91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5" name="Picture 2" descr=""/>
          <p:cNvPicPr/>
          <p:nvPr/>
        </p:nvPicPr>
        <p:blipFill>
          <a:blip r:embed="rId2"/>
          <a:stretch/>
        </p:blipFill>
        <p:spPr>
          <a:xfrm>
            <a:off x="0" y="0"/>
            <a:ext cx="9142560" cy="6856560"/>
          </a:xfrm>
          <a:prstGeom prst="rect">
            <a:avLst/>
          </a:prstGeom>
          <a:ln w="0">
            <a:noFill/>
          </a:ln>
        </p:spPr>
      </p:pic>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0A67-18D8-4321-8A06-DD10BF9EA46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Picture 2" descr=""/>
          <p:cNvPicPr/>
          <p:nvPr/>
        </p:nvPicPr>
        <p:blipFill>
          <a:blip r:embed="rId2"/>
          <a:stretch/>
        </p:blipFill>
        <p:spPr>
          <a:xfrm>
            <a:off x="0" y="0"/>
            <a:ext cx="9142560" cy="6856560"/>
          </a:xfrm>
          <a:prstGeom prst="rect">
            <a:avLst/>
          </a:prstGeom>
          <a:ln w="0">
            <a:noFill/>
          </a:ln>
        </p:spPr>
      </p:pic>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1796-76E1-44A3-B9A5-5AC58A0689C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2" descr=""/>
          <p:cNvPicPr/>
          <p:nvPr/>
        </p:nvPicPr>
        <p:blipFill>
          <a:blip r:embed="rId2"/>
          <a:stretch/>
        </p:blipFill>
        <p:spPr>
          <a:xfrm>
            <a:off x="0" y="0"/>
            <a:ext cx="9142560" cy="6856560"/>
          </a:xfrm>
          <a:prstGeom prst="rect">
            <a:avLst/>
          </a:prstGeom>
          <a:ln w="0">
            <a:noFill/>
          </a:ln>
        </p:spPr>
      </p:pic>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2"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23"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C40A-735A-4EFF-AF0B-8562FA1CDE9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1" name="Picture 2" descr=""/>
          <p:cNvPicPr/>
          <p:nvPr/>
        </p:nvPicPr>
        <p:blipFill>
          <a:blip r:embed="rId2"/>
          <a:stretch/>
        </p:blipFill>
        <p:spPr>
          <a:xfrm>
            <a:off x="0" y="0"/>
            <a:ext cx="9142560" cy="6856560"/>
          </a:xfrm>
          <a:prstGeom prst="rect">
            <a:avLst/>
          </a:prstGeom>
          <a:ln w="0">
            <a:noFill/>
          </a:ln>
        </p:spPr>
      </p:pic>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4"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65"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86DA-58D9-4EC8-961A-11E4ACF5E5B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7307-8F31-4A13-AADE-617689028267}"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3" name="Picture 2" descr=""/>
          <p:cNvPicPr/>
          <p:nvPr/>
        </p:nvPicPr>
        <p:blipFill>
          <a:blip r:embed="rId2"/>
          <a:stretch/>
        </p:blipFill>
        <p:spPr>
          <a:xfrm>
            <a:off x="0" y="0"/>
            <a:ext cx="9142560" cy="6856560"/>
          </a:xfrm>
          <a:prstGeom prst="rect">
            <a:avLst/>
          </a:prstGeom>
          <a:ln w="0">
            <a:noFill/>
          </a:ln>
        </p:spPr>
      </p:pic>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20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26BD-EAF3-4CC4-BE13-26A921CD62A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5" name="Picture 2" descr=""/>
          <p:cNvPicPr/>
          <p:nvPr/>
        </p:nvPicPr>
        <p:blipFill>
          <a:blip r:embed="rId2"/>
          <a:stretch/>
        </p:blipFill>
        <p:spPr>
          <a:xfrm>
            <a:off x="0" y="0"/>
            <a:ext cx="9142560" cy="6856560"/>
          </a:xfrm>
          <a:prstGeom prst="rect">
            <a:avLst/>
          </a:prstGeom>
          <a:ln w="0">
            <a:noFill/>
          </a:ln>
        </p:spPr>
      </p:pic>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8" name="PlaceHolder 3"/>
          <p:cNvSpPr>
            <a:spLocks noGrp="1"/>
          </p:cNvSpPr>
          <p:nvPr>
            <p:ph type="sldNum" idx="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F315-5363-46B2-9723-949F8F86F4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5" name="Picture 2" descr=""/>
          <p:cNvPicPr/>
          <p:nvPr/>
        </p:nvPicPr>
        <p:blipFill>
          <a:blip r:embed="rId2"/>
          <a:stretch/>
        </p:blipFill>
        <p:spPr>
          <a:xfrm>
            <a:off x="0" y="0"/>
            <a:ext cx="9142560" cy="6856560"/>
          </a:xfrm>
          <a:prstGeom prst="rect">
            <a:avLst/>
          </a:prstGeom>
          <a:ln w="0">
            <a:noFill/>
          </a:ln>
        </p:spPr>
      </p:pic>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8"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E21D-526C-4B15-B9C6-BAB45C60BD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34920" y="-23760"/>
            <a:ext cx="9215280" cy="6912000"/>
          </a:xfrm>
          <a:prstGeom prst="rect">
            <a:avLst/>
          </a:prstGeom>
          <a:ln w="0">
            <a:noFill/>
          </a:ln>
        </p:spPr>
      </p:pic>
      <p:sp>
        <p:nvSpPr>
          <p:cNvPr id="12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2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26" name="PlaceHolder 3"/>
          <p:cNvSpPr>
            <a:spLocks noGrp="1"/>
          </p:cNvSpPr>
          <p:nvPr>
            <p:ph type="sldNum" idx="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21EC-11DB-4C91-ABC7-7E6A1CB1693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12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00B5-2714-4828-95B6-F32EAB1096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9" name="Picture 2" descr=""/>
          <p:cNvPicPr/>
          <p:nvPr/>
        </p:nvPicPr>
        <p:blipFill>
          <a:blip r:embed="rId2"/>
          <a:stretch/>
        </p:blipFill>
        <p:spPr>
          <a:xfrm>
            <a:off x="0" y="0"/>
            <a:ext cx="914256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2"/>
          <a:stretch/>
        </p:blipFill>
        <p:spPr>
          <a:xfrm>
            <a:off x="-304920" y="-225360"/>
            <a:ext cx="9753840" cy="7315200"/>
          </a:xfrm>
          <a:prstGeom prst="rect">
            <a:avLst/>
          </a:prstGeom>
          <a:ln w="0">
            <a:noFill/>
          </a:ln>
        </p:spPr>
      </p:pic>
      <p:sp>
        <p:nvSpPr>
          <p:cNvPr id="207"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8"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1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1"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CF42-3FA3-4FAB-B650-15932BAB0348}"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
          <p:cNvPicPr/>
          <p:nvPr/>
        </p:nvPicPr>
        <p:blipFill>
          <a:blip r:embed="rId2"/>
          <a:stretch/>
        </p:blipFill>
        <p:spPr>
          <a:xfrm>
            <a:off x="-304920" y="-225360"/>
            <a:ext cx="9753840" cy="7315200"/>
          </a:xfrm>
          <a:prstGeom prst="rect">
            <a:avLst/>
          </a:prstGeom>
          <a:ln w="0">
            <a:noFill/>
          </a:ln>
        </p:spPr>
      </p:pic>
      <p:sp>
        <p:nvSpPr>
          <p:cNvPr id="249"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0"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5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3"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244A-FE32-4410-84B3-E558025C2DD8}"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304920" y="-225360"/>
            <a:ext cx="9753840" cy="7315200"/>
          </a:xfrm>
          <a:prstGeom prst="rect">
            <a:avLst/>
          </a:prstGeom>
          <a:ln w="0">
            <a:noFill/>
          </a:ln>
        </p:spPr>
      </p:pic>
      <p:sp>
        <p:nvSpPr>
          <p:cNvPr id="291"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92"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9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9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95" name="PlaceHolder 3"/>
          <p:cNvSpPr>
            <a:spLocks noGrp="1"/>
          </p:cNvSpPr>
          <p:nvPr>
            <p:ph type="dt" idx="10"/>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53E2-8497-4DF9-96CF-548A23F1D77D}"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04920" y="-225360"/>
            <a:ext cx="9753840" cy="7315200"/>
          </a:xfrm>
          <a:prstGeom prst="rect">
            <a:avLst/>
          </a:prstGeom>
          <a:ln w="0">
            <a:noFill/>
          </a:ln>
        </p:spPr>
      </p:pic>
      <p:sp>
        <p:nvSpPr>
          <p:cNvPr id="333"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34"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3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37" name="PlaceHolder 3"/>
          <p:cNvSpPr>
            <a:spLocks noGrp="1"/>
          </p:cNvSpPr>
          <p:nvPr>
            <p:ph type="dt" idx="11"/>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21F3-2ADF-4539-8FA2-5CD2E938BA5F}"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7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3.xml"/><Relationship Id="rId3" Type="http://schemas.openxmlformats.org/officeDocument/2006/relationships/comments" Target="../comments/comment1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2576160" y="1582200"/>
            <a:ext cx="519588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a:ea typeface="Arial"/>
              </a:rPr>
              <a:t>Voedingsmiddelen</a:t>
            </a:r>
            <a:endParaRPr b="0" lang="en-US" sz="4800" spc="-1" strike="noStrike">
              <a:solidFill>
                <a:srgbClr val="000000"/>
              </a:solidFill>
              <a:latin typeface="Calibri"/>
            </a:endParaRPr>
          </a:p>
        </p:txBody>
      </p:sp>
      <p:sp>
        <p:nvSpPr>
          <p:cNvPr id="13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898989"/>
                </a:solidFill>
                <a:latin typeface="Arial"/>
              </a:rPr>
              <a:t>Voe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Koolhydraatbronnen</a:t>
            </a:r>
            <a:endParaRPr b="0" lang="en-US" sz="2800" spc="-1" strike="noStrike">
              <a:solidFill>
                <a:srgbClr val="000000"/>
              </a:solidFill>
              <a:latin typeface="Calibri"/>
            </a:endParaRPr>
          </a:p>
        </p:txBody>
      </p:sp>
      <p:sp>
        <p:nvSpPr>
          <p:cNvPr id="136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4606-DCFF-40AE-9B87-E81D2536EE4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63" name="Text Box 5"/>
          <p:cNvSpPr/>
          <p:nvPr/>
        </p:nvSpPr>
        <p:spPr>
          <a:xfrm>
            <a:off x="684360" y="148428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Text Box 6"/>
          <p:cNvSpPr/>
          <p:nvPr/>
        </p:nvSpPr>
        <p:spPr>
          <a:xfrm>
            <a:off x="611280" y="1700280"/>
            <a:ext cx="64087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Hoofdzakelijk </a:t>
            </a:r>
            <a:r>
              <a:rPr b="1" lang="nl-NL" sz="1800" spc="-1" strike="noStrike">
                <a:solidFill>
                  <a:srgbClr val="000000"/>
                </a:solidFill>
                <a:latin typeface="Verdana"/>
                <a:ea typeface="ＭＳ Ｐゴシック"/>
              </a:rPr>
              <a:t>plantaardige</a:t>
            </a:r>
            <a:r>
              <a:rPr b="0" lang="nl-NL" sz="1800" spc="-1" strike="noStrike">
                <a:solidFill>
                  <a:srgbClr val="000000"/>
                </a:solidFill>
                <a:latin typeface="Verdana"/>
                <a:ea typeface="ＭＳ Ｐゴシック"/>
              </a:rPr>
              <a:t>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roente en fru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Granen en bonen en aardappelen (als zetmeel)</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Vlees bevat een kleine hoeveelheid koolhydra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lycogeen dat in de spieren ligt opgeslag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Mel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a:t>
            </a:r>
            <a:r>
              <a:rPr b="0" lang="en-US" sz="1800" spc="-1" strike="noStrike">
                <a:solidFill>
                  <a:srgbClr val="000000"/>
                </a:solidFill>
                <a:latin typeface="Verdana"/>
                <a:ea typeface="ＭＳ Ｐゴシック"/>
              </a:rPr>
              <a:t>L</a:t>
            </a:r>
            <a:r>
              <a:rPr b="0" lang="nl-NL" sz="1800" spc="-1" strike="noStrike">
                <a:solidFill>
                  <a:srgbClr val="000000"/>
                </a:solidFill>
                <a:latin typeface="Verdana"/>
                <a:ea typeface="ＭＳ Ｐゴシック"/>
              </a:rPr>
              <a:t>actose (melksuiker).</a:t>
            </a:r>
            <a:endParaRPr b="0" lang="en-US" sz="1800" spc="-1" strike="noStrike">
              <a:solidFill>
                <a:srgbClr val="000000"/>
              </a:solidFill>
              <a:latin typeface="Arial"/>
            </a:endParaRPr>
          </a:p>
        </p:txBody>
      </p:sp>
      <p:pic>
        <p:nvPicPr>
          <p:cNvPr id="1365" name="Picture 6" descr=""/>
          <p:cNvPicPr/>
          <p:nvPr/>
        </p:nvPicPr>
        <p:blipFill>
          <a:blip r:embed="rId1"/>
          <a:stretch/>
        </p:blipFill>
        <p:spPr>
          <a:xfrm>
            <a:off x="5076720" y="3357720"/>
            <a:ext cx="3581640" cy="31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aan koolhydraten</a:t>
            </a:r>
            <a:endParaRPr b="0" lang="en-US" sz="2800" spc="-1" strike="noStrike">
              <a:solidFill>
                <a:srgbClr val="000000"/>
              </a:solidFill>
              <a:latin typeface="Calibri"/>
            </a:endParaRPr>
          </a:p>
        </p:txBody>
      </p:sp>
      <p:sp>
        <p:nvSpPr>
          <p:cNvPr id="1367"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gezonde dieren niet direct tot (gebreks)ziekt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	</a:t>
            </a:r>
            <a:r>
              <a:rPr b="0" lang="nl-NL" sz="1600" spc="-1" strike="noStrike">
                <a:solidFill>
                  <a:srgbClr val="000000"/>
                </a:solidFill>
                <a:latin typeface="Arial"/>
                <a:ea typeface="Arial"/>
              </a:rPr>
              <a:t>koolhydraatvorming uit eiwitten en vette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kan leiden to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1. verminderde eiwitbeschikbaarheid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minder groei, slechter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herstel, verlaagde weerstan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2. verminderde darmfunctie i.v.m. gemis aan voedingsvezels. </a:t>
            </a:r>
            <a:endParaRPr b="0" lang="en-US" sz="1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a:t>
            </a:r>
            <a:r>
              <a:rPr b="1" lang="nl-NL" sz="1800" spc="-1" strike="noStrike">
                <a:solidFill>
                  <a:srgbClr val="000000"/>
                </a:solidFill>
                <a:latin typeface="Arial"/>
                <a:ea typeface="Arial"/>
              </a:rPr>
              <a:t>jonge</a:t>
            </a:r>
            <a:r>
              <a:rPr b="0" lang="nl-NL" sz="1800" spc="-1" strike="noStrike">
                <a:solidFill>
                  <a:srgbClr val="000000"/>
                </a:solidFill>
                <a:latin typeface="Arial"/>
                <a:ea typeface="Arial"/>
              </a:rPr>
              <a:t> dieren tot sloom worden of in een coma rak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r>
              <a:rPr b="0" lang="nl-NL" sz="1600" spc="-1" strike="noStrike">
                <a:solidFill>
                  <a:srgbClr val="000000"/>
                </a:solidFill>
                <a:latin typeface="Arial"/>
                <a:ea typeface="Arial"/>
              </a:rPr>
              <a:t>stofwisseling van jonge dieren kan nog goed reageren op een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tekort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hersenen  functioneren niet zonder de brandstof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a:t>
            </a: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FF2F-6EBA-4EF3-831F-E00C805810C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vermaat aan koolhydraten</a:t>
            </a:r>
            <a:endParaRPr b="0" lang="en-US" sz="2800" spc="-1" strike="noStrike">
              <a:solidFill>
                <a:srgbClr val="000000"/>
              </a:solidFill>
              <a:latin typeface="Calibri"/>
            </a:endParaRPr>
          </a:p>
        </p:txBody>
      </p:sp>
      <p:sp>
        <p:nvSpPr>
          <p:cNvPr id="1370"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vergewicht (obesita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nie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Negatief effect op de verteerbaarheid van de voeding</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tlasting van het dier neemt to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bstipati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bsorptie van minerale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cceptatie.</a:t>
            </a:r>
            <a:endParaRPr b="0" lang="en-US" sz="1800" spc="-1" strike="noStrike">
              <a:solidFill>
                <a:srgbClr val="000000"/>
              </a:solidFill>
              <a:latin typeface="Calibri"/>
            </a:endParaRPr>
          </a:p>
        </p:txBody>
      </p:sp>
      <p:sp>
        <p:nvSpPr>
          <p:cNvPr id="13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99CE-41BC-4BDF-8AB1-6D6356F6CD7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86200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Lipiden</a:t>
            </a:r>
            <a:endParaRPr b="0" lang="en-US" sz="6000" spc="-1" strike="noStrike">
              <a:solidFill>
                <a:srgbClr val="000000"/>
              </a:solidFill>
              <a:latin typeface="Calibri"/>
            </a:endParaRPr>
          </a:p>
        </p:txBody>
      </p:sp>
      <p:sp>
        <p:nvSpPr>
          <p:cNvPr id="13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7142-6761-431B-92C0-EA22873B1CC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612360" y="981000"/>
            <a:ext cx="3814920" cy="4113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hard</a:t>
            </a:r>
            <a:endParaRPr b="0" lang="en-US" sz="1800" spc="-1" strike="noStrike">
              <a:solidFill>
                <a:srgbClr val="000000"/>
              </a:solidFill>
              <a:latin typeface="Calibri"/>
            </a:endParaRPr>
          </a:p>
        </p:txBody>
      </p:sp>
      <p:sp>
        <p:nvSpPr>
          <p:cNvPr id="1375" name=""/>
          <p:cNvSpPr txBox="1"/>
          <p:nvPr/>
        </p:nvSpPr>
        <p:spPr>
          <a:xfrm>
            <a:off x="4718160" y="1044360"/>
            <a:ext cx="3814560" cy="41130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zacht (vloeibaar)</a:t>
            </a:r>
            <a:endParaRPr b="0" lang="en-US" sz="1800" spc="-1" strike="noStrike">
              <a:solidFill>
                <a:srgbClr val="000000"/>
              </a:solidFill>
              <a:latin typeface="Calibri"/>
            </a:endParaRPr>
          </a:p>
        </p:txBody>
      </p:sp>
      <p:sp>
        <p:nvSpPr>
          <p:cNvPr id="1376"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86FB-C211-42E2-A5ED-C96BDAED4B9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pic>
        <p:nvPicPr>
          <p:cNvPr id="1377" name="Picture 7" descr="verzadigd en onverzadigd vet"/>
          <p:cNvPicPr/>
          <p:nvPr/>
        </p:nvPicPr>
        <p:blipFill>
          <a:blip r:embed="rId1"/>
          <a:srcRect l="0" t="0" r="0" b="54735"/>
          <a:stretch/>
        </p:blipFill>
        <p:spPr>
          <a:xfrm>
            <a:off x="468360" y="2852640"/>
            <a:ext cx="4100400" cy="2667240"/>
          </a:xfrm>
          <a:prstGeom prst="rect">
            <a:avLst/>
          </a:prstGeom>
          <a:ln w="0">
            <a:noFill/>
          </a:ln>
        </p:spPr>
      </p:pic>
      <p:pic>
        <p:nvPicPr>
          <p:cNvPr id="1378" name="Picture 8" descr="verzadigd en onverzadigd vet"/>
          <p:cNvPicPr/>
          <p:nvPr/>
        </p:nvPicPr>
        <p:blipFill>
          <a:blip r:embed="rId2"/>
          <a:srcRect l="0" t="44092" r="0" b="-1683"/>
          <a:stretch/>
        </p:blipFill>
        <p:spPr>
          <a:xfrm>
            <a:off x="4643280" y="2205000"/>
            <a:ext cx="4032360" cy="3336840"/>
          </a:xfrm>
          <a:prstGeom prst="rect">
            <a:avLst/>
          </a:prstGeom>
          <a:ln w="0">
            <a:noFill/>
          </a:ln>
        </p:spPr>
      </p:pic>
      <p:sp>
        <p:nvSpPr>
          <p:cNvPr id="1379" name="Rectangle 9"/>
          <p:cNvSpPr/>
          <p:nvPr/>
        </p:nvSpPr>
        <p:spPr>
          <a:xfrm>
            <a:off x="1481040" y="5734080"/>
            <a:ext cx="604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onsistentie van het vet hangt ook af van de temperat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vetten</a:t>
            </a:r>
            <a:endParaRPr b="0" lang="en-US" sz="2800" spc="-1" strike="noStrike">
              <a:solidFill>
                <a:srgbClr val="000000"/>
              </a:solidFill>
              <a:latin typeface="Calibri"/>
            </a:endParaRPr>
          </a:p>
        </p:txBody>
      </p:sp>
      <p:sp>
        <p:nvSpPr>
          <p:cNvPr id="138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nergie lev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slag van energie in het lichaam</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rondstof voor hormoonproduc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ssentiële vetzu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oede opname vetoplosbare vitaminen: A, D, E, en K</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maakverhoging voer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en daarmee de accepta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rmte-isolatie van het lichaam</a:t>
            </a:r>
            <a:endParaRPr b="0" lang="en-US" sz="1800" spc="-1" strike="noStrike">
              <a:solidFill>
                <a:srgbClr val="000000"/>
              </a:solidFill>
              <a:latin typeface="Calibri"/>
            </a:endParaRPr>
          </a:p>
        </p:txBody>
      </p:sp>
      <p:sp>
        <p:nvSpPr>
          <p:cNvPr id="138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6FE8-8BCE-4BE8-8BE3-080774F4E62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etbronnen</a:t>
            </a:r>
            <a:endParaRPr b="0" lang="en-US" sz="2800" spc="-1" strike="noStrike">
              <a:solidFill>
                <a:srgbClr val="000000"/>
              </a:solidFill>
              <a:latin typeface="Calibri"/>
            </a:endParaRPr>
          </a:p>
        </p:txBody>
      </p:sp>
      <p:pic>
        <p:nvPicPr>
          <p:cNvPr id="1384" name="Picture 4" descr=""/>
          <p:cNvPicPr/>
          <p:nvPr/>
        </p:nvPicPr>
        <p:blipFill>
          <a:blip r:embed="rId1"/>
          <a:srcRect l="10434" t="0" r="0" b="0"/>
          <a:stretch/>
        </p:blipFill>
        <p:spPr>
          <a:xfrm>
            <a:off x="395280" y="3203640"/>
            <a:ext cx="4968720" cy="3263760"/>
          </a:xfrm>
          <a:prstGeom prst="rect">
            <a:avLst/>
          </a:prstGeom>
          <a:ln w="0">
            <a:noFill/>
          </a:ln>
        </p:spPr>
      </p:pic>
      <p:sp>
        <p:nvSpPr>
          <p:cNvPr id="13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57E8-A138-407A-824D-5B0D75EE156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6" name="Text Box 5"/>
          <p:cNvSpPr/>
          <p:nvPr/>
        </p:nvSpPr>
        <p:spPr>
          <a:xfrm>
            <a:off x="611280" y="1700280"/>
            <a:ext cx="6408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vetten: vlees, vis en zuiv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vetten: zaadoliën en sojaolie. </a:t>
            </a:r>
            <a:endParaRPr b="0" lang="en-US" sz="1800" spc="-1" strike="noStrike">
              <a:solidFill>
                <a:srgbClr val="000000"/>
              </a:solidFill>
              <a:latin typeface="Arial"/>
            </a:endParaRPr>
          </a:p>
        </p:txBody>
      </p:sp>
      <p:sp>
        <p:nvSpPr>
          <p:cNvPr id="1387" name="Text Box 6"/>
          <p:cNvSpPr/>
          <p:nvPr/>
        </p:nvSpPr>
        <p:spPr>
          <a:xfrm>
            <a:off x="3780000" y="3789360"/>
            <a:ext cx="4968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Het gehalte essentiële vetzuren dat een vet bevat, bepaalt de kwaliteit van de vetbr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950E-E248-41E2-B688-022C49A5EAA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9" name="PlaceHolder 1"/>
          <p:cNvSpPr>
            <a:spLocks noGrp="1"/>
          </p:cNvSpPr>
          <p:nvPr>
            <p:ph type="title"/>
          </p:nvPr>
        </p:nvSpPr>
        <p:spPr>
          <a:xfrm>
            <a:off x="0" y="48528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ekort en overmaat aan vetten</a:t>
            </a:r>
            <a:endParaRPr b="0" lang="en-US" sz="4400" spc="-1" strike="noStrike">
              <a:solidFill>
                <a:srgbClr val="000000"/>
              </a:solidFill>
              <a:latin typeface="Calibri"/>
            </a:endParaRPr>
          </a:p>
        </p:txBody>
      </p:sp>
      <p:sp>
        <p:nvSpPr>
          <p:cNvPr id="1390" name="PlaceHolder 2"/>
          <p:cNvSpPr>
            <a:spLocks noGrp="1"/>
          </p:cNvSpPr>
          <p:nvPr>
            <p:ph/>
          </p:nvPr>
        </p:nvSpPr>
        <p:spPr>
          <a:xfrm>
            <a:off x="0" y="1773360"/>
            <a:ext cx="7772400" cy="424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Een tekort aan vet leidt tot:</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belemmering groei</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oortplantingsproblemen i.v.m. gebrek geslachtshormonen</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conditieverslechtering hoornige structuren (nagel, hoef, vacht en huid)</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ermagering (achteruitgang voedingsconditie)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Een overmaat aan vet leid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vergewicht (obesit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verhoogd risico op hart- en vaatziekten en stofwisselingsziekten</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9072-B0E3-474C-AA4A-E8CC498B6CE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2" name="Rectangle 6"/>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a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Proteï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Proteïne</a:t>
            </a:r>
            <a:endParaRPr b="0" lang="en-US" sz="2800" spc="-1" strike="noStrike">
              <a:solidFill>
                <a:srgbClr val="000000"/>
              </a:solidFill>
              <a:latin typeface="Calibri"/>
            </a:endParaRPr>
          </a:p>
        </p:txBody>
      </p:sp>
      <p:sp>
        <p:nvSpPr>
          <p:cNvPr id="1394" name=""/>
          <p:cNvSpPr txBox="1"/>
          <p:nvPr/>
        </p:nvSpPr>
        <p:spPr>
          <a:xfrm>
            <a:off x="457200" y="1979640"/>
            <a:ext cx="7773840" cy="4113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eiwitten) bestaan ui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 = Kool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 = Wate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 = Zuu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 = Stik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585B-C958-4C76-A375-11A5795D121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6" name="AutoShape 6"/>
          <p:cNvSpPr/>
          <p:nvPr/>
        </p:nvSpPr>
        <p:spPr>
          <a:xfrm>
            <a:off x="2771640" y="2492280"/>
            <a:ext cx="574920" cy="1944720"/>
          </a:xfrm>
          <a:custGeom>
            <a:avLst/>
            <a:gdLst>
              <a:gd name="textAreaLeft" fmla="*/ 0 w 574920"/>
              <a:gd name="textAreaRight" fmla="*/ 207720 w 5749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7"/>
          <p:cNvSpPr/>
          <p:nvPr/>
        </p:nvSpPr>
        <p:spPr>
          <a:xfrm>
            <a:off x="2843280" y="32130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Aminozuren</a:t>
            </a:r>
            <a:endParaRPr b="0" lang="en-US" sz="2000" spc="-1" strike="noStrike">
              <a:solidFill>
                <a:srgbClr val="000000"/>
              </a:solidFill>
              <a:latin typeface="Arial"/>
            </a:endParaRPr>
          </a:p>
        </p:txBody>
      </p:sp>
      <p:pic>
        <p:nvPicPr>
          <p:cNvPr id="1398" name="Picture 11" descr="0_aminozuur_eiwit"/>
          <p:cNvPicPr/>
          <p:nvPr/>
        </p:nvPicPr>
        <p:blipFill>
          <a:blip r:embed="rId1"/>
          <a:srcRect l="46752" t="0" r="0" b="0"/>
          <a:stretch/>
        </p:blipFill>
        <p:spPr>
          <a:xfrm>
            <a:off x="4983120" y="620640"/>
            <a:ext cx="3765600" cy="5761080"/>
          </a:xfrm>
          <a:prstGeom prst="rect">
            <a:avLst/>
          </a:prstGeom>
          <a:ln w="0">
            <a:noFill/>
          </a:ln>
        </p:spPr>
      </p:pic>
      <p:sp>
        <p:nvSpPr>
          <p:cNvPr id="1399" name="Rectangle 12"/>
          <p:cNvSpPr/>
          <p:nvPr/>
        </p:nvSpPr>
        <p:spPr>
          <a:xfrm>
            <a:off x="468360" y="5392800"/>
            <a:ext cx="57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r zijn 21 soorten aminozu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De soorten, volgorde en opbouw van de aminozuren geeft ieder eiwit zijn specifieke eigensc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a:t>
            </a:r>
            <a:endParaRPr b="0" lang="en-US" sz="2800" spc="-1" strike="noStrike">
              <a:solidFill>
                <a:srgbClr val="000000"/>
              </a:solidFill>
              <a:latin typeface="Calibri"/>
            </a:endParaRPr>
          </a:p>
        </p:txBody>
      </p:sp>
      <p:sp>
        <p:nvSpPr>
          <p:cNvPr id="133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rPr>
              <a:t>Waar denk je aan bij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364E-9446-43B5-9A0E-3FA6F30ECC7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37" name="AutoShape 6"/>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utoShape 8"/>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9" name="Afbeelding 6" descr=""/>
          <p:cNvPicPr/>
          <p:nvPr/>
        </p:nvPicPr>
        <p:blipFill>
          <a:blip r:embed="rId1"/>
          <a:srcRect l="0" t="0" r="11195" b="40426"/>
          <a:stretch/>
        </p:blipFill>
        <p:spPr>
          <a:xfrm>
            <a:off x="4788000" y="2960640"/>
            <a:ext cx="3600360" cy="2016000"/>
          </a:xfrm>
          <a:prstGeom prst="rect">
            <a:avLst/>
          </a:prstGeom>
          <a:ln w="0">
            <a:noFill/>
          </a:ln>
        </p:spPr>
      </p:pic>
      <p:pic>
        <p:nvPicPr>
          <p:cNvPr id="1340" name="Afbeelding 7" descr=""/>
          <p:cNvPicPr/>
          <p:nvPr/>
        </p:nvPicPr>
        <p:blipFill>
          <a:blip r:embed="rId2"/>
          <a:stretch/>
        </p:blipFill>
        <p:spPr>
          <a:xfrm>
            <a:off x="739800" y="2960640"/>
            <a:ext cx="3608280" cy="202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4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minozuren</a:t>
            </a:r>
            <a:endParaRPr b="0" lang="en-US" sz="2800" spc="-1" strike="noStrike">
              <a:solidFill>
                <a:srgbClr val="000000"/>
              </a:solidFill>
              <a:latin typeface="Calibri"/>
            </a:endParaRPr>
          </a:p>
        </p:txBody>
      </p:sp>
      <p:sp>
        <p:nvSpPr>
          <p:cNvPr id="140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2740-6FCF-458A-A422-DEDCF2AD440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2" name="Text Box 8"/>
          <p:cNvSpPr/>
          <p:nvPr/>
        </p:nvSpPr>
        <p:spPr>
          <a:xfrm>
            <a:off x="468360" y="1612800"/>
            <a:ext cx="684036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Aminozuren kun je verdelen 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unnen niet door lichaam zelf worden aangemaak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opname door voeding</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en eiwitt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iet 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an lichaam zelf aanmak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 eiwit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eiwitten</a:t>
            </a:r>
            <a:endParaRPr b="0" lang="en-US" sz="2800" spc="-1" strike="noStrike">
              <a:solidFill>
                <a:srgbClr val="000000"/>
              </a:solidFill>
              <a:latin typeface="Calibri"/>
            </a:endParaRPr>
          </a:p>
        </p:txBody>
      </p:sp>
      <p:sp>
        <p:nvSpPr>
          <p:cNvPr id="1404"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ouwsto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Transporteiwi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Hormon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Enzym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Afwee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Waterhuishouding </a:t>
            </a:r>
            <a:endParaRPr b="0" lang="en-US" sz="1800" spc="-1" strike="noStrike">
              <a:solidFill>
                <a:srgbClr val="000000"/>
              </a:solidFill>
              <a:latin typeface="Calibri"/>
            </a:endParaRPr>
          </a:p>
        </p:txBody>
      </p:sp>
      <p:sp>
        <p:nvSpPr>
          <p:cNvPr id="140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F8D5-C37D-46D0-913B-C2D420F7551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Eiwitbronnen</a:t>
            </a:r>
            <a:endParaRPr b="0" lang="en-US" sz="2800" spc="-1" strike="noStrike">
              <a:solidFill>
                <a:srgbClr val="000000"/>
              </a:solidFill>
              <a:latin typeface="Calibri"/>
            </a:endParaRPr>
          </a:p>
        </p:txBody>
      </p:sp>
      <p:pic>
        <p:nvPicPr>
          <p:cNvPr id="1407" name="Picture 4" descr=""/>
          <p:cNvPicPr/>
          <p:nvPr/>
        </p:nvPicPr>
        <p:blipFill>
          <a:blip r:embed="rId1"/>
          <a:srcRect l="2116" t="0" r="0" b="0"/>
          <a:stretch/>
        </p:blipFill>
        <p:spPr>
          <a:xfrm>
            <a:off x="2268360" y="2639880"/>
            <a:ext cx="3672000" cy="2505240"/>
          </a:xfrm>
          <a:prstGeom prst="rect">
            <a:avLst/>
          </a:prstGeom>
          <a:ln w="0">
            <a:noFill/>
          </a:ln>
        </p:spPr>
      </p:pic>
      <p:sp>
        <p:nvSpPr>
          <p:cNvPr id="140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704D-860A-44FC-8CB3-53991D7703E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9" name="Text Box 5"/>
          <p:cNvSpPr/>
          <p:nvPr/>
        </p:nvSpPr>
        <p:spPr>
          <a:xfrm>
            <a:off x="611280" y="1700280"/>
            <a:ext cx="8137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eiwitten: vlees, vis, eieren en melkproduc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eiwitten:bonen, linzen, erwten, granen en soj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en overmaat aan eiwitten</a:t>
            </a:r>
            <a:endParaRPr b="0" lang="en-US" sz="2800" spc="-1" strike="noStrike">
              <a:solidFill>
                <a:srgbClr val="000000"/>
              </a:solidFill>
              <a:latin typeface="Calibri"/>
            </a:endParaRPr>
          </a:p>
        </p:txBody>
      </p:sp>
      <p:sp>
        <p:nvSpPr>
          <p:cNvPr id="1411" name=""/>
          <p:cNvSpPr txBox="1"/>
          <p:nvPr/>
        </p:nvSpPr>
        <p:spPr>
          <a:xfrm>
            <a:off x="456840" y="1773000"/>
            <a:ext cx="7210440" cy="4113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ekort leidt to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roeiacht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lies van spierweefse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loedarmoed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fwisselingsstoorniss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gere we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conditi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it wordt veroorzaakt door:</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voldoende opname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kwaliteit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hoogde afbraak van lichaams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1FBD-1D98-497C-918C-9ED436C6102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3" name="Text Box 4"/>
          <p:cNvSpPr/>
          <p:nvPr/>
        </p:nvSpPr>
        <p:spPr>
          <a:xfrm>
            <a:off x="4643280" y="1776240"/>
            <a:ext cx="396108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ea typeface="ＭＳ Ｐゴシック"/>
              </a:rPr>
              <a:t>Overmaat aan eiwit leidt to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diarree (gisting van resteiwitten in de dikke dar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uitdroging (verhoogde uitscheiding eiwitten via urin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overbelasting van nie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icronutriënten</a:t>
            </a:r>
            <a:endParaRPr b="0" lang="en-US" sz="2800" spc="-1" strike="noStrike">
              <a:solidFill>
                <a:srgbClr val="000000"/>
              </a:solidFill>
              <a:latin typeface="Calibri"/>
            </a:endParaRPr>
          </a:p>
        </p:txBody>
      </p:sp>
      <p:sp>
        <p:nvSpPr>
          <p:cNvPr id="141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Micronutriënten zijn voedingsstoffen die in kleine hoeveelheiden nodig zijn voor het normaal functioneren van het organis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Mineralen</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Vitamines</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B031-6207-47B9-9C23-C67F652ED64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3DAD-C4C2-441A-B97A-0DAA387EBC4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8" name="Rectangle 5"/>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Mineral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ea typeface="Arial"/>
              </a:rPr>
              <a:t>Mineralen</a:t>
            </a:r>
            <a:endParaRPr b="0" lang="en-US" sz="4400" spc="-1" strike="noStrike">
              <a:solidFill>
                <a:srgbClr val="000000"/>
              </a:solidFill>
              <a:latin typeface="Calibri"/>
            </a:endParaRPr>
          </a:p>
        </p:txBody>
      </p:sp>
      <p:sp>
        <p:nvSpPr>
          <p:cNvPr id="1420" name=""/>
          <p:cNvSpPr txBox="1"/>
          <p:nvPr/>
        </p:nvSpPr>
        <p:spPr>
          <a:xfrm>
            <a:off x="457200" y="1628640"/>
            <a:ext cx="8075520" cy="4113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Deze kunnen ingedeeld worden i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1. macro-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2. micro-elementen (sporen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5095-1EAB-4D21-878B-418001F9BE1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acro-elementen</a:t>
            </a:r>
            <a:endParaRPr b="0" lang="en-US" sz="4400" spc="-1" strike="noStrike">
              <a:solidFill>
                <a:srgbClr val="000000"/>
              </a:solidFill>
              <a:latin typeface="Calibri"/>
            </a:endParaRPr>
          </a:p>
        </p:txBody>
      </p:sp>
      <p:sp>
        <p:nvSpPr>
          <p:cNvPr id="1423" name="PlaceHolder 2"/>
          <p:cNvSpPr>
            <a:spLocks noGrp="1"/>
          </p:cNvSpPr>
          <p:nvPr>
            <p:ph/>
          </p:nvPr>
        </p:nvSpPr>
        <p:spPr>
          <a:xfrm>
            <a:off x="457200" y="1915920"/>
            <a:ext cx="6851520" cy="4113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Deze zijn grotere hoeveelheden nodig in het lichaam. </a:t>
            </a:r>
            <a:endParaRPr b="0" lang="en-US" sz="1800" spc="-1" strike="noStrike">
              <a:solidFill>
                <a:srgbClr val="000000"/>
              </a:solidFill>
              <a:latin typeface="Calibri"/>
            </a:endParaRPr>
          </a:p>
        </p:txBody>
      </p:sp>
      <p:graphicFrame>
        <p:nvGraphicFramePr>
          <p:cNvPr id="1424" name=""/>
          <p:cNvGraphicFramePr/>
          <p:nvPr/>
        </p:nvGraphicFramePr>
        <p:xfrm>
          <a:off x="539640" y="2924280"/>
          <a:ext cx="7632720" cy="2525760"/>
        </p:xfrm>
        <a:graphic>
          <a:graphicData uri="http://schemas.openxmlformats.org/drawingml/2006/table">
            <a:tbl>
              <a:tblPr/>
              <a:tblGrid>
                <a:gridCol w="2946600"/>
                <a:gridCol w="4686120"/>
              </a:tblGrid>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ffff"/>
                          </a:solidFill>
                          <a:latin typeface="Arial"/>
                          <a:ea typeface="Times New Roman"/>
                        </a:rPr>
                        <a:t>Mineraal</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alcium (C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pbouw van het skele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Fosfor (P)</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verdracht van energ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Kalium (K)/ Natrium (Na)</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venwicht van de ionen i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Magnesium (M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impuls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5"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8313-63E3-4FEF-8344-8D83CE4B8A88}"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icro-elementen</a:t>
            </a:r>
            <a:endParaRPr b="0" lang="en-US" sz="4400" spc="-1" strike="noStrike">
              <a:solidFill>
                <a:srgbClr val="000000"/>
              </a:solidFill>
              <a:latin typeface="Calibri"/>
            </a:endParaRPr>
          </a:p>
        </p:txBody>
      </p:sp>
      <p:sp>
        <p:nvSpPr>
          <p:cNvPr id="1427" name="PlaceHolder 2"/>
          <p:cNvSpPr>
            <a:spLocks noGrp="1"/>
          </p:cNvSpPr>
          <p:nvPr>
            <p:ph/>
          </p:nvPr>
        </p:nvSpPr>
        <p:spPr>
          <a:xfrm>
            <a:off x="456840" y="1916280"/>
            <a:ext cx="7715160" cy="79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Ze werken als katalysator (versnellen scheikundige reacties in het lichaam) bij stofwisselingsprocesse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28" name=""/>
          <p:cNvGraphicFramePr/>
          <p:nvPr/>
        </p:nvGraphicFramePr>
        <p:xfrm>
          <a:off x="611280" y="2852640"/>
          <a:ext cx="7921440" cy="2874960"/>
        </p:xfrm>
        <a:graphic>
          <a:graphicData uri="http://schemas.openxmlformats.org/drawingml/2006/table">
            <a:tbl>
              <a:tblPr/>
              <a:tblGrid>
                <a:gridCol w="2052720"/>
                <a:gridCol w="5868720"/>
              </a:tblGrid>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Mineraal</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Belangrijkste functi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50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Koper (Cu)</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ynthese van de pigmenten i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Jodium (I)</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Werking van de schildklier</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2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elenium (S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ntioxidan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angaan (M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orming van het kraakbeen en de vach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IJzer (F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anmaak van hemoglobine in de rode bloedlichaampjes</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Zink (Z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Gezondheid va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9"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063C-F9A5-4DE8-8984-60BD1FD136A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DC36-2F0E-4B69-B0A3-196EA591176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1" name="Rectangle 7"/>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Vitamin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smiddel versus voedingsstof</a:t>
            </a:r>
            <a:endParaRPr b="0" lang="en-US" sz="2800" spc="-1" strike="noStrike">
              <a:solidFill>
                <a:srgbClr val="000000"/>
              </a:solidFill>
              <a:latin typeface="Calibri"/>
            </a:endParaRPr>
          </a:p>
        </p:txBody>
      </p:sp>
      <p:sp>
        <p:nvSpPr>
          <p:cNvPr id="1342"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middel</a:t>
            </a:r>
            <a:br>
              <a:rPr sz="2800"/>
            </a:br>
            <a:r>
              <a:rPr b="0" lang="nl-NL" sz="2800" spc="-1" strike="noStrike">
                <a:solidFill>
                  <a:srgbClr val="000000"/>
                </a:solidFill>
                <a:latin typeface="Arial"/>
                <a:ea typeface="ＭＳ Ｐゴシック"/>
              </a:rPr>
              <a:t>Alles wat je eet en drink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stof</a:t>
            </a:r>
            <a:br>
              <a:rPr sz="2800"/>
            </a:br>
            <a:r>
              <a:rPr b="0" lang="nl-NL" sz="2800" spc="-1" strike="noStrike">
                <a:solidFill>
                  <a:srgbClr val="000000"/>
                </a:solidFill>
                <a:latin typeface="Arial"/>
                <a:ea typeface="ＭＳ Ｐゴシック"/>
              </a:rPr>
              <a:t>Bruikbare bestanddelen in een voedingsmiddel</a:t>
            </a:r>
            <a:endParaRPr b="0" lang="en-US" sz="2800" spc="-1" strike="noStrike">
              <a:solidFill>
                <a:srgbClr val="000000"/>
              </a:solidFill>
              <a:latin typeface="Calibri"/>
            </a:endParaRPr>
          </a:p>
        </p:txBody>
      </p:sp>
      <p:sp>
        <p:nvSpPr>
          <p:cNvPr id="134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2EFC-2975-4C92-A457-2BEBC0A480F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itamines</a:t>
            </a:r>
            <a:endParaRPr b="0" lang="en-US" sz="2800" spc="-1" strike="noStrike">
              <a:solidFill>
                <a:srgbClr val="000000"/>
              </a:solidFill>
              <a:latin typeface="Calibri"/>
            </a:endParaRPr>
          </a:p>
        </p:txBody>
      </p:sp>
      <p:sp>
        <p:nvSpPr>
          <p:cNvPr id="1433" name=""/>
          <p:cNvSpPr txBox="1"/>
          <p:nvPr/>
        </p:nvSpPr>
        <p:spPr>
          <a:xfrm>
            <a:off x="456840" y="1915920"/>
            <a:ext cx="8147160" cy="411300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Je kunt vitamines in twee groepen indelen:</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Vet oplosbare (A, D, E en K)</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Water oplosbare. (B, C, H en PP)</a:t>
            </a:r>
            <a:endParaRPr b="0" lang="en-US" sz="1700" spc="-1" strike="noStrike">
              <a:solidFill>
                <a:srgbClr val="000000"/>
              </a:solidFill>
              <a:latin typeface="Calibri"/>
            </a:endParaRPr>
          </a:p>
        </p:txBody>
      </p:sp>
      <p:sp>
        <p:nvSpPr>
          <p:cNvPr id="14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CB39-5ED7-4751-A800-E12616EB949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t oplosbare vitamines</a:t>
            </a:r>
            <a:endParaRPr b="0" lang="en-US" sz="2400" spc="-1" strike="noStrike">
              <a:solidFill>
                <a:srgbClr val="000000"/>
              </a:solidFill>
              <a:latin typeface="Calibri"/>
            </a:endParaRPr>
          </a:p>
        </p:txBody>
      </p:sp>
      <p:graphicFrame>
        <p:nvGraphicFramePr>
          <p:cNvPr id="1436" name=""/>
          <p:cNvGraphicFramePr/>
          <p:nvPr/>
        </p:nvGraphicFramePr>
        <p:xfrm>
          <a:off x="539640" y="1844640"/>
          <a:ext cx="6275520" cy="2449440"/>
        </p:xfrm>
        <a:graphic>
          <a:graphicData uri="http://schemas.openxmlformats.org/drawingml/2006/table">
            <a:tbl>
              <a:tblPr/>
              <a:tblGrid>
                <a:gridCol w="2422800"/>
                <a:gridCol w="3852720"/>
              </a:tblGrid>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503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icht, vernieuwing van de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505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tofwisseling van calcium en fosfo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escherming tegen celoxida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K</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loedstollin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66A2-3BD9-401A-8572-F5278859E5F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8" name="Text Box 140"/>
          <p:cNvSpPr/>
          <p:nvPr/>
        </p:nvSpPr>
        <p:spPr>
          <a:xfrm>
            <a:off x="684360" y="4869000"/>
            <a:ext cx="78483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amen met vet uit de voeding door de dunne darm opgenomen en naar de lever vervoe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ij overmatige inname stapelt deze groep zich op in het lichaam, waardoor ze toxisch (giftig) kunnen worde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Water oplosbare vitamines</a:t>
            </a:r>
            <a:endParaRPr b="0" lang="en-US" sz="2100" spc="-1" strike="noStrike">
              <a:solidFill>
                <a:srgbClr val="000000"/>
              </a:solidFill>
              <a:latin typeface="Calibri"/>
            </a:endParaRPr>
          </a:p>
        </p:txBody>
      </p:sp>
      <p:graphicFrame>
        <p:nvGraphicFramePr>
          <p:cNvPr id="1440" name=""/>
          <p:cNvGraphicFramePr/>
          <p:nvPr/>
        </p:nvGraphicFramePr>
        <p:xfrm>
          <a:off x="601560" y="1557360"/>
          <a:ext cx="8147160" cy="4113360"/>
        </p:xfrm>
        <a:graphic>
          <a:graphicData uri="http://schemas.openxmlformats.org/drawingml/2006/table">
            <a:tbl>
              <a:tblPr/>
              <a:tblGrid>
                <a:gridCol w="4114800"/>
                <a:gridCol w="4032360"/>
              </a:tblGrid>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 (thi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stelsel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2 (riboflav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5 (pantotheen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Groei,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6 (pyridox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hol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ynthese van fosforlipid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2 (cyanocobalamine) en folium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Vorming van bloed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PP (nicot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H (biot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vach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 (ascorb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Antioxidant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4A43-8580-4A51-B453-4B1A72B1B65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42" name="Text Box 135"/>
          <p:cNvSpPr/>
          <p:nvPr/>
        </p:nvSpPr>
        <p:spPr>
          <a:xfrm>
            <a:off x="611280" y="5962680"/>
            <a:ext cx="784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name in de darmen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uitscheiding in de urin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611280" y="256500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ea typeface="ＭＳ Ｐゴシック"/>
              </a:rPr>
              <a:t>Vragen?</a:t>
            </a:r>
            <a:endParaRPr b="0" lang="en-US" sz="4400" spc="-1" strike="noStrike">
              <a:solidFill>
                <a:srgbClr val="000000"/>
              </a:solidFill>
              <a:latin typeface="Calibri"/>
            </a:endParaRPr>
          </a:p>
        </p:txBody>
      </p:sp>
      <p:sp>
        <p:nvSpPr>
          <p:cNvPr id="14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95A5-5B18-4717-9742-A59BCC39E14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95280" y="620280"/>
            <a:ext cx="7773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Voedingstof of nutriënt</a:t>
            </a:r>
            <a:endParaRPr b="0" lang="en-US" sz="2800" spc="-1" strike="noStrike">
              <a:solidFill>
                <a:srgbClr val="000000"/>
              </a:solidFill>
              <a:latin typeface="Calibri"/>
            </a:endParaRPr>
          </a:p>
        </p:txBody>
      </p:sp>
      <p:sp>
        <p:nvSpPr>
          <p:cNvPr id="1345" name=""/>
          <p:cNvSpPr txBox="1"/>
          <p:nvPr/>
        </p:nvSpPr>
        <p:spPr>
          <a:xfrm>
            <a:off x="457200" y="1628640"/>
            <a:ext cx="7773840" cy="411336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Een nutriënt (voedingsstof) is elk molecuul dat door het lichaam opgenomen kan worden en dat tevens door he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lichaam nuttig gebruikt kan worden.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Bij dieren worden deze stoffen gewoonlijk via de spijsvertering opgenomen.</a:t>
            </a:r>
            <a:r>
              <a:rPr b="0" lang="nl-NL" sz="1700" spc="-1" strike="noStrike">
                <a:solidFill>
                  <a:srgbClr val="ff0000"/>
                </a:solidFill>
                <a:latin typeface="Arial"/>
                <a:ea typeface="ＭＳ Ｐゴシック"/>
              </a:rPr>
              <a: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Nutriënten zijn onder te verdelen in twee groepen:</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acronutriënten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icronutriënten</a:t>
            </a:r>
            <a:endParaRPr b="0" lang="en-US" sz="1700" spc="-1" strike="noStrike">
              <a:solidFill>
                <a:srgbClr val="000000"/>
              </a:solidFill>
              <a:latin typeface="Calibri"/>
            </a:endParaRPr>
          </a:p>
        </p:txBody>
      </p:sp>
      <p:sp>
        <p:nvSpPr>
          <p:cNvPr id="134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B2CF-B70A-42AA-85C8-0E3993E6DF7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 </a:t>
            </a:r>
            <a:r>
              <a:rPr b="1" lang="nl-NL"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348"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Zoek op en werk uit: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5 voedingstoff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functies van deze voedingsstoffen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In welke voedingsmiddelen voor onze dieren komen deze voedingsstoffen het meeste vo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elke voedingsmiddelen gebruiken ze bij jouw op het werk/thui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56A2-F02C-41A2-B631-90A3E44BE7C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Essentiele nutriënt / voedingsstof</a:t>
            </a:r>
            <a:endParaRPr b="0" lang="en-US" sz="2800" spc="-1" strike="noStrike">
              <a:solidFill>
                <a:srgbClr val="000000"/>
              </a:solidFill>
              <a:latin typeface="Calibri"/>
            </a:endParaRPr>
          </a:p>
        </p:txBody>
      </p:sp>
      <p:sp>
        <p:nvSpPr>
          <p:cNvPr id="135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edingsstof die het lichaam niet zelf kan aanmake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voedingsstof zal in het voedsel  </a:t>
            </a:r>
            <a:r>
              <a:rPr b="1" lang="nl-NL" sz="2800" spc="-1" strike="noStrike">
                <a:solidFill>
                  <a:srgbClr val="000000"/>
                </a:solidFill>
                <a:latin typeface="Arial"/>
              </a:rPr>
              <a:t>aanwezig</a:t>
            </a:r>
            <a:r>
              <a:rPr b="0" lang="nl-NL" sz="2800" spc="-1" strike="noStrike">
                <a:solidFill>
                  <a:srgbClr val="000000"/>
                </a:solidFill>
                <a:latin typeface="Arial"/>
              </a:rPr>
              <a:t> moeten zij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itamine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623C-5E45-4CA8-B399-CD6019883F4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acronutriënten</a:t>
            </a:r>
            <a:endParaRPr b="0" lang="en-US" sz="2800" spc="-1" strike="noStrike">
              <a:solidFill>
                <a:srgbClr val="000000"/>
              </a:solidFill>
              <a:latin typeface="Calibri"/>
            </a:endParaRPr>
          </a:p>
        </p:txBody>
      </p:sp>
      <p:sp>
        <p:nvSpPr>
          <p:cNvPr id="1354" name=""/>
          <p:cNvSpPr txBox="1"/>
          <p:nvPr/>
        </p:nvSpPr>
        <p:spPr>
          <a:xfrm>
            <a:off x="457200" y="1915920"/>
            <a:ext cx="8291520" cy="4113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u="sng">
                <a:solidFill>
                  <a:srgbClr val="000000"/>
                </a:solidFill>
                <a:uFillTx/>
                <a:latin typeface="Arial"/>
                <a:ea typeface="ＭＳ Ｐゴシック"/>
              </a:rPr>
              <a:t>Macronutriënt</a:t>
            </a:r>
            <a:r>
              <a:rPr b="0" lang="nl-NL" sz="1800" spc="-1" strike="noStrike">
                <a:solidFill>
                  <a:srgbClr val="000000"/>
                </a:solidFill>
                <a:latin typeface="Arial"/>
                <a:ea typeface="ＭＳ Ｐゴシック"/>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	</a:t>
            </a:r>
            <a:r>
              <a:rPr b="1" lang="nl-NL" sz="1800" spc="-1" strike="noStrike">
                <a:solidFill>
                  <a:srgbClr val="000000"/>
                </a:solidFill>
                <a:latin typeface="Arial"/>
                <a:ea typeface="ＭＳ Ｐゴシック"/>
              </a:rPr>
              <a:t>(Organische) voedingsstof</a:t>
            </a:r>
            <a:r>
              <a:rPr b="0" lang="nl-NL" sz="1800" spc="-1" strike="noStrike">
                <a:solidFill>
                  <a:srgbClr val="000000"/>
                </a:solidFill>
                <a:latin typeface="Arial"/>
                <a:ea typeface="ＭＳ Ｐゴシック"/>
              </a:rPr>
              <a:t> dat in </a:t>
            </a:r>
            <a:r>
              <a:rPr b="1" lang="nl-NL" sz="1800" spc="-1" strike="noStrike">
                <a:solidFill>
                  <a:srgbClr val="000000"/>
                </a:solidFill>
                <a:latin typeface="Arial"/>
                <a:ea typeface="ＭＳ Ｐゴシック"/>
              </a:rPr>
              <a:t>grote </a:t>
            </a:r>
            <a:r>
              <a:rPr b="0" lang="nl-NL" sz="1800" spc="-1" strike="noStrike">
                <a:solidFill>
                  <a:srgbClr val="000000"/>
                </a:solidFill>
                <a:latin typeface="Arial"/>
                <a:ea typeface="ＭＳ Ｐゴシック"/>
              </a:rPr>
              <a:t>hoeveelheden nodig is voor het normaal functioneren van het organis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r>
              <a:rPr b="0" lang="nl-NL" sz="1600" spc="-1" strike="noStrike">
                <a:solidFill>
                  <a:srgbClr val="000000"/>
                </a:solidFill>
                <a:latin typeface="Arial"/>
                <a:ea typeface="ＭＳ Ｐゴシック"/>
              </a:rPr>
              <a:t>Organische stof = bevat koolstof (C) en waterstof (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endParaRPr b="0" lang="en-US" sz="1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Koolhydrat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Lipiden (vetten) =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eschermende stof + bouwstof + brand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BC76-AB47-4832-B9D9-9FEA9B27E6B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349000"/>
            <a:ext cx="82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Koolhydraat</a:t>
            </a:r>
            <a:endParaRPr b="0" lang="en-US" sz="6000" spc="-1" strike="noStrike">
              <a:solidFill>
                <a:srgbClr val="000000"/>
              </a:solidFill>
              <a:latin typeface="Calibri"/>
            </a:endParaRPr>
          </a:p>
        </p:txBody>
      </p:sp>
      <p:sp>
        <p:nvSpPr>
          <p:cNvPr id="13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CF08-145A-4207-B445-F3513E38D74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s koolhydraten</a:t>
            </a:r>
            <a:endParaRPr b="0" lang="en-US" sz="2800" spc="-1" strike="noStrike">
              <a:solidFill>
                <a:srgbClr val="000000"/>
              </a:solidFill>
              <a:latin typeface="Calibri"/>
            </a:endParaRPr>
          </a:p>
        </p:txBody>
      </p:sp>
      <p:sp>
        <p:nvSpPr>
          <p:cNvPr id="135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wel suikers of sachariden genoem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ren snelle energie</a:t>
            </a:r>
            <a:r>
              <a:rPr b="0" lang="nl-NL" sz="1800" spc="-1" strike="noStrike">
                <a:solidFill>
                  <a:srgbClr val="000000"/>
                </a:solidFill>
                <a:latin typeface="Wingdings"/>
                <a:ea typeface="Wingdings"/>
              </a:rPr>
              <a:t></a:t>
            </a:r>
            <a:r>
              <a:rPr b="0" lang="nl-NL" sz="1800" spc="-1" strike="noStrike">
                <a:solidFill>
                  <a:srgbClr val="000000"/>
                </a:solidFill>
                <a:latin typeface="Arial"/>
              </a:rPr>
              <a:t> monosaccharid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darmpassage </a:t>
            </a:r>
            <a:r>
              <a:rPr b="0" lang="nl-NL" sz="1800" spc="-1" strike="noStrike">
                <a:solidFill>
                  <a:srgbClr val="000000"/>
                </a:solidFill>
                <a:latin typeface="Wingdings"/>
                <a:ea typeface="Wingdings"/>
              </a:rPr>
              <a:t></a:t>
            </a:r>
            <a:r>
              <a:rPr b="0" lang="nl-NL" sz="1800" spc="-1" strike="noStrike">
                <a:solidFill>
                  <a:srgbClr val="000000"/>
                </a:solidFill>
                <a:latin typeface="Arial"/>
              </a:rPr>
              <a:t> lax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lume vergroten ontlasting</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andstof voor dikke darmcellen</a:t>
            </a:r>
            <a:r>
              <a:rPr b="0" lang="nl-NL" sz="1800" spc="-1" strike="noStrike">
                <a:solidFill>
                  <a:srgbClr val="000000"/>
                </a:solidFill>
                <a:latin typeface="Wingdings"/>
                <a:ea typeface="Wingdings"/>
              </a:rPr>
              <a:t></a:t>
            </a:r>
            <a:r>
              <a:rPr b="0" lang="nl-NL" sz="1800" spc="-1" strike="noStrike">
                <a:solidFill>
                  <a:srgbClr val="000000"/>
                </a:solidFill>
                <a:latin typeface="Arial"/>
              </a:rPr>
              <a:t> afbraakproduc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gezonde darmflora</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tragen opname glucose door darmwand</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B375-2EB2-45F2-B69C-AA53EDC68BC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Carolien Sengers</cp:lastModifiedBy>
  <cp:lastPrinted>2013-09-04T06:37:00Z</cp:lastPrinted>
  <dcterms:modified xsi:type="dcterms:W3CDTF">2018-09-07T06:11:52Z</dcterms:modified>
  <cp:revision>118</cp:revision>
  <dc:subject/>
  <dc:title>Gebruik van Powerpoint sjablonen</dc:title>
</cp:coreProperties>
</file>