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5F05-5222-4906-982D-F693EFA8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C10D-F7E0-4570-9931-CB9E7F94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6D11-3073-4379-991D-16555A5B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1693-F2CA-4748-AB81-26CA5BD1B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8557-F326-489F-804A-4FE2A055B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F1EA-9874-40C8-BA6C-6C47434E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1278-5A00-4A32-97E9-0584BD87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DEE3-026B-49FE-809E-F156B5EB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E32A-4FC6-4EA7-ACD4-E4C79684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450E-F9DE-4301-B87A-371DE81C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9AA5-1ED1-4458-AE57-F5A1B617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1CFF-8593-4E1F-9B98-A6AD2D46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6E0F-F912-49F8-8795-BC3AEAC0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EA61-1E02-40CC-AEF0-EF51F5CD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8739-2BE1-409F-86EF-0BB4B59B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1C26-D73D-4B94-821A-E23B6596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1A81-60B5-4F16-A96F-2621C581C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0590-2BD4-4E42-9D08-F38D4DCC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F99A-442A-4C54-914B-82532102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78B5-35F6-4A51-898E-0CFA3FAB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E514-8E1E-48AE-BB91-9414608D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FFAE-1DDA-49DD-B623-59BDAA7A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C60D-B81C-4A05-952B-A17883B8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EF3D-D7F7-459C-8ACF-7E624B53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9DC0-0010-404F-84A2-E9DAD0E0532B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DD7C-117A-4AB3-B6A4-AA18C4A405B9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Werkbeschrijvingen en bestekk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bela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en misverstanden met de kla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rekenen van de kosten (offert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uidelijkheid voor het persone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orkomen van misversta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bestek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juridisch docu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communicatiemidd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Uitgangspunt voor  calculatie en ram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eidraad voor de uitvoer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statiebeschrijv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midd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Juridisch documen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uidelijk over rechten en plich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1187280" y="2232000"/>
            <a:ext cx="518508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Communicatiemiddel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ussen opdrachtgever en uitvoerd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5" name="Picture 4" descr=""/>
          <p:cNvPicPr/>
          <p:nvPr/>
        </p:nvPicPr>
        <p:blipFill>
          <a:blip r:embed="rId1"/>
          <a:stretch/>
        </p:blipFill>
        <p:spPr>
          <a:xfrm>
            <a:off x="1476360" y="2235240"/>
            <a:ext cx="604836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Uitgangspunt voor calculati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owel opdrachgever als uitvoerder kunnen de kosten bereken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8" name="Picture 4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554364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Leidraad voor de uitvoer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statiebeschrijving. Het resultaat tel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1403280" y="2297160"/>
            <a:ext cx="655488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Control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ijn de afspraken nagekome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0" y="2465280"/>
            <a:ext cx="4859280" cy="43927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6" descr=""/>
          <p:cNvPicPr/>
          <p:nvPr/>
        </p:nvPicPr>
        <p:blipFill>
          <a:blip r:embed="rId2"/>
          <a:stretch/>
        </p:blipFill>
        <p:spPr>
          <a:xfrm>
            <a:off x="4427640" y="2492280"/>
            <a:ext cx="4716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Waaraan moet een goed bestek voldoen?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actuele gelijkwaardig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verdeling van verantwoordelijkhede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duidige besteks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geen verschil van mening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richte 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duidelijkheid over te gebruiken materialen en toelaatbare afwijk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ostenhomogenite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meer- of minderwerk voor afgesproken prijze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RAW- bestekk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RAW bestekken van de CRO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ntworpen voor de grond- water- en wegenbou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Nu ook voor de groene ruim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automatisee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De werkomschrijv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lle werkzaamheden voor het aanleggen of onderhouden van groen of een tu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 volgorde waarin ze worden uitgevoe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lgens een vast sche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 de hand van de inventaris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verzichtelij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09308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Standaardbepaling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est gebruikte bepal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astgelegd in een standaardwe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an toepassing bep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fwijkingen apart benoe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ofdstuk 51 voor de groenvoorzie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Voorbeeld standaard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tretch/>
        </p:blipFill>
        <p:spPr>
          <a:xfrm>
            <a:off x="611280" y="888840"/>
            <a:ext cx="820872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inschrijvingsstaat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amenvatting van het bestek voor calcul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7" name="Picture 4" descr=""/>
          <p:cNvPicPr/>
          <p:nvPr/>
        </p:nvPicPr>
        <p:blipFill>
          <a:blip r:embed="rId1"/>
          <a:stretch/>
        </p:blipFill>
        <p:spPr>
          <a:xfrm>
            <a:off x="971640" y="2017800"/>
            <a:ext cx="648000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overzich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aan te leggen of te beheren oppervlak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wijze van uitvoer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e verwerken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bereikbaar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grondsoo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Beschrijving van de werkzaamheden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delen van de werkzaam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mschrijven van de te verrichten werkzaam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van oppervlakten en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s en werkmetho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Voorbeeld van een indel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4167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Omschrijving per onderdeel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schrijven van de werkzaamheden d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schrijven van de materialen die gebruikt wor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s noemen d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methoden beschrijv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0" y="1967040"/>
            <a:ext cx="9144000" cy="489096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Een voorbeeld: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e bewerken oppervlak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dode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levende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keuzes (afhankelijk van de omstandig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methoden of -volgor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0:18:07Z</dcterms:created>
  <dc:creator>Peter</dc:creator>
  <dc:description/>
  <dc:language>en-US</dc:language>
  <cp:lastModifiedBy>johan</cp:lastModifiedBy>
  <dcterms:modified xsi:type="dcterms:W3CDTF">2014-04-28T15:05:17Z</dcterms:modified>
  <cp:revision>6</cp:revision>
  <dc:subject/>
  <dc:title>Werkbeschrijvingen en bestekken</dc:title>
</cp:coreProperties>
</file>