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CE78-1056-42F0-84F1-143296D1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E8D1-A2D7-484A-8C18-C67534E6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EA04-A898-4574-848D-03B4291DC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A953-A971-4DED-8C02-C0F5B50D8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0247-4506-4148-AA43-7AE4DF495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7BEB-4609-4938-BD6C-F7D68DF5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4BAA-51D8-4A2E-B6E5-FC136EE8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B5BC-0653-4EFC-B1BF-EE149F13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3272-EE9C-4BE5-87F3-95EC0CFF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19BC-0656-433D-817F-E916D7A4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36D7-5DBE-440F-BC50-7A7A0B98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29E0-4EEF-4C67-B041-8777D5FC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85B0-FD2B-4792-ACA7-07553D98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E710-47DB-4FC3-BA74-B8CD63E2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9063-F226-42AC-8CC2-6B16F6D9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7822-5EAF-48B5-867F-73028EFD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D4B0-511E-45C7-9E17-C266C6301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E872-6C41-4240-A548-C7474BC5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3A8B-90BC-40E5-9402-D9ACD190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5E50-8F57-495C-A15C-14806D1C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7776-4A29-4DBD-B871-50AD4B0D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0F17-3C38-4377-A366-166131C2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9693-F3C6-4EDE-995F-71A8178A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2B30-78D2-44A7-9F8A-78257A88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414B-5B08-4F7D-B189-D68FB074D163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53E8-EC78-4B0A-A9BD-CC0F9A2422A0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roenadviesburohoff.nl/fotoprojecten%20pag.%2011.htm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Werkvoorbereiding Onderhoud van Tuine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inventaris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heb i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veel vrag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keu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schiedenis van de t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et er wat worden verander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zit het met de verwerking van het afv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842472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kunt meestal maar 1 x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t ju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uw controles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raa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zoek het terrein/gebi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ken 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eschrijf de toest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derhoudstoe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waliteit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perk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gelijkh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ees hel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werkvoorbere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kl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persone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leveranci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je informatie overdraagbaar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aak/gebruik lijs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ventarisatiesyste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and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2857320" cy="2190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3716280"/>
            <a:ext cx="3238560" cy="2238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686040" y="2762280"/>
            <a:ext cx="5457960" cy="4095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524640" y="0"/>
            <a:ext cx="2619360" cy="2619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3419640" y="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Nieuw onderhoudswer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het werk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de klant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rijsopgave do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lanning m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personeel uitkiez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materiaal inze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de randvoorwaarden we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inventarisat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 is h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is de toegankelijkhe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kan wel en wat kan nie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ijn er andere beperking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is er allema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verwacht de kl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mag het kost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316080"/>
            <a:ext cx="856908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8360" y="1700280"/>
            <a:ext cx="368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Hoe is de ligging in de buurt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w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veelh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n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en van ongeregelde z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Peter</cp:lastModifiedBy>
  <dcterms:modified xsi:type="dcterms:W3CDTF">2008-09-18T19:19:59Z</dcterms:modified>
  <cp:revision>4</cp:revision>
  <dc:subject/>
  <dc:title>Werkvoorbereiding</dc:title>
</cp:coreProperties>
</file>