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28B7-9825-4034-AF3D-3F21E54B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40FD-B6EC-47A3-9F38-4AAF2907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F8F3-8671-4C7B-B17A-67E1EB6C0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B6AF-A8F2-434B-BFEA-E82B761C0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D478-3C41-4B61-A978-8611F4BB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0D61-5931-41B9-9811-9A07A088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BDCA-40C5-4FC3-92DD-DA4479C4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764D-1189-4FD1-8E6E-5C072BBF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5D9B-6A5E-471F-A980-77E6454D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D1B8-714F-40B1-AEE2-3305AECE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6010-6C67-4E13-B8A1-1031E69B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CCB0-4DB5-42E4-9AFF-AFA98268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4A6D-5640-49C5-832C-4D4CD384C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 van het onderhoud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houdspla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houdsad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betekent dit allema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onderhoud is geen re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passen aan de wensen van de k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k als tegenvoorstellen niet aan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ueel op schrift vastleg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sschien in de vorm van een werkomschrijving of een best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 grote klanten: beeldbes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300720" y="4437000"/>
            <a:ext cx="284328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n je dit zonder overleg uitvoeren omdat je het nodig vind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71640" y="1401840"/>
            <a:ext cx="727236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s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totaal van alle werkzaamheden in een tu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eeld over de verschillende onderhoudsgro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eeld over de seiz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k materialen noemen (bijv. bemes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delen goed toeli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nodig noodzakelijke machines no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ermee kan worden gecalculeerd en offertes gemaa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kmanschap vraagt om veel kennis en ervaring en geen gezw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289320"/>
            <a:ext cx="5184720" cy="3568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084720" y="1484280"/>
            <a:ext cx="2857680" cy="3695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50920" y="1413000"/>
            <a:ext cx="2857320" cy="2381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851280" y="1268280"/>
            <a:ext cx="20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sad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werkzaamheden die nodig zijn om het gewenste niveau te bereiken of be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 noodzakelijke werkzaamheden het ee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seizoen uitsplit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nt kan bepalen welke werkzaamheden hij zelf kan of w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w vaktechnische inzicht is belangr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derhoudsadvies: vaak ter plaat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571840"/>
            <a:ext cx="2857680" cy="4286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987640" y="1125360"/>
            <a:ext cx="3381480" cy="5124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588000" y="2060640"/>
            <a:ext cx="22384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stel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houd in een tuin moet ergens toe le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anten hebben vaak een verwa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unnen vaktechnische obstakels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unnen financiele belemmering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klant betaalt, dus ook: bepa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8000" y="76464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l elke klant dit mooi vin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beeld van een bedo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oppervlakte die begroeid is met gras kan dien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op te voetb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kinderen tenten te laten bo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ook begroeid te zijn met bloeiende pla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dieren te ho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et onkruidvrij zijn, of juist n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vrij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hoog stel je een grasmachin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03280" y="1211400"/>
            <a:ext cx="619308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onderhoud erva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onderhoud je een speelveld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siergaz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bloemrijk grasvel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gazon wat in de schaduw li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als er dieren worden gehou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het pad onkruidvrij zijn of mag er ook wat op of overheen groei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76360" y="1168560"/>
            <a:ext cx="5977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weet je wat is gewen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de inventarisatie goed rondkij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len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raag van de klant beoordelen op de haalbaarheid en zonodig een tegenvoorstel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s kun je het gewoon z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55148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9:21:36Z</dcterms:created>
  <dc:creator>Administrator</dc:creator>
  <dc:description/>
  <dc:language>en-US</dc:language>
  <cp:lastModifiedBy>Administrator</cp:lastModifiedBy>
  <dcterms:modified xsi:type="dcterms:W3CDTF">2009-10-15T19:48:36Z</dcterms:modified>
  <cp:revision>2</cp:revision>
  <dc:subject/>
  <dc:title>Doel van het onderhoud, Onderhoudsplan Onderhoudsadvies</dc:title>
</cp:coreProperties>
</file>