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47B5-4C7B-4302-9339-4BB1D051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DCAF-1332-46B6-9C27-C2FBCB09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52B9-483C-4AB5-9AA1-426536E03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32C6-D8F6-489A-8C07-1731DCFB8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45FE-345D-4DF6-B039-42180BA0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3BDD-827A-46F5-8D90-BE29FA66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A6B0-F03D-47F5-8D5B-9253B87E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1C10-5373-4F1C-9734-3C5F8650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7BD9-8DBB-45E4-9534-942E4CAE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4723-A062-4FBA-A686-067119B4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AFDC-0AC0-4B1D-8729-19FE5F93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6631-C56F-4478-A229-0D53A85A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BC00-2DB6-4C08-8FCA-C4867CDA2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oorbereiding Tu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50920" y="1196640"/>
            <a:ext cx="5003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oting maken zie 3.2 van het digitale bo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57920" y="620280"/>
            <a:ext cx="23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d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groten is du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ijst van objectgegevens van de planinventarisatie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object de werkzaamheden uit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lissen hoe je het gaat aanpa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 welke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oeveel me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et begrotingsformulier zetten en op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niet vergeten een nota st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850920" y="1196640"/>
            <a:ext cx="5003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Het Groene B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3253" t="14943" r="9742" b="13575"/>
          <a:stretch/>
        </p:blipFill>
        <p:spPr>
          <a:xfrm>
            <a:off x="0" y="1413000"/>
            <a:ext cx="91440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vind je het groene boe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132000" y="4221000"/>
            <a:ext cx="9144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508640"/>
            <a:ext cx="17269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7956720" cy="66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686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het Begrotingsformulier, zie bo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vind je het begrotingsformul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21474600">
            <a:off x="395280" y="4437000"/>
            <a:ext cx="158436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4365720"/>
            <a:ext cx="201600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pak je dit a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m je lijst met obj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paal wat er voor moet worden ged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uik daarvoor het Groene B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benodigde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t dit in je begrotingsform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gebruik je het groene boe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udeer eerst de inhoudsopg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opruimen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grondwerk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klinkerverhardingen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briek gevond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 hier hoe lang je doet over een eenheid (bijv. een m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 ook hoeveel je doet in bijv. een uur (bijv. aantal m2 per 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t met hoeveel personen is gerek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met welke werktuigen is gerek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voorkom je dat je iets verg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5139" t="15755" r="12141" b="9810"/>
          <a:stretch/>
        </p:blipFill>
        <p:spPr>
          <a:xfrm>
            <a:off x="971640" y="1197000"/>
            <a:ext cx="7092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9:29:52Z</dcterms:created>
  <dc:creator>Administrator</dc:creator>
  <dc:description/>
  <dc:language>en-US</dc:language>
  <cp:lastModifiedBy>Administrator</cp:lastModifiedBy>
  <dcterms:modified xsi:type="dcterms:W3CDTF">2010-10-21T20:05:03Z</dcterms:modified>
  <cp:revision>3</cp:revision>
  <dc:subject/>
  <dc:title>Werkvoorbereiding Tuinen</dc:title>
</cp:coreProperties>
</file>