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6C61-9589-42AF-9862-23F937B05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493A-8137-4676-8BF2-0CBEF591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70EB-79F2-4493-A89C-F7F26BBDA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DC24-E258-4547-BEAD-CFFA4334C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99D0-D395-421C-B3C4-BF8B2FE0B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EC13-814C-4006-B6AF-063BB1708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C6AE-A19F-4F4A-912A-6D719D55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E2F0E-9A2C-4339-8EB6-455212D7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0A505-15BF-4C73-8F48-9F5405E8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DA70-F4CD-45D4-A5AE-99226FDC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367D-EEB5-4A01-817E-7EFBFB4A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49D4-4C25-4CCF-AB5A-FB8B0F83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A5A0-A931-445D-ACCD-79F2A1A8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8B3F-9B5D-4706-A86D-FA249011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C791D-B954-4081-A456-5D1C98C1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4FE0-D7CB-409C-AC44-F83F46723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9A4C-A9EC-435A-975C-AD0D2CE0A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6C30-F726-484E-B08E-CDF8A936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A846-9A79-4BE8-A627-546D9BCD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7F0F-BDA5-4892-A65D-B44FC378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CD3E-741B-4FB2-857D-8D5642D6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E2F1-ADA8-4798-B988-12BA07CB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D6FB-F07D-4797-A006-7D78C163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FCE8-197A-478C-B1CC-5598FBBF8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DCB7-D1A9-41D0-A3B8-78521234FDAC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1545C-0D94-42C1-A21E-701F5D0620A6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330066"/>
                </a:solidFill>
                <a:latin typeface="Arial"/>
              </a:rPr>
              <a:t>Bodem en bemesting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hebben planten nod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669780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elke meststoffen zijn e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rganische 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kelvoudige kunst-mestof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mengestelde kunst-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ologische 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Kunstme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6769440" cy="50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rganische mes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5905440" cy="44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at is nu het best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at hangt af hoe je het toepas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lke eenzijdige bemesting is onvolled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mbinatie van organische stoffen en mineralen is meestal het bes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rganische meststoffen voor het bodeml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ineralen voor de voe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elke meststoffen zijn er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stmeststoffen (van de chemische industrie du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ststoffen van natuurlijk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rganische meststoff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Kunstmeststoff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ikstofmeststoffen (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osfaatmeststoffen (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limeststoffen (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gnesiummeststoffen (M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ststoffen met spore-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mengestelde meststoffen (N+P+K+M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envoudig om het te ver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amensgestelde meststoff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28600" y="2576520"/>
            <a:ext cx="2695680" cy="26956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5602320" y="1719360"/>
            <a:ext cx="2128680" cy="212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3924360" y="3716280"/>
            <a:ext cx="140184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20072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rganische meststoff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komstig van dierlijk of plantaardig l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composteerd huisvui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vat vaak veel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stal lage gehaltes aan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stal een sterk bacterielevenle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l werk om het te ver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1520" y="0"/>
            <a:ext cx="606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rcRect l="0" t="0" r="0" b="6044"/>
          <a:stretch/>
        </p:blipFill>
        <p:spPr>
          <a:xfrm>
            <a:off x="468360" y="620640"/>
            <a:ext cx="7416720" cy="49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Meststoffen van natuurlijke oorspro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wonnen uit zee (alg, kora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komstig van fossiele oorsprong (guan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droogde organische meststoff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valproducten van slachterij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estproducten uit de industr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aak gemakkelijk te ver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6913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 groeiplaats: gron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langrijkste eis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 Verankering van het gew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 Voldoende groeikans 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. Bodemlu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. Bodemvo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. Voe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De voeding van plant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vengronds: vorming van suikers door zonlicht (assimilati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voer naar beneden (buitenste sapstroo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ndergronds: water met daarin mineralen opgelo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rvoer naar boven (binnenste sapstroo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apstroom onderbroken: afsterving van wort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24160" y="538200"/>
            <a:ext cx="629568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Om welke mineralen gaat het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grote hoeveelhe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ikstof (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Fosfaat (Phosfaat) (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alium (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agnesium (Mg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wavel 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kleine hoeveelhe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andere scheikundige elementen zoal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o, Ni, Si, Ba enz. (de zgn spore-elemente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aarin zitten deze voedings elemen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 In organische meststoff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almest, compost, slib, champost,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 In mineralen van biolog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wier, koraal, vogelmest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3. In kunstmatig gefabriceer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unstm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6840360" cy="51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Hoe weet je wat er nodig is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kan worden onderzocht in het labarotori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incent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demkundige laborato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costy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 onderzoek -&gt; adv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8:41:36Z</dcterms:created>
  <dc:creator>Peter</dc:creator>
  <dc:description/>
  <dc:language>en-US</dc:language>
  <cp:lastModifiedBy>Peter</cp:lastModifiedBy>
  <dcterms:modified xsi:type="dcterms:W3CDTF">2008-10-31T23:07:36Z</dcterms:modified>
  <cp:revision>8</cp:revision>
  <dc:subject/>
  <dc:title>Bodem en groen</dc:title>
</cp:coreProperties>
</file>