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C5E-BF04-4CB9-A9A8-E7114274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6091-5299-4B3F-8522-0662DE3D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A557-639E-4989-BE87-36605A45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DAF2-90C0-4879-BBD8-79D15A50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E869-BA1E-4233-877C-CDABFB4C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E6D2-57BB-4593-A66A-AF271E70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02D-8739-4D1B-8B20-65AFA867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1BE-AA31-4EA1-960A-84AC13C0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9A3-927A-410C-8825-B4A34781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17D7-DCC9-4D96-9D9E-0AC53014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C9E-2ED9-4F20-B380-73292BAE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86A9-8104-4051-9187-0B7E1DAA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FD80-ADB9-464F-8860-A3E64CC46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voorbereiding Tuin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roting maken zie 3.2 van het digitale bo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757920" y="620280"/>
            <a:ext cx="238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groten is du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ijst van objectgegevens van de planinventarisatie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bject de werkzaamheden uit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lissen hoe je het gaat aanp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 welk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oeveel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het begrotingsformulier zetten en op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niet vergeten een nota stu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850920" y="1196640"/>
            <a:ext cx="50036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uik Het Groene B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3253" t="14943" r="9742" b="13575"/>
          <a:stretch/>
        </p:blipFill>
        <p:spPr>
          <a:xfrm>
            <a:off x="0" y="1413000"/>
            <a:ext cx="91440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ind je het groene boe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132000" y="4221000"/>
            <a:ext cx="91440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4508640"/>
            <a:ext cx="1726920" cy="50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956720" cy="66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686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het Begrotingsformulier, zie boe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ind je het begrotingsformul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21474600">
            <a:off x="395280" y="4437000"/>
            <a:ext cx="158436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4365720"/>
            <a:ext cx="201600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pak je dit a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m je lijst met obje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paal wat er voor moet worden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uik daarvoor het Groene 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benodigde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t dit in je begrotingsform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gebruik je het groene bo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udeer eerst de inhoudsopg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opruim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grondwerk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 klinkerverhardingen ga je naar rubriek: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briek gevo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hier hoe lang je doet over een eenheid (bijv. een m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 ook hoeveel je doet in bijv. een uur (bijv. aantal m2 per 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indt met hoeveel personen is gerek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met welke werktuigen is gerek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voorkom je dat je iets verg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5139" t="15755" r="12141" b="9810"/>
          <a:stretch/>
        </p:blipFill>
        <p:spPr>
          <a:xfrm>
            <a:off x="971640" y="1197000"/>
            <a:ext cx="7092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9:29:52Z</dcterms:created>
  <dc:creator>Administrator</dc:creator>
  <dc:description/>
  <dc:language>en-US</dc:language>
  <cp:lastModifiedBy>Administrator</cp:lastModifiedBy>
  <dcterms:modified xsi:type="dcterms:W3CDTF">2010-10-21T20:05:03Z</dcterms:modified>
  <cp:revision>3</cp:revision>
  <dc:subject/>
  <dc:title>Werkvoorbereiding Tuinen</dc:title>
</cp:coreProperties>
</file>