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6C4-9732-43F5-8A3B-CD65FC3C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F91A-7029-4371-9F9F-49DD81E5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B21-BB42-4D8B-A1C5-2CA3E916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7228-6130-4099-9137-EAA52880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46C-5008-4DC6-9903-AB3F5043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9F35-A1F1-4120-B902-5AE99BE0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DA0-B349-484C-9CFF-070663AE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4A38-1AAD-47EC-85FA-AF264D3D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B99-BFC0-4AB5-98A3-1C0F4B25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1DE-8431-4A17-A8C4-F9D3406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3609-A85E-4CD2-B9E8-C62CA76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067B-4E20-4DD1-8038-27018F09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19F4-580D-442A-8930-8A5408E6C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 van het onderhoud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pl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 betekent dit allema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is geen re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passen aan de wensen van de k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k als tegenvoorstellen niet aank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eel op schrift vastleg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sschien in de vorm van een werkomschrijving of een beste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 grote klanten: beeldbes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300720" y="4437000"/>
            <a:ext cx="284328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 je dit zonder overleg uitvoeren omdat je het nodig vind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401840"/>
            <a:ext cx="7272360" cy="54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totaal van alle werkzaamheden in een tu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verschillende onderhouds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deeld over de seizoe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k materialen noemen (bijv. bem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delen goed toeli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odig noodzakelijke machines no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mee kan worden gecalculeerd en offertes gemaa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kmanschap vraagt om veel kennis en ervaring en geen gezw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289320"/>
            <a:ext cx="5184720" cy="356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57680" cy="3695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50920" y="1413000"/>
            <a:ext cx="2857320" cy="23810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3851280" y="1268280"/>
            <a:ext cx="20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sadv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werkzaamheden die nodig zijn om het gewenste niveau te bereiken of be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st noodzakelijke werkzaamheden het ee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seizoen uitspl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nt kan bepalen welke werkzaamheden hij zelf kan of w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uw vaktechnische inzicht is belangr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derhoudsadvies: vaak ter plaat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571840"/>
            <a:ext cx="2857680" cy="42861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87640" y="1125360"/>
            <a:ext cx="3381480" cy="51246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588000" y="2060640"/>
            <a:ext cx="223848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stel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houd in een tuin moet ergens toe le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anten hebben vaak een verwac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vaktechnische obstakels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kunnen financiele belemmeringen zij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klant betaalt, dus ook: bepa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148000" y="76464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l elke klant dit mooi vind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eld van een bedo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n oppervlakte die begroeid is met gras kan dien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s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p te voetb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kinderen tenten te laten bouw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ook begroeid te zijn met bloeiende pla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 dieren te hou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et onkruidvrij zijn, of juist n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vrij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hoog stel je een grasmachine 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11400"/>
            <a:ext cx="619308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onderhoud er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onderhoud je een speelveld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siergaz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bloemrijk grasveld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en gazon wat in de schaduw li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als er dieren worden gehou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t het pad onkruidvrij zijn of mag er ook wat op of overheen groe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76360" y="1168560"/>
            <a:ext cx="5977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weet je wat is gewen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j de inventarisatie goed rondkij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len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en vraag van de klant beoordelen op de haalbaarheid en zonodig een tegenvoorstel d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s kun je het gewoon z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55148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9:21:36Z</dcterms:created>
  <dc:creator>Administrator</dc:creator>
  <dc:description/>
  <dc:language>en-US</dc:language>
  <cp:lastModifiedBy>Administrator</cp:lastModifiedBy>
  <dcterms:modified xsi:type="dcterms:W3CDTF">2009-10-15T19:48:36Z</dcterms:modified>
  <cp:revision>2</cp:revision>
  <dc:subject/>
  <dc:title>Doel van het onderhoud, Onderhoudsplan Onderhoudsadvies</dc:title>
</cp:coreProperties>
</file>