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1F7-4D6A-452F-A495-27E619D7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B010-AF1D-48A8-8307-05B5D385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962-ABCB-4B82-AC77-44C6D41D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E347-F0EB-4EEA-8AAC-393E7B52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CB7-275C-4634-8C4A-3442905C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CA81-9067-47CA-BCA4-FF56FD176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5A08-42FF-42CC-A8C7-2A935D32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6B6C-2795-4459-9FCF-0164DEE4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F673-B3C6-4246-B9F2-3C98E295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CCCE-CDFA-4538-B812-DBC0AD3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51DA-B6E2-448C-B10B-1E1F39D0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D2A3-42EC-450F-86E0-1E821F85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9396-E5CB-4C77-A1A0-E8653B1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82F3-FC2C-42A0-A213-D092899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7986-1390-49A1-88E7-A8DF508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F85EE-DADF-4E22-BB94-6632D74A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D3ED1-A56C-43D1-AE85-6AB0F82A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F9DC-0690-4CA6-A0B6-4003233BE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2A8F-A76B-4E11-90B2-2546F736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2F4-D05C-484F-A91B-61AFFBDD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75-837A-48CA-9D8F-551E6392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B965-A401-4157-89DA-C4F9E461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CA6-0E41-4076-ACD7-C2DA2082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4018-83D0-4583-8CE1-8861B688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F18F-FEB9-4849-88A0-B24C7FDAA8A5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547A-00CE-49AD-B6E5-D2A235F93F92}" type="slidenum">
              <a:rPr b="0" lang="nl-N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groenadviesburohoff.nl/fotoprojecten%20pag.%2011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06633"/>
                </a:solidFill>
                <a:latin typeface="Garamond"/>
              </a:rPr>
              <a:t>Werkvoorbereiding Onderhoud van Tuinen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inventaris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heb i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veel vrag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keu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Geschiedenis van de tu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s er een tekening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et er wat worden verander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zit het met de verwerking van het afv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kunt meestal maar 1 x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eet jui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ouw controles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raa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zoek het terrein/geb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Teken 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Beschrijf de toestan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nderhoudstoesta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Kwaliteite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en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perk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ogelijk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Wees held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werkvoorberei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kl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persone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Voor je leveranci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aak je informatie overdraagbaar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Maak/gebruik lijs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ventarisatiesystem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ing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Standa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2857320" cy="21909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3238560" cy="2238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86040" y="2762280"/>
            <a:ext cx="5457960" cy="4095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6524640" y="0"/>
            <a:ext cx="2619360" cy="2619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3419640" y="0"/>
            <a:ext cx="23810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756144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Nieuw onderhoudswe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het werk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kent de klant ni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rijsopgave do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een planning m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personeel uitkiez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het juiste materiaal inzet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Je moet de randvoorwaarden wet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De inventarisati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ar is h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 is de toegankelijkhe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kan wel en wat kan nie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Zijn er andere beperking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is er allema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verwacht de klan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Wat mag het kosten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316080"/>
            <a:ext cx="856908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8360" y="1700280"/>
            <a:ext cx="3682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6633"/>
                </a:solidFill>
                <a:latin typeface="Garamond"/>
              </a:rPr>
              <a:t>Hoe is de ligging in de buurt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w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eveelhe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Len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Inhou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fst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enz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006633"/>
                </a:solidFill>
                <a:latin typeface="Garamond"/>
              </a:rPr>
              <a:t>Je moet dus veel mete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Oppervlak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Ran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Hoog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antall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Beschrijven van ongeregelde za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21:09:10Z</dcterms:created>
  <dc:creator>Peter</dc:creator>
  <dc:description/>
  <dc:language>en-US</dc:language>
  <cp:lastModifiedBy>Peter</cp:lastModifiedBy>
  <dcterms:modified xsi:type="dcterms:W3CDTF">2008-09-18T19:19:59Z</dcterms:modified>
  <cp:revision>4</cp:revision>
  <dc:subject/>
  <dc:title>Werkvoorbereiding</dc:title>
</cp:coreProperties>
</file>