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E65D-FF2D-46FD-8827-8EA592D8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2175-C06C-46FB-BBBB-C7B10686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FF26-C215-4A73-B31B-0B68A43C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F0CB-6C84-4A2D-83A5-BCA8C3A3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DD42-3246-4C94-A478-3A18541B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A0109-8972-4E23-A6B5-4F3CE174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A3D6-CE1F-400F-AD08-78FBC26D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CFD6-6AF2-4FF2-93E7-2DA38A58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643C-8B6D-4BF6-AB32-B547174A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1282-557F-48DA-8404-834331F9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0B85-DF81-402C-8C63-05428F09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513-4D68-4FC2-9DB1-626FDF83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5D23-D873-4CF0-9FB8-7A78CFC5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F331C-D5B5-4053-BDB7-5C5B9351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6A6E-DFCA-459A-9894-D620A632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4AD9-17E2-48BB-82BD-F2BAE0F8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A939-354E-4C36-8F64-6B191CE1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4946-07E8-4C86-BFBC-5CB64501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33E9-FBAF-470E-A252-032C9CBC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AE19-51DA-4B95-816B-B20C3685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CFBA-E80F-4C47-A7DB-B4E09308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C5BC-0D50-47C2-AB39-4B500CFA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E66-3273-4729-88ED-60866C5B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97DE-F156-4241-AE2E-DD442CFF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Group 3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F4C7-02F4-4485-9B39-040E0496EBD6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f45"/>
            </a:gs>
            <a:gs pos="100000">
              <a:srgbClr val="757868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86a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B860-F5F3-4D5D-A16D-CA0C71EDE503}" type="slidenum">
              <a:rPr b="0" lang="nl-NL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Werkbeschrijvingen en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la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en misverstanden met de kla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rekenen van de kosten (offert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heid voor het persone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orkomen van misverstan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bestek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juridisch docu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communicati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Uitgangspunt voor  calculatie en ram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eidraad voor de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olemidd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Juridisch documen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uidelijk over rechten en plich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1187280" y="2232000"/>
            <a:ext cx="518508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mmunicatiemidd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ussen opdrachtgever en uitvoer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1476360" y="2235240"/>
            <a:ext cx="6048360" cy="46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Uitgangspunt voor calculati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owel opdrachgever als uitvoerder kunnen de kosten bereke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1116000" y="2637000"/>
            <a:ext cx="5543640" cy="41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Leidraad voor de uitvoer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restatiebeschrijving. Het resultaat te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1"/>
          <a:stretch/>
        </p:blipFill>
        <p:spPr>
          <a:xfrm>
            <a:off x="1403280" y="2297160"/>
            <a:ext cx="655488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Controle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ijn de afspraken nagekome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0" y="2465280"/>
            <a:ext cx="4859280" cy="439272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"/>
          <p:cNvPicPr/>
          <p:nvPr/>
        </p:nvPicPr>
        <p:blipFill>
          <a:blip r:embed="rId2"/>
          <a:stretch/>
        </p:blipFill>
        <p:spPr>
          <a:xfrm>
            <a:off x="4427640" y="2492280"/>
            <a:ext cx="4716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Waaraan moet een goed bestek voldoen?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ontractuele gelijkwaardig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verdeling van verantwoordelijkhed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duidige besteks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geen verschil van menin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richt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duidelijkheid over te gebruiken materialen en toelaatbare afwijk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ostenhomogenite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(meer- of minderwerk voor afgesproken prijze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RAW- bestekk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AW bestekken van de CRO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ntworpen voor de grond- water- en wegenbou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u ook voor de groene ruim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automatise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De werkomschrijv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lle werkzaamheden voor het aanleggen of onderhouden van groen of een tui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 volgorde waarin ze worden uitgevoer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lgens een vast sche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an de hand van de inventaris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verzichtelij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09308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Standaardbepalingen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st gebruikte bepal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stgelegd in een standaardwer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n toepassing bep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fwijkingen apart benoe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ofdstuk 51 voor de groenvoorzien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standaard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611280" y="888840"/>
            <a:ext cx="820872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inschrijvingsstaat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amenvatting van het bestek voor calcul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7" name="Picture 4" descr=""/>
          <p:cNvPicPr/>
          <p:nvPr/>
        </p:nvPicPr>
        <p:blipFill>
          <a:blip r:embed="rId1"/>
          <a:stretch/>
        </p:blipFill>
        <p:spPr>
          <a:xfrm>
            <a:off x="971640" y="2017800"/>
            <a:ext cx="648000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Het overzich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aan te leggen of te beheren oppervlak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wijze van uitvoer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verwerk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bereikbaarhei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e grondso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4c3aa"/>
                </a:solidFill>
                <a:latin typeface="Arial"/>
              </a:rPr>
              <a:t>Beschrijving van de werkzaamheden</a:t>
            </a:r>
            <a:endParaRPr b="0" lang="en-US" sz="4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delen van de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Omschrijven van de te verrichten werkzaam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van oppervlakten en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en werkmetho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Voorbeeld van een indeling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1042920" y="1773360"/>
            <a:ext cx="74167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Omschrijving per onderdeel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werkzaamhed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schrijven van de materialen die gebruikt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s noemen die nodig 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beschrijv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0" y="1967040"/>
            <a:ext cx="9144000" cy="489096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4c3aa"/>
                </a:solidFill>
                <a:latin typeface="Arial"/>
              </a:rPr>
              <a:t>Een voorbeeld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e bewerken oppervlak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do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eveelheden levende material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chinekeuzes (afhankelijk van de omstandighe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erkmethoden of -volgor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20:18:07Z</dcterms:created>
  <dc:creator>Peter</dc:creator>
  <dc:description/>
  <dc:language>en-US</dc:language>
  <cp:lastModifiedBy>johan</cp:lastModifiedBy>
  <dcterms:modified xsi:type="dcterms:W3CDTF">2014-04-28T15:05:17Z</dcterms:modified>
  <cp:revision>6</cp:revision>
  <dc:subject/>
  <dc:title>Werkbeschrijvingen en bestekken</dc:title>
</cp:coreProperties>
</file>