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4.wmf" ContentType="image/x-wmf"/>
  <Override PartName="/ppt/media/image23.jpeg" ContentType="image/jpeg"/>
  <Override PartName="/ppt/media/image18.jpeg" ContentType="image/jpeg"/>
  <Override PartName="/ppt/media/image21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967-977E-46D7-9155-43365B88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9A55-40AE-4737-8182-52C340AF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7E7-2C79-41D1-AEA4-50D9BF1F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9964-CF43-4587-8BB8-E22D46F3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CF43-5961-476B-BE70-8AA3DE6D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6371-9BA8-4306-BAFC-F6AB7284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7987-3121-4A4E-B007-C790CA5A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7F90-560C-4AAC-BBCE-32B1934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91A-FAA8-4D8F-BD1C-8E2F9047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2E23-6231-4B8E-B0EF-7B61AC3DC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D5AF-1960-464A-89DF-D785C48C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800B-E50D-4F42-99ED-CA509F35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FE3B-1F2F-41B8-AE40-F12CF282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4AB7-FD9B-421D-8BCA-9E03A9A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F474-DCC8-4489-B438-8CA55796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0400-3380-4F67-9AED-5BFDA386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BB9D-F012-4C02-A342-34D896E2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E818-7E66-493D-9CE4-88495B19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0077-4A45-434F-805B-DBD00637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7A37-5FEF-4A0D-B55A-F8F98ACD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A647-591F-4E37-AE86-53AF6888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D65-9F03-4B54-B51B-39736CBB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260C-72CE-45C8-ABE0-64DE054C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AD6-AE73-4B20-88A3-D931BDE4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8AC2-30A9-4DE7-A3A2-79D5DE9373A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C2EF-B72A-4971-B8A4-54652E464062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factsheet.do?request=download.factsheet&amp;id=74290041&amp;format=pdf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Bodem en groen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hebben planten nodi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vo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mogelijkhed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Grondwater is bereikba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tussen 50 en 150 cm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Grondwater is niet bereikbaar (water bereikbaar maken of grond waterhoudend ma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867280" y="765000"/>
            <a:ext cx="29592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1 grondwater is bereikbaa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heet een grondwaterprofiel of contact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water zit tussen 50 cm en 150 cm vanaf het maaiveld gem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ntenwortels kunnen direct water opn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2. Het grondwater zit dieper dan 150 cm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heet een hangwaterprofiel (alleen het water wat in de grond blijft hangen kan door de plant worden benut en van de neersl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 blijft hangen is vooral afhankelijk van het slibgehalte of het gehalte aan organische stof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door wordt droge grond waterhoude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eer organische stof in de gro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us bemesten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talm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o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amp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ur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Bef>
                <a:spcPts val="649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305160" y="3860640"/>
            <a:ext cx="5838840" cy="251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280836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neersla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Nederland valt ca 750 mm neerslag per jaar, maar wel ongelijk over het jaar verdeel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284720" y="1719360"/>
            <a:ext cx="48592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24240" y="2004840"/>
            <a:ext cx="6251400" cy="41450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afiek van het KNM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wat ondervinden de planten daarv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de groeiperiode is er meer verdamping dan neersla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volg zou kunnen zijn: afsterv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ar de grond houdt ook wat vast en kan worden gebruik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s het grondwater bereikbaar is, is er ook geen problee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715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met de verdamp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het groeiseizoen is er verdamping vana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en 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3851280" y="2565360"/>
            <a:ext cx="493236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damping in het groeiseizoen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sloten beplanting: ong. 500 mm per j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itaire bomen en struiken: ong. 600 m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planting in de stad: tussen 750 en 1000 m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le grond verdampt ongeveer 300 mm per groeiseiz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neerslag in het groeiseizoen is ongeveer 350 mm. Er is dus een TEKOR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Solitaire boom of bo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1520" y="0"/>
            <a:ext cx="606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moet dat da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lukkig kan de grond ook water vasthou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t verschilt per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: weini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: v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: verschillend, maar vaak red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bewortelingsdiepte is ook van bela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grondwater zit soms niet die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moet je in het groen dus doen voordat je gaat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 onderzoeken o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ring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reikbaarheid van het grondwa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t doe je m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grondboor en een penetrometer en leg je v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t doe je met deze informati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sliss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verva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iep de grond moet worden bewerk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 een organische bemesting uitvoert en door de grond werk en hoe die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arna stuur je de klant een juiste rekening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Een voorbeeld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1719360"/>
            <a:ext cx="914400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Nog een voorbeel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643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dan het planten, maar eerst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 bewerken om gemakkelijker te kunnen plant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het profiel te verbeter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en om onkruiden onder te werken o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bewerking om grondlagen te wissel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aarmee bewerk je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ien (om het onkruid kort te krijge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Fre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loe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otorkopeg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788000" y="260280"/>
            <a:ext cx="2736720" cy="2205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2998800"/>
            <a:ext cx="5003640" cy="37512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095800" y="2790720"/>
            <a:ext cx="40482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Fre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erke verkruimeling van de ondiep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deel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regen werkt de grond als een sp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niet worden betr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kan dan gemakkelijk inzak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Na freezen: grond aandrukken met een w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e groeiplaats: gron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langrijkste eis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. Verankering van het gew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2. Voldoende groeikans 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a. Bodem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. Bodemvo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. Voe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loeg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en geschikt voor grote oppervlak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een aanwezige vegetatie: voorschaa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iepte tot ong. 30 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: vóór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: ná de win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435640" y="2492280"/>
            <a:ext cx="3708360" cy="2554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2936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itten met de kraa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te en kleine mach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ndba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 diepten mogelij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men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orden ingehuu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Rotorkope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abewerking van grove grondbe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grote projec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erkruimeling en vlaklegg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900" spc="-1" strike="noStrike">
                <a:solidFill>
                  <a:srgbClr val="330066"/>
                </a:solidFill>
                <a:latin typeface="Arial"/>
              </a:rPr>
              <a:t>Wat kun je in het veld zien aan de grond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https://livelink.groenkennisnet.nl/livelink/factsheet.do?request=download.factsheet&amp;id=74290041&amp;format=pd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0" y="0"/>
          <a:ext cx="590400" cy="485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5904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zit dat bij landbouw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nd bestaat u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Vaste delen (ong. 50%) en is van minerale of organische oorspro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Poriën (ong. 50%) en is gevuld m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wa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helft luc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211640" y="3645000"/>
            <a:ext cx="403848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 hoe zit dat soms bij groenvoorziening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sterke verdichting (bijv. nieuwbouw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orien zijn in elkaar gedrukt, waardoor per volume meer vaste del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ij minder dan 40% porienvolume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grond is onbewortelba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orzaak meestal mechanische verdichting onder natte omstandighede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Kun je dit me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 met een penetrome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 waarde op de klok mag niet boven 25-30 kg kom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1619280" cy="29908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static cone penetrometer"/>
          <p:cNvPicPr/>
          <p:nvPr/>
        </p:nvPicPr>
        <p:blipFill>
          <a:blip r:embed="rId2"/>
          <a:srcRect l="0" t="0" r="0" b="7346"/>
          <a:stretch/>
        </p:blipFill>
        <p:spPr>
          <a:xfrm>
            <a:off x="5148360" y="2708280"/>
            <a:ext cx="1944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Veranker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Bij bomen: oorzaak  van omwaaien of scheefzak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 bij hoge grondwaterst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Slechte indringing op geringe diep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Minstens 50 cm diep is nodi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770120"/>
            <a:ext cx="403848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35280" y="1052640"/>
            <a:ext cx="3929040" cy="5589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5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e diep wortelen planten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odemluch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zuurstof) minstens 16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koolzuurgas) samen met 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21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en bij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water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veel rottend materiaal i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faltbedekking van de wor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8:41:36Z</dcterms:created>
  <dc:creator>Peter</dc:creator>
  <dc:description/>
  <dc:language>en-US</dc:language>
  <cp:lastModifiedBy>Peter</cp:lastModifiedBy>
  <dcterms:modified xsi:type="dcterms:W3CDTF">2007-09-20T18:53:39Z</dcterms:modified>
  <cp:revision>7</cp:revision>
  <dc:subject/>
  <dc:title>Bodem en groen</dc:title>
</cp:coreProperties>
</file>