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6453-96F8-4D56-961F-960BA6E8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976F-D879-4A63-B5A7-E9C80474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E24F-F465-404D-96DC-3D5DB03B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579-50D1-46A5-B78D-EC84A8BCB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248A-0E26-4334-BBC4-96B03180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FA62-6F09-4C0E-AF76-D10D5B50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C353-D548-494C-AA84-13800A24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FB86-C6C4-4264-9EC7-5C3905E6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084C-5C9B-48A3-9D54-B1B36241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AA71-BD60-430B-A150-E85A7680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01A88-D5C3-46F7-B906-7B3E131F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7260-7754-41BD-97DF-1206732C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21AFC-4CF0-4A58-8D64-2B21C782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FB73-F203-45D1-9162-C084AB53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292A-173D-46C8-98C7-84B6DE46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2F2B-B931-450A-B1CC-71991C304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6FC0-9F36-49AA-B6AA-72EB55917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EC20-8106-483C-921D-66A34CD8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BA8-3A69-4332-B75A-19A412A4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D73F-0428-448C-B26A-87E76E2E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643F-F232-4ECB-A222-6468113D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A3E-D492-458A-A817-E4828B8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4B56-50F9-46CF-8C8B-EACC7C10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9BB9-A4B0-467F-B8FA-822C7660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879C-13E2-4346-AA3F-E60583F98F08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8F1A-A228-4A6C-AE92-1CE6F7A2997D}" type="slidenum">
              <a:rPr b="0" lang="nl-NL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315842&amp;format=x-ms-wmv" TargetMode="External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anwb.nl/published/anwbcms/content/binaire-bestanden/pdfs/over-anwb/test-speeltuinen-931108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vwa.nl/portal/page?_pageid=119,1639866&amp;_dad=portal&amp;_schema=portal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t 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eknopt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nop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slechts enkel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speeltoestel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boeken bun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Uitgebreid 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meer dan 10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 wijk of stadsdeel registr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op welke speelgelegen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to’s zijn aanbevo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uterprogramma’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Logb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rpl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oor het aststellen aansprakelijkheid ongeva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formatie over wat en wa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echnische gegeve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jzigingen die zijn aangebra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uringen die zijn verrich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6141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nderhoudsgegeven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2222640"/>
            <a:ext cx="9144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Het ongevallenbla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Inspectie-onderhoud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3 soorten inspectie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t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unction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isuele insp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30840" y="2133720"/>
            <a:ext cx="805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Het onderhoud aan speeltoestel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lik op de link en bekijk de fil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rot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van de algehele veil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wezigheid van roest, houtrot e.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jaa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st met te inspecteren onderde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uit te voeren door de leveranci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Functionele inspectie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 op stabiliteit en ster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en de lagers no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doet het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nstens 1 maal per 3 ma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isuele inspe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kelijks of routinemat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vaarlijke situaties door bijv. het weer, vandalisme of gebr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ij constatering direct actie ondern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s kan dagelijkse inspect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2080" cy="45306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0" y="450864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bindingen controle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erven en andere oppervlaktebehandelin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chokdempende bodemmaterial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Opruimen en schoonhoud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44480" y="-360"/>
            <a:ext cx="569916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Preven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Correctief 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van verbind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anging kapotte delen van de constru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wijderen gevaarlijke 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vullen bodemmateriaa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derhoud aan alle vrije ruimten van het terre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39640" y="1224000"/>
            <a:ext cx="7885080" cy="56340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vaarlijke vervui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Onderhoud van bodemmaterial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and aanvullen, losmaken of verva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utsnippers aanvu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as onderhoud als een gaz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ervuiling verwijd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ubber tegels controler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tontegels en straatklinkers, asfa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Rubber teg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pdrach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ventarisatie van speeltoestellen op de Zwieseb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behulp van een inventarisatie- 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rmuleer actiepu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inde present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9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5303880"/>
            <a:ext cx="604836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 na te lezen, klik o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Test speeltoestellen door de ANW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etgev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attractiebesluit verplicht de beheerder de speeltoestellen zodanig te onderhouden dat er geen gevaar voor de gezondheid of de veiligheid van personen be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 onderhoud moet gepland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ierbij is een goede adminsitratie no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Wie ziet toe op de veiligheid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Voedsel en Waren Autoriteit is de overheidsorganisatie die de veiligheid van voedsel en consumentenproducten onderzoekt en bewaak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3"/>
              </a:rPr>
              <a:t>Klik op deze link voor d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rie stapp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het opzetten van een inventarisatiesyste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het aanleggen van een logbo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het maken van een inspectie- en onderhouds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10141" t="15942" r="40400" b="35246"/>
          <a:stretch/>
        </p:blipFill>
        <p:spPr>
          <a:xfrm>
            <a:off x="0" y="20520"/>
            <a:ext cx="9144000" cy="684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spectie-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ven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rrectief onderhou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speeltoestel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de bodem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oor het aanwezige straatmeubila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ventarisatiesysteem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e moet wet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ke speeltoestellen er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verige voorzien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aar ze zich bevi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5:35:48Z</dcterms:created>
  <dc:creator>default</dc:creator>
  <dc:description/>
  <dc:language>en-US</dc:language>
  <cp:lastModifiedBy>Peter</cp:lastModifiedBy>
  <dcterms:modified xsi:type="dcterms:W3CDTF">2008-01-17T10:59:18Z</dcterms:modified>
  <cp:revision>6</cp:revision>
  <dc:subject/>
  <dc:title>speeltoestellen</dc:title>
</cp:coreProperties>
</file>