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6DFF-47BF-46FB-AA69-0ABB2C14C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7AA4-AAEE-4B2B-9C1B-59667896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F75-7EDA-4C38-A40B-B3B9742F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CAD-179F-44E3-BE23-F67D72644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71B5-F887-4AEE-AC53-5FE6AC63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688C-F97D-45A0-9D5E-6BCBBF82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07E1-CCAC-4844-99BF-446E43DC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A17F-6F63-40F0-89C9-D737E6BB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210-97D0-4D79-A492-ED1CBC15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0272-8B3B-4590-86E2-CAD27730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92C-ED32-4169-842E-47415ED3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EAD-1519-421C-8917-9641C415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71CF-E627-456D-9E4C-833B09721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aliteit plantmateri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n op 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kweken uit z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één groeijaar ("1+0") gero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planten, wederom gerooid. in het vakjargon "1+1". (2 jaar 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eplant voor twee jaar (is dus 3 jaar oud), wordt dan gerooid, gesorteerd en verkocht, dit is de "1+2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ring (internationa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8604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13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590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1120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 7 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 9 (P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iter (C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m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-14 (stamomtrek op 1m hoog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04:29Z</dcterms:created>
  <dc:creator>johan</dc:creator>
  <dc:description/>
  <dc:language>en-US</dc:language>
  <cp:lastModifiedBy>johan</cp:lastModifiedBy>
  <dcterms:modified xsi:type="dcterms:W3CDTF">2009-06-12T09:28:42Z</dcterms:modified>
  <cp:revision>4</cp:revision>
  <dc:subject/>
  <dc:title>Kwaliteit plantmateriaal</dc:title>
</cp:coreProperties>
</file>