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1BE-CCDC-4B12-9BA5-6AAC1C9D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6C0D-58F5-4AA1-AF68-D789F18D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AF2C-EA0A-484F-99B4-532F77FE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4D2-4D8A-4705-8705-89947D97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28005-77A2-48E2-B947-D59C3653E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F1A2-337E-4D0E-8B51-04F530AF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9E13-ED69-4DA3-8B48-08E76CBE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310B-0DD7-45EC-9E4C-E1B538C2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96D3-54F0-49BC-890A-980CD1E3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30EE1-A14A-4E25-98A0-0E0B793B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AB1B-FEEC-40C2-9B85-42FE75B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D63F-52F4-488E-B2B3-C6AB2346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B0C5-21C9-4377-9DAC-E6EBF1DD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04EB-1F19-45D9-9607-30FDD220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5FB4-9BA7-44DF-942A-F65C20F96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030D-04E1-4456-87E4-95D7CCB5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5A20-DE89-4425-8F6C-9FDA6CC4E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EAA3-E8C7-4AA9-8591-1B2DFD0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66A7-8DA0-4A38-A3FF-83049C7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82B8-4873-43C0-87B2-26EEA583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DCE-58D0-40ED-B0B8-BF20F6B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08F-2D87-4D11-A7A5-4DD3998B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B20-80D8-47B7-8F90-7408382E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B291-4BC4-4977-BCA8-A1D0B106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E0BB-AD34-4306-857B-B6C254B549CF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2856-57C8-4A3C-BE20-A66E0FEBBC93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meten van een groot terrei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 flipH="1" flipV="1">
            <a:off x="3924360" y="1557000"/>
            <a:ext cx="792000" cy="3095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1557360"/>
            <a:ext cx="1224000" cy="3589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1916280"/>
            <a:ext cx="1295280" cy="201744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643280" y="3933720"/>
            <a:ext cx="1873440" cy="719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24360" y="1557360"/>
            <a:ext cx="2519280" cy="237636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5280" y="723960"/>
            <a:ext cx="3240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alle omtreksma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et  een diagona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itwerken doe je als volg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op schaal 1: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eerst de en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ken daarna de andere driehoe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s het niet past: opnieuw me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4716360" y="3357360"/>
            <a:ext cx="1008000" cy="122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787640" y="1916280"/>
            <a:ext cx="360360" cy="43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-74772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a nu aan het wer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eet het voormalige maisveld op en teken het uit op papi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15:33:35Z</dcterms:created>
  <dc:creator>default</dc:creator>
  <dc:description/>
  <dc:language>en-US</dc:language>
  <cp:lastModifiedBy>default</cp:lastModifiedBy>
  <dcterms:modified xsi:type="dcterms:W3CDTF">2009-09-15T09:29:16Z</dcterms:modified>
  <cp:revision>4</cp:revision>
  <dc:subject/>
  <dc:title>Inmeten van een groot terrein</dc:title>
</cp:coreProperties>
</file>