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A1B8-F63F-45D7-B2EF-C27BE7BC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026-34EA-403A-8327-A4CA08C6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63E-D2EF-454E-A9E7-742136EA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F4F0-7F47-41F1-8973-8B3827F44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2F1B-06B9-405F-A581-6DC60369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9769-A559-4A1A-977F-161824F5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2E15-EE58-4AF5-9E08-8AB84D17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8781-E1A3-484E-8A19-6DC6366D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8AF7-3F5E-4188-A3E5-B283F95E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B7BE-4B72-40E0-AB9C-D6A9BC1C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E199-1A7F-439D-A661-8F929E0C3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3CAB-2347-4783-AAA6-760F30C4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99A2-5109-402C-8CC5-35069143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1A55-F3EB-4470-8D40-CDC4778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20F1-B52F-4AFC-94C2-95232E83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458-49A1-48B8-A124-2E913DD0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FD82-5371-4765-BBAD-DBE1D755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3126-83F8-4E76-90A4-D0AF8887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66B2-CA17-4245-B122-7EAC0240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636-CC8E-479E-827B-AC22191B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D652-740F-4D08-929F-45280A80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51C-D04F-4C2B-8E2B-1D3FAB84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1A9-7AD8-4B0E-8028-8FFDA2C2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256-9316-4453-BEB4-417A7803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3FB8-DC23-4638-90B0-704FFBE1E79E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FE02-3ECC-4187-BAD0-531100D879CF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Advies en planning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rst denken, dan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derhouden van tuin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heb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wil j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t moet je dan do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 wie doe je dit eigenlijk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b jij er wat aa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de klant er gelukkig me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heb j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entariseren van alle tuin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ngtes (of strekkende meter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 kwaliteit van het materiaal of elemen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bekijk je nog meer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 ligt het object of tui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e is de toegankelijkhei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ingen door bijv. de buu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un je overal met je materiaal bijkom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beperkende werktijd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80360" cy="4125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veral toegang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at ga je navragen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ijn er speciale 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afvalverwe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egang tot het terrein/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fspraken over registratie werktij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oorkeuren voor het werk, tijden, personeel, 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en tekening geeft duidelijkheid,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ar is er niet altijd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476360" y="1554120"/>
            <a:ext cx="5256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12:33:23Z</dcterms:created>
  <dc:creator>default</dc:creator>
  <dc:description/>
  <dc:language>en-US</dc:language>
  <cp:lastModifiedBy>default</cp:lastModifiedBy>
  <dcterms:modified xsi:type="dcterms:W3CDTF">2008-09-18T12:47:27Z</dcterms:modified>
  <cp:revision>5</cp:revision>
  <dc:subject/>
  <dc:title>Advies en planning</dc:title>
</cp:coreProperties>
</file>