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F6429-1FE7-439F-91FC-F8B29E44E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8F3ED-CE5C-4F38-B3D6-CF25A469D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88993-435F-4602-82AA-7FE707696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CB6DD-E209-4E5C-8B4D-9083247FD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7017E-A972-48A4-AF74-E5AA0FA38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26F8B-7C4A-4B0F-95CD-A5206A672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E8444-A7FB-42E5-8794-57543E854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B110C-9944-4437-AFE9-55C0E781E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7B413-E93C-4711-BB1C-0344DA8AD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72E60-095A-42AC-85A2-97D340DD5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DD74E-F099-47B9-9DC4-8EE652846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2CC7A-A322-4CEE-96C5-965878D8B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6FF01-39FA-4E9A-BF4F-914CAD600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9F6B3-F2EE-4EA3-9DEA-29FDC2D5B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73A33-3F76-4250-9D40-70445776C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A67EF-1167-4C3D-81BD-9190F0611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6911C-8AAF-45B1-97A1-F3392BD32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CF1C1-D14F-4264-8A69-8AA94B1AB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4A1DA-3758-4C65-8C32-4DDDAE5AB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64BE1-9890-4F6B-887B-97C8BEBF2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E3BAB-609B-44B0-97D6-AF03E453D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C9999-48F1-4F2C-AB25-956639F78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2EC9B-A78D-4F63-96A4-BBAA8FF48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9E55E-1FDA-4038-9A44-8AC65DB44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E400C-2059-4F28-8848-C6ABA23AB7A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D03B5-024D-44E3-90AE-46ED58BED9D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s://livelink.groenkennisnet.nl/livelink/llisapi.dll?func=ll&amp;objId=10628055&amp;objAction=browse&amp;sort=name&amp;viewType=1" TargetMode="External"/><Relationship Id="rId2" Type="http://schemas.openxmlformats.org/officeDocument/2006/relationships/hyperlink" Target="https://livelink.groenkennisnet.nl/livelink/llisapi.dll?func=ll&amp;objId=10628055&amp;objAction=browse&amp;sort=name&amp;viewType=1" TargetMode="External"/><Relationship Id="rId3" Type="http://schemas.openxmlformats.org/officeDocument/2006/relationships/hyperlink" Target="https://livelink.groenkennisnet.nl/livelink/llisapi.dll?func=ll&amp;objId=10628055&amp;objAction=browse&amp;sort=name&amp;viewType=1" TargetMode="External"/><Relationship Id="rId4" Type="http://schemas.openxmlformats.org/officeDocument/2006/relationships/hyperlink" Target="https://livelink.groenkennisnet.nl/livelink/llisapi.dll?func=ll&amp;objId=10628055&amp;objAction=browse&amp;sort=name&amp;viewType=1" TargetMode="External"/><Relationship Id="rId5" Type="http://schemas.openxmlformats.org/officeDocument/2006/relationships/hyperlink" Target="https://livelink.groenkennisnet.nl/livelink/llisapi.dll?func=ll&amp;objId=10628055&amp;objAction=browse&amp;sort=name&amp;viewType=1" TargetMode="External"/><Relationship Id="rId6" Type="http://schemas.openxmlformats.org/officeDocument/2006/relationships/hyperlink" Target="https://livelink.groenkennisnet.nl/livelink/llisapi.dll?func=ll&amp;objId=10628055&amp;objAction=browse&amp;sort=name&amp;viewType=1" TargetMode="External"/><Relationship Id="rId7" Type="http://schemas.openxmlformats.org/officeDocument/2006/relationships/hyperlink" Target="https://livelink.groenkennisnet.nl/livelink/llisapi.dll?func=ll&amp;objId=10628055&amp;objAction=browse&amp;sort=name&amp;viewType=1" TargetMode="External"/><Relationship Id="rId8" Type="http://schemas.openxmlformats.org/officeDocument/2006/relationships/hyperlink" Target="https://livelink.groenkennisnet.nl/livelink/llisapi.dll?func=ll&amp;objId=10628055&amp;objAction=browse&amp;sort=name&amp;viewType=1" TargetMode="External"/><Relationship Id="rId9" Type="http://schemas.openxmlformats.org/officeDocument/2006/relationships/hyperlink" Target="https://livelink.groenkennisnet.nl/livelink/llisapi.dll?func=ll&amp;objId=10628055&amp;objAction=browse&amp;sort=name&amp;viewType=1" TargetMode="External"/><Relationship Id="rId10" Type="http://schemas.openxmlformats.org/officeDocument/2006/relationships/hyperlink" Target="https://livelink.groenkennisnet.nl/livelink/llisapi.dll?func=ll&amp;objId=10628055&amp;objAction=browse&amp;sort=name&amp;viewType=1" TargetMode="External"/><Relationship Id="rId11" Type="http://schemas.openxmlformats.org/officeDocument/2006/relationships/hyperlink" Target="https://livelink.groenkennisnet.nl/livelink/llisapi.dll?func=ll&amp;objId=10628055&amp;objAction=browse&amp;sort=name&amp;viewType=1" TargetMode="External"/><Relationship Id="rId12" Type="http://schemas.openxmlformats.org/officeDocument/2006/relationships/hyperlink" Target="https://livelink.groenkennisnet.nl/livelink/llisapi.dll?func=ll&amp;objId=10628055&amp;objAction=browse&amp;sort=name&amp;viewType=1" TargetMode="External"/><Relationship Id="rId13" Type="http://schemas.openxmlformats.org/officeDocument/2006/relationships/hyperlink" Target="https://livelink.groenkennisnet.nl/livelink/llisapi.dll?func=ll&amp;objId=10628055&amp;objAction=browse&amp;sort=name&amp;viewType=1" TargetMode="External"/><Relationship Id="rId14" Type="http://schemas.openxmlformats.org/officeDocument/2006/relationships/hyperlink" Target="https://livelink.groenkennisnet.nl/livelink/llisapi.dll?func=ll&amp;objId=10628055&amp;objAction=browse&amp;sort=name&amp;viewType=1" TargetMode="External"/><Relationship Id="rId15" Type="http://schemas.openxmlformats.org/officeDocument/2006/relationships/hyperlink" Target="https://livelink.groenkennisnet.nl/livelink/llisapi.dll?func=ll&amp;objId=10628055&amp;objAction=browse&amp;sort=name&amp;viewType=1" TargetMode="External"/><Relationship Id="rId16" Type="http://schemas.openxmlformats.org/officeDocument/2006/relationships/hyperlink" Target="https://livelink.groenkennisnet.nl/livelink/llisapi.dll?func=ll&amp;objId=10628055&amp;objAction=browse&amp;sort=name&amp;viewType=1" TargetMode="External"/><Relationship Id="rId1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dmete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et maken van een veldwe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eetlijne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ulpmeetlijnen staan altijd haaks op de hoofdmeetlijn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t geef je aan met een kwart rondj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2195640" y="3789360"/>
            <a:ext cx="0" cy="22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2195280" y="5445000"/>
            <a:ext cx="338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rot="202200">
            <a:off x="1255680" y="4480920"/>
            <a:ext cx="1828080" cy="1828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anduiding haa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371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ar als de tekening dat verlang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jv. er staat een object in de we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t betekent ook haaks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1547640" y="4005360"/>
            <a:ext cx="0" cy="25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1547280" y="4797360"/>
            <a:ext cx="4969080" cy="115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33600" y="4797360"/>
            <a:ext cx="1828080" cy="1828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484360" y="4149720"/>
            <a:ext cx="1150920" cy="1057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572000" y="5373720"/>
            <a:ext cx="914400" cy="9144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 notering van het meetget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0" y="1844640"/>
            <a:ext cx="7772400" cy="50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tijd haaks op de meetlij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nks of rechts van de lij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 lezen vanuit de pij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"/>
          <p:cNvSpPr/>
          <p:nvPr/>
        </p:nvSpPr>
        <p:spPr>
          <a:xfrm>
            <a:off x="2268360" y="3905280"/>
            <a:ext cx="0" cy="295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2268000" y="4724280"/>
            <a:ext cx="374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63320" y="37162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2,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28680" y="4789440"/>
            <a:ext cx="454680" cy="67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5,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4859280" y="4724280"/>
            <a:ext cx="0" cy="144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219560" y="5748480"/>
            <a:ext cx="458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rot="10800000">
            <a:off x="4982400" y="5891040"/>
            <a:ext cx="63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4,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ind- en tussenmate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indmaten altijd onderstrep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"/>
          <p:cNvSpPr/>
          <p:nvPr/>
        </p:nvSpPr>
        <p:spPr>
          <a:xfrm>
            <a:off x="1692360" y="2637000"/>
            <a:ext cx="0" cy="30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1692000" y="4221000"/>
            <a:ext cx="633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43280" y="2997360"/>
            <a:ext cx="0" cy="122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4427640" y="422064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5724360" y="4220640"/>
            <a:ext cx="0" cy="12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804000" y="242100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240680" y="4308480"/>
            <a:ext cx="100332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45,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812000" y="436572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913840" y="2924280"/>
            <a:ext cx="63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9,6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987640" y="335772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719320" y="23493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3,6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867280" y="270828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rot="10800000">
            <a:off x="3705480" y="5227560"/>
            <a:ext cx="63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8,8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3708000" y="515772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rot="10800000">
            <a:off x="5937480" y="5155920"/>
            <a:ext cx="63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8,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084720" y="508464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439600" y="3276720"/>
            <a:ext cx="454680" cy="67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1,6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15600" y="3492360"/>
            <a:ext cx="454680" cy="67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6,7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559960" y="4360680"/>
            <a:ext cx="454680" cy="5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,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137240" y="3645000"/>
            <a:ext cx="1110240" cy="1151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m na te lezen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Zie ook het landmeetboek blz. 8; “de opmeetmethoden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Klik voor het landmeetboek op de onderstaande link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s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://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livelink.groenkennisnet.nl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4"/>
              </a:rPr>
              <a:t>/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5"/>
              </a:rPr>
              <a:t>livelink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6"/>
              </a:rPr>
              <a:t>/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7"/>
              </a:rPr>
              <a:t>llisapi.dll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8"/>
              </a:rPr>
              <a:t>?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9"/>
              </a:rPr>
              <a:t>func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10"/>
              </a:rPr>
              <a:t>=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11"/>
              </a:rPr>
              <a:t>doc.ViewDoc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12"/>
              </a:rPr>
              <a:t>&amp;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13"/>
              </a:rPr>
              <a:t>nodeId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14"/>
              </a:rPr>
              <a:t>=90568114&amp;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15"/>
              </a:rPr>
              <a:t>viewType</a:t>
            </a:r>
            <a:r>
              <a:rPr b="0" lang="nl-NL" sz="3200" spc="-1" strike="noStrike" u="sng">
                <a:solidFill>
                  <a:srgbClr val="ff0000"/>
                </a:solidFill>
                <a:uFillTx/>
                <a:latin typeface="Tahoma"/>
                <a:hlinkClick r:id="rId16"/>
              </a:rPr>
              <a:t>=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pdrach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ak nu opdrachten 26 en 27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s de hierboven beschreven regels en afspraken to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at is een veldwerk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en tekening van een ob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iet op scha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t een ingebouwde contro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t de juist ingemeten mat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p een uniforme manier genoteer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lke tekening voldoe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lke tekening waarin metingen kunnen worden genoteer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jv. een kadastertekening of een eigen sche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aarom niet op schaal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 metingen zijn het belangrijk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r moet daarvoor ruimte op de tekening zij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 tekening moet ongeveer aangeven hoe het terrein er uit zi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 schaaltekening verschijnt na het uitwerken van de meetgegeve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gebouwde controle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Elke meting kan fouten bevatt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Daarom een controle inbouwen die de juistheid van een meting bewij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Bijv. een driehoek én een hoogtelij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1979640" y="5877000"/>
            <a:ext cx="518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2050920" y="4365360"/>
            <a:ext cx="1657440" cy="143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708360" y="4365720"/>
            <a:ext cx="3456000" cy="151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708360" y="4365720"/>
            <a:ext cx="0" cy="1511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oe werkt dat dan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 er bij één zijde een fout is gemeten past de hoogtelijn niet bij de uitwerk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arom een controle inbouwen die de juistheid van een meting bewij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1979640" y="5877000"/>
            <a:ext cx="518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2050920" y="4365360"/>
            <a:ext cx="1657440" cy="143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708360" y="4365720"/>
            <a:ext cx="3456000" cy="151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708360" y="4365720"/>
            <a:ext cx="0" cy="1511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rkwijz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erdeel het object in meetkundige figuren die je eenvoudig kunt controleren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1619280" y="4076640"/>
            <a:ext cx="9144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708360" y="4437000"/>
            <a:ext cx="1057320" cy="91440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012000" y="4437000"/>
            <a:ext cx="914400" cy="914400"/>
          </a:xfrm>
          <a:prstGeom prst="rtTriangl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667640" y="4005360"/>
            <a:ext cx="914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1618920" y="4149720"/>
            <a:ext cx="865080" cy="8650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211640" y="4437000"/>
            <a:ext cx="0" cy="8636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 flipV="1">
            <a:off x="8101080" y="4005000"/>
            <a:ext cx="71280" cy="4316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692360" y="5877000"/>
            <a:ext cx="1214280" cy="914400"/>
          </a:xfrm>
          <a:prstGeom prst="parallelogram">
            <a:avLst>
              <a:gd name="adj" fmla="val 3319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 flipV="1">
            <a:off x="2050560" y="5950080"/>
            <a:ext cx="505080" cy="90792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924360" y="5589720"/>
            <a:ext cx="1214280" cy="914400"/>
          </a:xfrm>
          <a:custGeom>
            <a:avLst/>
            <a:gdLst>
              <a:gd name="textAreaLeft" fmla="*/ 266760 w 1214280"/>
              <a:gd name="textAreaRight" fmla="*/ 947520 w 1214280"/>
              <a:gd name="textAreaTop" fmla="*/ 200880 h 914400"/>
              <a:gd name="textAreaBottom" fmla="*/ 71352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4211640" y="5589360"/>
            <a:ext cx="936720" cy="8636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ar dan ga je toch even teru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at kost dat ten opzichte van een controlemet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rug: vaak enkele tot vele ur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emeting: enkele minut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 notatie van de metinge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r zijn hoofdmeetlijnen 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r zijn hulpmeetlijne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lke meetlijn begint met een pijltj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2050920" y="494172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050920" y="3860640"/>
            <a:ext cx="0" cy="24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2T13:44:34Z</dcterms:created>
  <dc:creator>Peter</dc:creator>
  <dc:description/>
  <dc:language>en-US</dc:language>
  <cp:lastModifiedBy>laptop</cp:lastModifiedBy>
  <dcterms:modified xsi:type="dcterms:W3CDTF">2007-11-07T08:20:51Z</dcterms:modified>
  <cp:revision>6</cp:revision>
  <dc:subject/>
  <dc:title>Landmeten</dc:title>
</cp:coreProperties>
</file>