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284-DDB0-46B7-8C6C-5BB03B71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AC63-DE2D-49D4-94C5-295CDEB6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FD9-DFDB-4EBF-9D1E-2365560D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955-4AC3-458A-9A89-B1EEFB9D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91B5-76BC-4BBA-B9B0-C97F6443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4EFA-9C52-4A32-9A0D-750F84F7E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CFF44-9394-401F-A1C2-8654D9E2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1185-5C29-4EF4-B116-0815DC2A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188D-786B-4E17-92C3-0A0D34B8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5540-9F7F-42B5-B937-16436248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911D4-9CC8-4AD9-AFF7-82FBD067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5813-D713-4102-A8A9-EB9109EF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1B79-A362-4B8A-8A7F-2E5D8B09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92F0-3B71-4A9F-910D-BF3FCDE38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631B-3D0A-4565-9EA6-F741CD34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5D2A-1B9E-4859-A7D3-ECAB71AB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31C7-5543-459A-ADC8-0CC3C64E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C2B-E5B4-473F-8AFB-6BB45B2F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FAB0-0B96-4B3C-92F6-56C879A0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DD4C-12BC-499B-AD34-9D9C067F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901-EB9A-48BB-A0D8-DD2B3516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492-58EA-4614-8BAE-838208F9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191E-EF95-4FC4-A2C6-C993E7CF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E2FF-CD4D-4D36-82D8-8234E35C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1BC8-F3DD-4E0F-87C2-7FFDD3F9D7D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DDD2-6EE7-4412-A085-41D7B9D190EC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Onderzoek van de bodem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wind zijn neergeleg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andgronden die door het water zijn afgez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em is een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11-20T16:57:56Z</dcterms:modified>
  <cp:revision>5</cp:revision>
  <dc:subject/>
  <dc:title>Werkvoorbereiding</dc:title>
</cp:coreProperties>
</file>