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2.jpeg" ContentType="image/jpe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64B3-F2AD-4D28-962B-B7E436041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03B0-AF88-4796-8BC4-0C56AB76B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DB98-EDEC-40F1-AC83-913939180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455D-FD62-43D3-BDDA-62B0242EF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236A7-7141-404A-817E-A15F18343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E2BAF-8A0A-4BEA-8508-E64540406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51D15-5287-4755-9DBA-60E4C7FCB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2C731-7136-46D4-850F-F47D5CEC5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88BF6-6058-4269-9724-C9A3FEBBF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456EC-35A1-43B3-ABFC-972779846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C25A3-6CDC-469C-8DE1-BB270F13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E30C-A766-4477-92D8-A9B1BE8B0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0C288-0548-4BF7-B398-556B76F1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F0561-1148-4546-A7D3-54CCC762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93BE6-9EE5-4F52-9974-527FA5227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2F270-A312-4F5E-A622-6E7ECCD2F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C27EB-EF69-43A6-A1BC-C9E0C4568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4917-B991-459C-BA84-C86241E57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593A-32E8-45DE-A85C-476FDF4E9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EAF4-6608-4F14-A70A-15DCA95E4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B1EA-1186-40E8-A918-2D46C3ECB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E825-3421-48B0-A417-3576326B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29A0-0A50-45D8-A19E-30455B59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13E0-DD07-4BE0-911F-F715ED2E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B070D-5EF0-4089-8582-E140A1DF9130}" type="slidenum">
              <a:rPr b="1" lang="nl-N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29AE2-049A-4A9A-833C-A13F0214B06E}" type="slidenum">
              <a:rPr b="1" lang="nl-N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BOSPLANTSOE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6666"/>
                </a:solidFill>
                <a:latin typeface="Arial"/>
              </a:rPr>
              <a:t>Inrichting en beheer van landschappelijke beplantigsvormen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Hoge en lage struiken met aan de rand bome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843280" y="2781360"/>
            <a:ext cx="3733560" cy="29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omen aan de westkant en struiken aan de oostkan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340000" y="2565360"/>
            <a:ext cx="446400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omen middenin en daaromheen struike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340000" y="2924280"/>
            <a:ext cx="40323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 na het inplanten het behe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erst dicht op elkaar plant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nderdrukking van het onkrui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en snelle sluiting van het gew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inder werk in de eerste ja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e groot worden de plante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truiken 2 tot 8 meter hoog en in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Bomen 15 tot 25 meter hoog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Ø kroon meestal 8/10 van de hoog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Dus later nemen ze meer plaats in dan tijdens het plant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eheren is dus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Plantafstandvergroting of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Plant-aantalreduct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Uiteindelijk komen de planten zóver van elkaar dat ze individueel kunnen uitgroei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at is veel werk! En vakwerk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kele feiten over bomen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Bomen worden hoog en bre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Bomen worden hoger dan strui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r zijn snelgroeiende en langzaamgroeiende bomen (en struike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Onder bomen groeien (bijna) geen strui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en afgezaagde boom wordt altijd weer een (meerstammige) boo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47640" y="2708280"/>
            <a:ext cx="5975640" cy="3691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Kleine bomen worden groo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nder bomen groeien geen struiken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403280" y="2708280"/>
            <a:ext cx="597528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kele feiten over struiken: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truiken worden ongeveer even hoog als bre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truiken kan men niet door snoeien klein houd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Bij gewas-sluiting: geen onkruidgroe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r wordt vaak geplant op 1 x 1 tot 1,5 x 1,5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it is 10.000 tot 444 planten per h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Difinitie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ndschappelijke beplan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innen en buiten stedelijk gebi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estal inheemse soort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amengesteld uit plantsoen wat vaak in bundels of bossen wordt verhandel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an bomen en/of struiken bevatte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omen en struik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979640" y="2781360"/>
            <a:ext cx="550872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nkele feiten over het planten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 meeste struiken worden gem. 6 m hoog en bre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r zullen dan dus 280 stuks overblijv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ij het inplanten tot de rand gaan de struiken “overkoken”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 schone grond groeit iedere plant snell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at moet je doen zonder beheersplan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763640" y="2708280"/>
            <a:ext cx="5894640" cy="3191040"/>
            <a:chOff x="1763640" y="2708280"/>
            <a:chExt cx="5894640" cy="3191040"/>
          </a:xfrm>
        </p:grpSpPr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>
              <a:off x="1763640" y="2708280"/>
              <a:ext cx="5894640" cy="319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 txBox="1"/>
            <p:nvPr/>
          </p:nvSpPr>
          <p:spPr>
            <a:xfrm>
              <a:off x="1763640" y="2708280"/>
              <a:ext cx="5894640" cy="319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Veel voorkomende beheersfout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Het ongelijke groeiritme van “blijvers en wijkers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Wijkers groeien het hard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Wijkers worden vaak blijv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761000" y="2362320"/>
            <a:ext cx="438300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iet dunnen en wat da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lanten groeien met elkaar in de hoog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een breedtegroe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lechte ontwikkeling van de plant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pnieuw beginnen is dan het bes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003640" y="2781360"/>
            <a:ext cx="3483000" cy="34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noeien of dunne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noeien = klein houden van de individuele pla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noeien = eindeloos werk houd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unnen = ruimte maken voor de individuele pla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unnen = eindi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De afplantrij aan de ra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258920" y="2314440"/>
            <a:ext cx="597708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 “overkokende” beplant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2" name="foto" descr=""/>
          <p:cNvPicPr/>
          <p:nvPr/>
        </p:nvPicPr>
        <p:blipFill>
          <a:blip r:embed="rId1"/>
          <a:stretch/>
        </p:blipFill>
        <p:spPr>
          <a:xfrm>
            <a:off x="1258920" y="2421000"/>
            <a:ext cx="58341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et probleem van de bo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55640" y="2349360"/>
            <a:ext cx="2755800" cy="45086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761000" y="2620800"/>
            <a:ext cx="4383000" cy="3726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 flipV="1">
            <a:off x="3564000" y="4652640"/>
            <a:ext cx="1439640" cy="647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 oplossing van de bo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3229200" cy="45086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840560" y="2460600"/>
            <a:ext cx="309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laats de bome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zo mogelijk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aast de  struik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e komt het tot stand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en ontwerper maakt een p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kening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schrijving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chema’s enz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j stelt de functie va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j bepaalt daarbij de beplantingsvor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j maakt daarvoor een beplantingsp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 hij maakt een beheersp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908000" y="2370240"/>
            <a:ext cx="5905800" cy="44877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en voorbeeld van een teke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en toelichting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landschappelijke beplanting en streekeigen inrichting van een erf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In het plan staat welke soorten hagen, hoogstamfruitbomen, laanbomen het beste geplant kunnen worden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Waar bijvoorbeeld een singel, moestuin, vaste planten of boomgaard het best tot zijn recht komt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 Functi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aarmee wordt bedoeld waarvoor de beplanting dient, bijv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en landschappelijk element in een pold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gwerken van een lelijk obje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erkeersgeleid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atuurontwikkel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ndvang enz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 beplantingsvor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Alleen hoge srtui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truiken met een enkele boom erbov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Alleen bomen, een bos d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truiken met alleen bomen langs de r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en mengsel van bomen en struik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nz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eplantingspla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In het plan staat welke soorten struiken, hagen, hoogstamfruitbomen, laanbomen het beste geplant kunnen word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Ook wordt hier de plantafstand vermeld. Bij rijafstand 2 meter, in de rij 1 met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Vaak is hier een beplantingstekening voor nodi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lleen struiken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403280" y="2781360"/>
            <a:ext cx="669780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16:00:50Z</dcterms:created>
  <dc:creator>Peter</dc:creator>
  <dc:description/>
  <dc:language>en-US</dc:language>
  <cp:lastModifiedBy>Administrator</cp:lastModifiedBy>
  <dcterms:modified xsi:type="dcterms:W3CDTF">2009-01-29T20:18:52Z</dcterms:modified>
  <cp:revision>10</cp:revision>
  <dc:subject/>
  <dc:title>BOSPLANTSOEN</dc:title>
</cp:coreProperties>
</file>