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B9A4-1635-451F-8228-C851B246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9423-0696-4BD7-90F4-F0D624E0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BCB8-84C2-403B-B4BF-74F55FCD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7FD8-CCBF-412B-B31E-10334FA0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0BB92-8F2C-484E-B357-7560E8FE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DB35-59EC-432F-86DE-90B003839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A54C-5BDD-40A7-A91C-D2FD4243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79D5-724B-47A2-AF34-99C011BB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4108-05B9-4B9D-BA6B-5550B9B4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B173-4C23-46D4-8D43-A000C8D6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9827-4802-4DCE-8608-A1AFB1AD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7BF4-4151-4BB3-87DF-2DCFEDCD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7B40-31AF-4C18-88DE-70CAF3DC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C822-706E-400B-BCF0-FA5D3050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2156-E6EC-4D60-9E3B-22749190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67B4-171D-408B-9999-CA55E445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EE00-D872-409D-8E4A-1F598FF2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216A-2BDC-44E5-9793-44480075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6559-BE5D-49AA-9210-51D6C86B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814B-337D-49D3-9C48-796A28B5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974F-065D-4CF7-9DBC-38C73183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ACB5-2EEA-43E4-A26E-3020EBDA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D1E4-E933-4814-920B-B0BD1E65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A939-CE65-4EE1-967A-A5066821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2BE3-BD61-40DA-B8B7-74624C2C8C26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1D2D-FA92-4D28-88AC-6C07F4CC018D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403_dekzand01" TargetMode="External"/><Relationship Id="rId2" Type="http://schemas.openxmlformats.org/officeDocument/2006/relationships/hyperlink" Target="http://www.schooltv.nl/beeldbank/clip/20030403_duin01" TargetMode="External"/><Relationship Id="rId3" Type="http://schemas.openxmlformats.org/officeDocument/2006/relationships/hyperlink" Target="http://www.schooltv.nl/beeldbank/clip/20030403_duin03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31_stuwwal01" TargetMode="External"/><Relationship Id="rId2" Type="http://schemas.openxmlformats.org/officeDocument/2006/relationships/hyperlink" Target="http://www.schooltv.nl/beeldbank/clip/20030403_loss01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rivierklei01" TargetMode="External"/><Relationship Id="rId2" Type="http://schemas.openxmlformats.org/officeDocument/2006/relationships/hyperlink" Target="http://www.schooltv.nl/beeldbank/clip/20030328_rivierklei02" TargetMode="External"/><Relationship Id="rId3" Type="http://schemas.openxmlformats.org/officeDocument/2006/relationships/hyperlink" Target="http://www.schooltv.nl/beeldbank/clip/20030328_zeeklei01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chooltv.nl/beeldbank/clip/20030328_hoogveen04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De grondsoorten van Nederland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wind zijn neergelegd.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ek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dui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zandkorrels zijn afgeronde kiezelsteen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schuurpapier, je voelt de korrels duidelijk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z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403_dekzand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duin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ttp://www.schooltv.nl/beeldbank/clip/20030403_duin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403_duin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713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De zandgronden</a:t>
            </a:r>
            <a:br>
              <a:rPr sz="3800"/>
            </a:b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Zandgronden die door het water zijn afgezet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vier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z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s zijn scher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grof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n weinig of geen water vast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emgrond/Löss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4762440" cy="3571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284720" y="3400560"/>
            <a:ext cx="4859280" cy="3457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84720" y="1197000"/>
            <a:ext cx="257832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leem en lö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31_stuwwal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403_loss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 leemhoudende 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- en Lössgronden:  zeer fijne zandkorr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eeft eigenschappen als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t houdt veel vocht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roogt op in harde bon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fijn schuurpapi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lei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704844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kle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rivier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http://www.schooltv.nl/beeldbank/clip/20030328_rivier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http://www.schooltv.nl/beeldbank/clip/20030328_zeeklei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://www.schooltv.nl/beeldbank/clip/20030328_zeeklei0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Kleigronde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eer fijn verweerd gesteentemateria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elt tussen de vingers in vochtige toestand aan als een smeermid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udt veel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l plantenvoedende minera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waar te bewer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1328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447880" y="18900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erk vereenvoudigde in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" y="10684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ee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0000" y="150192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oo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360" y="2868480"/>
            <a:ext cx="13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Zandgr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32160" y="4164120"/>
            <a:ext cx="11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ivierk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07640" y="610884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ö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7520" y="24177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ag)v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1268280"/>
            <a:ext cx="1008000" cy="865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637000"/>
            <a:ext cx="934920" cy="431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363640" y="1484280"/>
            <a:ext cx="1079640" cy="216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58920" y="3068640"/>
            <a:ext cx="1584360" cy="73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211280" y="6308640"/>
            <a:ext cx="360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2987280" y="4005000"/>
            <a:ext cx="1297080" cy="36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840720" cy="52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vel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en natuurlijk mengsel van klei en z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orrelgrootte ligt tussen zand en 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ede vocht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ttig te bewerken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het aan als een smeermiddel met wat fijn zand erdo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mpjes over 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www.schooltv.nl/beeldbank/clip/20030328_hoogveen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28_laagveen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20030331_laagveen0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ttp://www.schooltv.nl/beeldbank/clip/t20080930_kinderdijk0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10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4780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3645000"/>
            <a:ext cx="4284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26920" y="277920"/>
            <a:ext cx="309708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eengro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ijd van organische oorsp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agveen (wordt onder water gevorm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veen (wordt boven de waterspiegel gevormd) is bijna verdw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ot 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inig draagkrach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ussen de vingers voelt vochtig veen als een smeermiddel en maakt de vingers zwar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bouw van het profi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een goede groei is de opbouw belangrij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afwisselingen in 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hoge indringingsw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en wisselende grondwater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leur zegt vaak ook iets over het organisch stof gehal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481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570200" cy="5256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175360" y="476280"/>
            <a:ext cx="396864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et waterhoudend vermogen van een gron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sche stof houdt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 beoordelen aan de kleur van de (zand)gron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donkerder, hoe meer waterhoud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el fijne gronddeeltjes zoals van klei en leem houden water va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meer de grond smeert tussen de vingers, hoe meer kleideeltj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6920" y="0"/>
            <a:ext cx="720108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waterstand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aal is een grondwaterstand tussen 70 cm en 100 cm onder maaive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veengronden ho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kleigronden la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sselende grondwaterstanden doen wortels in het wisselende gebied afsterv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grond moet voldoende los zijn om water onder de 1,2 m omhoog te voeren (capillaire werking van de gro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759280" y="0"/>
            <a:ext cx="33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Onderzoek van de bodem en herkenning van de grondsoort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kun je onderzoek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ndso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bouw van het profi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houdend vermo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er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ttps://livelink.groenkennisnet.nl/livelink/factsheet.do?request=download.factsheet&amp;id=93327148&amp;format=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ondsoor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nd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waa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aangespoe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emhoudende 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lei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rivier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zeekle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avel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engro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wormgangen in zand"/>
          <p:cNvPicPr/>
          <p:nvPr/>
        </p:nvPicPr>
        <p:blipFill>
          <a:blip r:embed="rId1"/>
          <a:stretch/>
        </p:blipFill>
        <p:spPr>
          <a:xfrm>
            <a:off x="900000" y="1528920"/>
            <a:ext cx="2832120" cy="5329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571760"/>
            <a:ext cx="3400560" cy="5286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Zandgro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5:59:39Z</dcterms:created>
  <dc:creator>Peter</dc:creator>
  <dc:description/>
  <dc:language>en-US</dc:language>
  <cp:lastModifiedBy>default</cp:lastModifiedBy>
  <dcterms:modified xsi:type="dcterms:W3CDTF">2008-11-28T11:57:36Z</dcterms:modified>
  <cp:revision>6</cp:revision>
  <dc:subject/>
  <dc:title>De grondsoorten van Nederland</dc:title>
</cp:coreProperties>
</file>