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28968-932F-40A9-A831-8BE6824BB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BDFEB-32C8-48F7-8778-C5BD2D3B8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36868-B620-4754-AEE7-8A76D2274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17E33-4D86-4501-ADFF-1CDD99587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D47C5-73A5-4491-ACF0-A7D3DFA4B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B0EC0-F46D-42F6-97CE-C1EB5303E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C3A6A-26B6-4AAA-9809-CB50617A6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8984-EC87-431F-8E0C-9164505AB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48AD0-55DC-4112-8ECA-D62C6806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DF36-ED47-474A-A51A-7BB39C7C5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EF2A-6ACD-45F0-AD59-EE92B7E63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61D5-4E6B-4E38-994B-13509678C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BAA5-BDEE-4067-AACF-6D8273C2B08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21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WL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L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t Langdurige Z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bekend als de AWB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oeding van kosten voor langdurige zorg in bv zorginstel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betaalt mee (inhouding via salar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IZ stelt indicatie vast voor landurige z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Eke Postma - Eisma</cp:lastModifiedBy>
  <dcterms:modified xsi:type="dcterms:W3CDTF">2021-02-03T13:47:53Z</dcterms:modified>
  <cp:revision>8</cp:revision>
  <dc:subject/>
  <dc:title>Administratie in de huisartsenpraktijk</dc:title>
</cp:coreProperties>
</file>