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5C467A-5404-41D7-B739-C20066851D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987099-0722-4180-A10A-205D2C26FC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6BDAFA-DB68-4420-9889-853721857E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11B762-19B9-4E9F-BBA2-53E4AC026A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2C09E5-95BA-450B-940A-D32F29DF75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E0BAE1-F4E7-4955-9985-7F0A88CBFA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92A61E-BF57-40D8-B354-9EA4F94874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B14520-1A40-4DAF-87E9-70B5355296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07668E-8D83-4A15-BACD-10ABC7252B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27CFAF-604F-4F0A-A1DF-08FF8C349D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C3EFA1-52B4-4F39-82B6-22DB3EED89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B09467-01FE-485D-A317-3F6E0992EF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3DAE8-FF0F-43D6-B7F5-CB94AB068BB6}"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057400"/>
            <a:ext cx="7772400" cy="1371600"/>
          </a:xfrm>
          <a:prstGeom prst="rect">
            <a:avLst/>
          </a:prstGeom>
          <a:solidFill>
            <a:srgbClr val="cc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Administratie in de huisartsenpraktijk</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solidFill>
            <a:srgbClr val="ccccff"/>
          </a:solid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Zorgverzekering</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Inschrijftarief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clarati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solidFill>
            <a:srgbClr val="cc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CTG </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solidFill>
            <a:srgbClr val="ccccff"/>
          </a:solid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College Tarieven Gezondheidszorg</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Stelt tarieven en budgetten vast voor instellingen en beroepsoefenaren in de gezondheidszorg</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Is een onderdeel van de Nza =Nederlandse Zorgautoriteit( www.nza.nl) , vormt dit samen met het College Toezicht Zorgverzekering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solidFill>
            <a:srgbClr val="cc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BSN</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solidFill>
            <a:srgbClr val="ccccff"/>
          </a:solid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urger service numm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is een persoonsnummer. Het voordeel van het BSN is dat u met dit nummer bij elk loket van de overheid terecht kunt. Dankzij het BSN kunnen overheidsorganisaties bestaande gegevensuitwisselingen eenvoudiger uitvoere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VECOZO</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anchor="t">
            <a:normAutofit fontScale="87000"/>
          </a:bodyPr>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66cc"/>
                </a:solidFill>
                <a:latin typeface="Times New Roman"/>
              </a:rPr>
              <a:t>Veilige Communicatie Zorg</a:t>
            </a:r>
            <a:endParaRPr b="0" lang="en-US" sz="2800" spc="-1" strike="noStrike">
              <a:solidFill>
                <a:srgbClr val="000000"/>
              </a:solidFill>
              <a:latin typeface="Times New Roman"/>
            </a:endParaRPr>
          </a:p>
          <a:p>
            <a:pPr marL="298440" indent="-298440">
              <a:lnSpc>
                <a:spcPct val="90000"/>
              </a:lnSpc>
              <a:spcBef>
                <a:spcPts val="601"/>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66cc"/>
                </a:solidFill>
                <a:latin typeface="Times New Roman"/>
              </a:rPr>
              <a:t>De VECOZO-diensten zijn bestemd voor zorgaanbieders, zorgverzekeraars (inclusief volmachten) en/of de zorgkantoren. VECOZO werkt daarnaast samen met softwareleveranciers, koepelorganisaties, ZN en andere partijen om de huidige diensten zo toegankelijk en gebruikersvriendelijk mogelijk te maken en nieuwe toepassingen te ontwikkelen.</a:t>
            </a:r>
            <a:endParaRPr b="0" lang="en-US" sz="2400" spc="-1" strike="noStrike">
              <a:solidFill>
                <a:srgbClr val="000000"/>
              </a:solidFill>
              <a:latin typeface="Times New Roman"/>
            </a:endParaRPr>
          </a:p>
          <a:p>
            <a:pPr marL="298440" indent="-298440">
              <a:lnSpc>
                <a:spcPct val="90000"/>
              </a:lnSpc>
              <a:spcBef>
                <a:spcPts val="601"/>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66cc"/>
                </a:solidFill>
                <a:latin typeface="Times New Roman"/>
              </a:rPr>
              <a:t>VECOZO faciliteert een beveiligd internetportaal waarin de communicatie tussen zorgaanbieders en zorgverzekeraars zo optimaal mogelijk kan verlopen</a:t>
            </a:r>
            <a:endParaRPr b="0" lang="en-US" sz="2400" spc="-1" strike="noStrike">
              <a:solidFill>
                <a:srgbClr val="000000"/>
              </a:solidFill>
              <a:latin typeface="Times New Roman"/>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solidFill>
            <a:srgbClr val="cc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COV              ION</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solidFill>
            <a:srgbClr val="ccccff"/>
          </a:solid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Controle Op Verzekeringsrech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Controle op de verzekeringgegevens van iedere patiën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Inschrijven Op Naa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solidFill>
            <a:srgbClr val="cc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Inschrijftarief</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solidFill>
            <a:srgbClr val="ccccff"/>
          </a:solid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Het tarief dat de huisarts per ingeschreven patiënt per kwartaal bij de zorgverzekeraar mag declare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us 4x per jaa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solidFill>
            <a:srgbClr val="cc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Gedifferentieerd inschrijftarief</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solidFill>
            <a:srgbClr val="ccccff"/>
          </a:solid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Het tarief wat gedeclareerd mag worden als de zorgaanbieder een contract heeft met de zorgverzekeraa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Leeftijd &gt; 64 jaa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gt; 74 jaa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Achterstandswijk(postcod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POH-GGZ</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solidFill>
            <a:srgbClr val="cc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Tarievenstructuur</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solidFill>
            <a:srgbClr val="ccccff"/>
          </a:solid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Inschrijftarieve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Consulten , ook visite, telef. consult enz.</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verige tarieven bijv. keuring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000000"/>
              </a:solidFill>
              <a:latin typeface="Times New Roman"/>
            </a:endParaRPr>
          </a:p>
        </p:txBody>
      </p:sp>
      <p:sp>
        <p:nvSpPr>
          <p:cNvPr id="74" name="PlaceHolder 2"/>
          <p:cNvSpPr>
            <a:spLocks noGrp="1"/>
          </p:cNvSpPr>
          <p:nvPr>
            <p:ph/>
          </p:nvPr>
        </p:nvSpPr>
        <p:spPr>
          <a:xfrm>
            <a:off x="685800" y="549000"/>
            <a:ext cx="7772400" cy="5832360"/>
          </a:xfrm>
          <a:prstGeom prst="rect">
            <a:avLst/>
          </a:prstGeom>
          <a:solidFill>
            <a:srgbClr val="ccccff"/>
          </a:solid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olgens afspraken in het afgesloten contract  met de zorgverzekeraar ook:</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Modernisering en Innovatie=</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M en I-verrichtingen: bijv. plaatsen spiraal,  Cyriaxinjectie</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Projecten:Ketenzorg (bijv Diabetes;COPD/Astma)Hieruit moet de POH-S bekostigd word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solidFill>
            <a:srgbClr val="cc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Specificatie van de declaratie</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solidFill>
            <a:srgbClr val="ccccff"/>
          </a:solid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ie: naam, geboortedatum, BSN, verzekering en numme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at:bijv. inschrijftarief, verrichting enz.</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anneer: datu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veelgestelde-vragen-smart"/>
          <p:cNvPicPr/>
          <p:nvPr/>
        </p:nvPicPr>
        <p:blipFill>
          <a:blip r:embed="rId1"/>
          <a:stretch/>
        </p:blipFill>
        <p:spPr>
          <a:xfrm>
            <a:off x="2468520" y="811080"/>
            <a:ext cx="4206960" cy="5235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solidFill>
            <a:srgbClr val="cc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Basisverzekering</a:t>
            </a:r>
            <a:endParaRPr b="0" lang="en-US" sz="4400" spc="-1" strike="noStrike">
              <a:solidFill>
                <a:srgbClr val="000000"/>
              </a:solidFill>
              <a:latin typeface="Times New Roman"/>
            </a:endParaRPr>
          </a:p>
        </p:txBody>
      </p:sp>
      <p:sp>
        <p:nvSpPr>
          <p:cNvPr id="44" name="PlaceHolder 2"/>
          <p:cNvSpPr>
            <a:spLocks noGrp="1"/>
          </p:cNvSpPr>
          <p:nvPr>
            <p:ph/>
          </p:nvPr>
        </p:nvSpPr>
        <p:spPr>
          <a:xfrm>
            <a:off x="609480" y="1980720"/>
            <a:ext cx="7848720" cy="4876920"/>
          </a:xfrm>
          <a:prstGeom prst="rect">
            <a:avLst/>
          </a:prstGeom>
          <a:solidFill>
            <a:srgbClr val="ccccff"/>
          </a:solid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Naturapolis</a:t>
            </a:r>
            <a:r>
              <a:rPr b="0" lang="nl-NL" sz="2800" spc="-1" strike="noStrike">
                <a:solidFill>
                  <a:srgbClr val="000000"/>
                </a:solidFill>
                <a:latin typeface="Times New Roman"/>
              </a:rPr>
              <a:t>:  Zorg door verzekeraar gecontracteerde zorgaanbieders, de rekeningen gaan naar de verzekeraar</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Restitutiepolis</a:t>
            </a:r>
            <a:r>
              <a:rPr b="0" lang="nl-NL" sz="2800" spc="-1" strike="noStrike">
                <a:solidFill>
                  <a:srgbClr val="000000"/>
                </a:solidFill>
                <a:latin typeface="Times New Roman"/>
              </a:rPr>
              <a:t>: zorg mag door iedere gekwalificeerde zorgaanbieder geleverd worden, de rekeningen gaan vaak naar de zorgvrager</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Aanvullende</a:t>
            </a:r>
            <a:r>
              <a:rPr b="0" lang="nl-NL" sz="2800" spc="-1" strike="noStrike">
                <a:solidFill>
                  <a:srgbClr val="000000"/>
                </a:solidFill>
                <a:latin typeface="Times New Roman"/>
              </a:rPr>
              <a:t> verzekeringen voor vergoeding van datgene wat niet door de basisverzekering wordt gedek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solidFill>
            <a:srgbClr val="cc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Zorgverzekeringswet</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solidFill>
            <a:srgbClr val="ccccff"/>
          </a:solid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Sinds 1 januari 2006</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Iedere Nederlander is verplicht een basisverzekering af te sluiten uit gezonderd de Gemoedsbezwa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Tot 18 jaar is er geen premie verschuldig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anaf 18 jaar is er een verplicht eigen risico</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solidFill>
            <a:srgbClr val="cc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Eigen risico</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solidFill>
            <a:srgbClr val="ccccff"/>
          </a:solid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220 Euro in 2012, nu 2021  385 Eur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Dit eigen risico geldt nie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de huisart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verloskundige hulp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kraamzorg</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Nacontroles van donor, na orgaantransplantati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Hulpmiddelen die in bruikleen worden verstrek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solidFill>
            <a:srgbClr val="cc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Bewijs van inschrijving:</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solidFill>
            <a:srgbClr val="ccccff"/>
          </a:solid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Polisbla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rzekeringspasje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solidFill>
            <a:srgbClr val="cc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Wat staat er op de zorgpas:</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solidFill>
            <a:srgbClr val="ccccff"/>
          </a:solid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aam van de zorgverzekeraar</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aam van de verzekerde</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boortedatum en geslacht</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SN</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rzekerdennummer</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ZOVIcode</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Afgiftedatum </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solidFill>
            <a:srgbClr val="cc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ZOVIcode</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solidFill>
            <a:srgbClr val="ccccff"/>
          </a:solidFill>
          <a:ln w="0">
            <a:noFill/>
          </a:ln>
        </p:spPr>
        <p:txBody>
          <a:bodyPr anchor="t">
            <a:normAutofit/>
          </a:bodyPr>
          <a:p>
            <a:pPr marL="343080" indent="-343080">
              <a:lnSpc>
                <a:spcPct val="90000"/>
              </a:lnSpc>
              <a:spcBef>
                <a:spcPts val="34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333333"/>
                </a:solidFill>
                <a:latin typeface="Times New Roman"/>
              </a:rPr>
              <a:t>Unieke ZorgVerzekeraarsIdentificatie (UZOVI) is een identificatie van de zorgverzekeraars in Nederland. Het register is in 2004 in opdracht van het Nationaal ICT Instituut in de Zorg (NICTIZ) ontwikkeld om eenduidig vast te stellen wie een zorgverzekeraar is.</a:t>
            </a:r>
            <a:br>
              <a:rPr sz="1600"/>
            </a:br>
            <a:br>
              <a:rPr sz="1600"/>
            </a:br>
            <a:r>
              <a:rPr b="0" lang="nl-NL" sz="1400" spc="-1" strike="noStrike">
                <a:solidFill>
                  <a:srgbClr val="333333"/>
                </a:solidFill>
                <a:latin typeface="Times New Roman"/>
              </a:rPr>
              <a:t>Dit register draagt, samen met het UZI-register voor zorgverleners en het BSN voor verzekerden, bij aan de integriteit, authenticiteit en vertrouwelijkheid van elektronische communicatie. Voor een succesvolle en grootschalige invoering is het van belang dat zorgverzekeraars, zorgverleners en anderen het UZOVI-nummer eenduidig implementeren. Met UZOVI is uniformiteit gewaarborgd en worden op termijn administratieve lasten verminderd.</a:t>
            </a:r>
            <a:br>
              <a:rPr sz="1400"/>
            </a:br>
            <a:br>
              <a:rPr sz="2800"/>
            </a:br>
            <a:r>
              <a:rPr b="1" lang="nl-NL" sz="1600" spc="-1" strike="noStrike">
                <a:solidFill>
                  <a:srgbClr val="333333"/>
                </a:solidFill>
                <a:latin typeface="Times New Roman"/>
              </a:rPr>
              <a:t>Wat wordt geregistreerd?</a:t>
            </a:r>
            <a:br>
              <a:rPr sz="1600"/>
            </a:br>
            <a:r>
              <a:rPr b="0" lang="nl-NL" sz="1600" spc="-1" strike="noStrike">
                <a:solidFill>
                  <a:srgbClr val="333333"/>
                </a:solidFill>
                <a:latin typeface="Times New Roman"/>
              </a:rPr>
              <a:t>In het UZOVI register worden de adresgegevens en het unieke UZOVI-nummer geregistreerd en onderhouden. Sinds 1 januari 2006 bevat het register de gegevens van de zorgverzekeraars, gevolmachtigde assurantietussenpersonen, zorgkantoren, labelorganisaties en nevenvestigingen. </a:t>
            </a:r>
            <a:br>
              <a:rPr sz="1600"/>
            </a:br>
            <a:br>
              <a:rPr sz="1400"/>
            </a:br>
            <a:r>
              <a:rPr b="0" lang="nl-NL" sz="1400" spc="-1" strike="noStrike">
                <a:solidFill>
                  <a:srgbClr val="333333"/>
                </a:solidFill>
                <a:latin typeface="Times New Roman"/>
              </a:rPr>
              <a:t>http://uzovi.vektis.nl/</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solidFill>
            <a:srgbClr val="cc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ZVW</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solidFill>
            <a:srgbClr val="ccccff"/>
          </a:solid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Zorgverzekeringswet is een deel van het Nederlandse zorgverzekeringsstelsel en vormt dit samen met de WLZ</a:t>
            </a:r>
            <a:endParaRPr b="0" lang="en-US" sz="32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ea typeface="Courier New"/>
              </a:rPr>
              <a:t>De omvang van de dekking van de zorgverzekering wordt door de ZVW en de onderliggende wetgeving (Besluit zorgverzekering en Regeling zorgverzekering) bepaald. Tot slot bepaalt de ZVW dat verzekeraars verplicht zijn iedereen te accepteren en zorgverzekeringen niet mogen beëindigen bij slecht schadeverloop.</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solidFill>
            <a:srgbClr val="cc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WLZ</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solidFill>
            <a:srgbClr val="ccccff"/>
          </a:solid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Wet Langdurige Zor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Vroeger bekend als de AWBZ</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Vergoeding van kosten voor langdurige zorg in bv zorginstell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Iedereen betaalt mee (inhouding via salari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CIZ stelt indicatie vast voor landurige zor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1T21:03:09Z</dcterms:created>
  <dc:creator>Agnieta</dc:creator>
  <dc:description/>
  <dc:language>en-US</dc:language>
  <cp:lastModifiedBy>Eke Postma - Eisma</cp:lastModifiedBy>
  <dcterms:modified xsi:type="dcterms:W3CDTF">2021-02-03T13:47:53Z</dcterms:modified>
  <cp:revision>8</cp:revision>
  <dc:subject/>
  <dc:title>Administratie in de huisartsenpraktijk</dc:title>
</cp:coreProperties>
</file>