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32303-8C7C-494A-B505-498C23A4D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A881-A0E1-45E7-98F1-F33186FC9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9EDDB-E5BE-40A8-BD3A-207B09C1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EDD5D-3019-4761-9A4D-36FAA54CE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619C5-7C24-43BB-9352-F549481A1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320C-71EE-4B76-A652-3DE57F4CE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63B29-E3B8-4058-A91C-D0D17AF06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03AA-CAB1-4A64-868A-9FACC10A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C2714-589F-4E4A-ABD2-383A4160E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72F4-E101-47F4-A8A4-A1EC84BC9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B1AE-0459-4F9A-8131-D4103D9E7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8BA7-197E-42B1-9E1D-C3DABEAD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53A6-46F0-4003-8C88-B1CB92097B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dministratie in de huisartsenpraktij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solidFill>
            <a:srgbClr val="cccc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f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clarati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TG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lege Tarieven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elt tarieven en budgetten vast voor instellingen en beroepsoefenaren in de gezondheidszor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onderdeel van de Nza =Nederlandse Zorgautoriteit( www.nza.nl) , vormt dit samen met het College Toezicht Zorgverzeke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S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urger service numm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s een persoonsnummer. Het voordeel van het BSN is dat u met dit nummer bij elk loket van de overheid terecht kunt. Dankzij het BSN kunnen overheidsorganisaties bestaande gegevensuitwisselingen eenvoudiger uitvoer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COZO</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cc"/>
                </a:solidFill>
                <a:latin typeface="Times New Roman"/>
              </a:rPr>
              <a:t>Veilige Communicatie Zorg</a:t>
            </a:r>
            <a:endParaRPr b="0" lang="en-US" sz="28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De VECOZO-diensten zijn bestemd voor zorgaanbieders, zorgverzekeraars (inclusief volmachten) en/of de zorgkantoren. VECOZO werkt daarnaast samen met softwareleveranciers, koepelorganisaties, ZN en andere partijen om de huidige diensten zo toegankelijk en gebruikersvriendelijk mogelijk te maken en nieuwe toepassingen te ontwikkelen.</a:t>
            </a:r>
            <a:endParaRPr b="0" lang="en-US" sz="2400" spc="-1" strike="noStrike">
              <a:solidFill>
                <a:srgbClr val="000000"/>
              </a:solidFill>
              <a:latin typeface="Times New Roman"/>
            </a:endParaRPr>
          </a:p>
          <a:p>
            <a:pPr marL="298440" indent="-298440">
              <a:lnSpc>
                <a:spcPct val="90000"/>
              </a:lnSpc>
              <a:spcBef>
                <a:spcPts val="601"/>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66cc"/>
                </a:solidFill>
                <a:latin typeface="Times New Roman"/>
              </a:rPr>
              <a:t>VECOZO faciliteert een beveiligd internetportaal waarin de communicatie tussen zorgaanbieders en zorgverzekeraars zo optimaal mogelijk kan verlopen</a:t>
            </a:r>
            <a:endParaRPr b="0" lang="en-US" sz="24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              ION</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Verzekeringsre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trole op de verzekeringgegevens van iedere patië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ven Op Na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schrijftarief</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dat de huisarts per ingeschreven patiënt per kwartaal bij de zorgverzekeraar mag declar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4x per ja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differentieerd inschrijftarief</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tarief wat gedeclareerd mag worden als de zorgaanbieder een contract heeft met de zorgverzeker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gt; 6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t; 74 ja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hterstandswijk(postc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H-GGZ</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arievenstructuu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schrijftariev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nsulten , ook visite, telef. consult en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ige tarieven bijv. keurin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sp>
        <p:nvSpPr>
          <p:cNvPr id="74" name="PlaceHolder 2"/>
          <p:cNvSpPr>
            <a:spLocks noGrp="1"/>
          </p:cNvSpPr>
          <p:nvPr>
            <p:ph/>
          </p:nvPr>
        </p:nvSpPr>
        <p:spPr>
          <a:xfrm>
            <a:off x="685800" y="549000"/>
            <a:ext cx="7772400" cy="5832360"/>
          </a:xfrm>
          <a:prstGeom prst="rect">
            <a:avLst/>
          </a:prstGeom>
          <a:solidFill>
            <a:srgbClr val="ccccff"/>
          </a:solid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olgens afspraken in het afgesloten contract  met de zorgverzekeraar 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dernisering en Innovati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 en I-verrichtingen: bijv. plaatsen spiraal,  Cyriaxinjec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jecten:Ketenzorg (bijv Diabetes;COPD/Astma)Hieruit moet de POH-S bekostigd word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pecificatie van de declarati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ie: naam, geboortedatum, BSN, verzekering en numm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bijv. inschrijftarief, verrichting enz.</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nneer: dat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veelgestelde-vragen-smart"/>
          <p:cNvPicPr/>
          <p:nvPr/>
        </p:nvPicPr>
        <p:blipFill>
          <a:blip r:embed="rId1"/>
          <a:stretch/>
        </p:blipFill>
        <p:spPr>
          <a:xfrm>
            <a:off x="2468520" y="811080"/>
            <a:ext cx="4206960" cy="523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asisverzekering</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980720"/>
            <a:ext cx="7848720" cy="4876920"/>
          </a:xfrm>
          <a:prstGeom prst="rect">
            <a:avLst/>
          </a:prstGeom>
          <a:solidFill>
            <a:srgbClr val="ccccff"/>
          </a:solid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urapolis</a:t>
            </a:r>
            <a:r>
              <a:rPr b="0" lang="nl-NL" sz="2800" spc="-1" strike="noStrike">
                <a:solidFill>
                  <a:srgbClr val="000000"/>
                </a:solidFill>
                <a:latin typeface="Times New Roman"/>
              </a:rPr>
              <a:t>:  Zorg door verzekeraar gecontracteerde zorgaanbieders, de rekeningen gaan naar de verzekeraa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stitutiepolis</a:t>
            </a:r>
            <a:r>
              <a:rPr b="0" lang="nl-NL" sz="2800" spc="-1" strike="noStrike">
                <a:solidFill>
                  <a:srgbClr val="000000"/>
                </a:solidFill>
                <a:latin typeface="Times New Roman"/>
              </a:rPr>
              <a:t>: zorg mag door iedere gekwalificeerde zorgaanbieder geleverd worden, de rekeningen gaan vaak naar de zorgvrage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vullende</a:t>
            </a:r>
            <a:r>
              <a:rPr b="0" lang="nl-NL" sz="2800" spc="-1" strike="noStrike">
                <a:solidFill>
                  <a:srgbClr val="000000"/>
                </a:solidFill>
                <a:latin typeface="Times New Roman"/>
              </a:rPr>
              <a:t> verzekeringen voor vergoeding van datgene wat niet door de basisverzekering wordt gedek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orgverzekeringswe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nds 1 januari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ederlander is verplicht een basisverzekering af te sluiten uit gezonderd de Gemoedsbezwa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t 18 jaar is er geen premie verschuld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naf 18 jaar is er een verplicht eigen risi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Eigen risico</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220 Euro in 2012, nu 2021  385 Eur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it eigen risico geldt nie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de huis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loskundige hulp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kraamzor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acontroles van donor, na orgaantransplantati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Hulpmiddelen die in bruikleen worden verstrek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wijs van inschrijvin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olisbla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ingspasj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staat er op de zorgpa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zorgverzekeraa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aam van de verzeker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boortedatum en geslac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S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zekerdennumm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ZOVIco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giftedatum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ZOVIcod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lnSpc>
                <a:spcPct val="90000"/>
              </a:lnSpc>
              <a:spcBef>
                <a:spcPts val="34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333333"/>
                </a:solidFill>
                <a:latin typeface="Times New Roman"/>
              </a:rPr>
              <a:t>Unieke ZorgVerzekeraarsIdentificatie (UZOVI) is een identificatie van de zorgverzekeraars in Nederland. Het register is in 2004 in opdracht van het Nationaal ICT Instituut in de Zorg (NICTIZ) ontwikkeld om eenduidig vast te stellen wie een zorgverzekeraar is.</a:t>
            </a:r>
            <a:br>
              <a:rPr sz="1600"/>
            </a:br>
            <a:br>
              <a:rPr sz="1600"/>
            </a:br>
            <a:r>
              <a:rPr b="0" lang="nl-NL" sz="1400" spc="-1" strike="noStrike">
                <a:solidFill>
                  <a:srgbClr val="333333"/>
                </a:solidFill>
                <a:latin typeface="Times New Roman"/>
              </a:rPr>
              <a:t>Dit register draagt, samen met het UZI-register voor zorgverleners en het BSN voor verzekerden, bij aan de integriteit, authenticiteit en vertrouwelijkheid van elektronische communicatie. Voor een succesvolle en grootschalige invoering is het van belang dat zorgverzekeraars, zorgverleners en anderen het UZOVI-nummer eenduidig implementeren. Met UZOVI is uniformiteit gewaarborgd en worden op termijn administratieve lasten verminderd.</a:t>
            </a:r>
            <a:br>
              <a:rPr sz="1400"/>
            </a:br>
            <a:br>
              <a:rPr sz="2800"/>
            </a:br>
            <a:r>
              <a:rPr b="1" lang="nl-NL" sz="1600" spc="-1" strike="noStrike">
                <a:solidFill>
                  <a:srgbClr val="333333"/>
                </a:solidFill>
                <a:latin typeface="Times New Roman"/>
              </a:rPr>
              <a:t>Wat wordt geregistreerd?</a:t>
            </a:r>
            <a:br>
              <a:rPr sz="1600"/>
            </a:br>
            <a:r>
              <a:rPr b="0" lang="nl-NL" sz="1600" spc="-1" strike="noStrike">
                <a:solidFill>
                  <a:srgbClr val="333333"/>
                </a:solidFill>
                <a:latin typeface="Times New Roman"/>
              </a:rPr>
              <a:t>In het UZOVI register worden de adresgegevens en het unieke UZOVI-nummer geregistreerd en onderhouden. Sinds 1 januari 2006 bevat het register de gegevens van de zorgverzekeraars, gevolmachtigde assurantietussenpersonen, zorgkantoren, labelorganisaties en nevenvestigingen. </a:t>
            </a:r>
            <a:br>
              <a:rPr sz="1600"/>
            </a:br>
            <a:br>
              <a:rPr sz="1400"/>
            </a:br>
            <a:r>
              <a:rPr b="0" lang="nl-NL" sz="1400" spc="-1" strike="noStrike">
                <a:solidFill>
                  <a:srgbClr val="333333"/>
                </a:solidFill>
                <a:latin typeface="Times New Roman"/>
              </a:rPr>
              <a:t>http://uzovi.vektis.n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VW</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rgverzekeringswet is een deel van het Nederlandse zorgverzekeringsstelsel en vormt dit samen met de WLZ</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De omvang van de dekking van de zorgverzekering wordt door de ZVW en de onderliggende wetgeving (Besluit zorgverzekering en Regeling zorgverzekering) bepaald. Tot slot bepaalt de ZVW dat verzekeraars verplicht zijn iedereen te accepteren en zorgverzekeringen niet mogen beëindigen bij slecht schadeverloo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LZ</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solidFill>
            <a:srgbClr val="ccccff"/>
          </a:solid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et Langdurige Z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roeger bekend als de AWBZ</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ergoeding van kosten voor langdurige zorg in bv zorginstel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betaalt mee (inhouding via salar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IZ stelt indicatie vast voor landurige z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21:03:09Z</dcterms:created>
  <dc:creator>Agnieta</dc:creator>
  <dc:description/>
  <dc:language>en-US</dc:language>
  <cp:lastModifiedBy>Eke Postma - Eisma</cp:lastModifiedBy>
  <dcterms:modified xsi:type="dcterms:W3CDTF">2021-02-03T13:47:53Z</dcterms:modified>
  <cp:revision>8</cp:revision>
  <dc:subject/>
  <dc:title>Administratie in de huisartsenpraktijk</dc:title>
</cp:coreProperties>
</file>