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B44-34D5-4F39-B7F3-0276E1B6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A21-E579-4B59-A317-C5A00822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A2D-F585-435E-84BE-9DD453F1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BE6-9E18-41E4-87C6-7271C9FE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CF4-EC58-45C6-B5C9-212F7DC0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830-1BBA-46EF-A595-4A8D31EA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D97-633F-4155-AC1F-84EA05B4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108-5A4F-407A-A0B8-A1C1332B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49F-ADE1-4322-BCF6-FAE3FD75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F8E-4604-40A4-959A-83C429D0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B48-8FC5-45B8-AFCE-BA6B8AA5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C12-5E32-483F-9565-B8FD7395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0DB2-663E-4139-BD49-D2769E9D9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ydraulisch%20schema%20maaidorser" descr=""/>
          <p:cNvPicPr/>
          <p:nvPr/>
        </p:nvPicPr>
        <p:blipFill>
          <a:blip r:embed="rId1"/>
          <a:stretch/>
        </p:blipFill>
        <p:spPr>
          <a:xfrm>
            <a:off x="0" y="31896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3:26:15Z</dcterms:created>
  <dc:creator>MBO Boxtel</dc:creator>
  <dc:description/>
  <dc:language>en-US</dc:language>
  <cp:lastModifiedBy>MBO Boxtel</cp:lastModifiedBy>
  <dcterms:modified xsi:type="dcterms:W3CDTF">2003-12-04T13:26:34Z</dcterms:modified>
  <cp:revision>1</cp:revision>
  <dc:subject/>
  <dc:title>PowerPoint-presentatie</dc:title>
</cp:coreProperties>
</file>