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660A-2DC6-4EDE-8339-339FE556F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4AEA-7C5B-42C5-9AB2-3FE0573F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3731-5D9F-4F27-9526-9ACEF6DBC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66CB-9B4A-4497-9527-926FC94B9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8089-C3A7-4C31-849E-EA089192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AF78-8637-481B-9139-401B752A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911C-143F-4FA8-A14C-A3BD97B7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33BE-81FD-4BE3-B032-9807FDC2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3063-0F11-4B3A-A754-790A0097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C3A2-D995-43D8-8C1B-1FAF204F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715B-D541-492D-ACB5-5A123C94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241F-0E50-4D7F-B5FF-AF000BEE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FD175-7AA6-4302-987C-C5C4111E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7FB3-F115-4987-9623-B76EA273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2337-C1EE-4482-A380-53490D6F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094F-4720-4904-83D6-9B1A7BFB5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DBF5-A2E7-4932-96AC-42E4DBF34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98B8-75AA-4FA7-B45E-A1AB4E5A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16C3-E517-4CCA-BC7E-A2A8D2FF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1AC8-6396-47D9-85C0-A8FCA792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A95E-DF16-4F58-A0EF-E2C114C4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F315-A9EA-4B2F-83B1-ED17E6A2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B6E2-68FE-4222-97EA-E91BA5BD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B0E6-2724-42BD-9894-86281F69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55D0-68F4-4006-BFCE-41C0B1EAFF50}" type="slidenum">
              <a:rPr b="0" lang="nl-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4770-60F7-4F3D-99B3-F4DA2FEA7656}" type="slidenum">
              <a:rPr b="0" lang="nl-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aaidors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rcRect l="7162" t="24270" r="21928" b="9647"/>
          <a:stretch/>
        </p:blipFill>
        <p:spPr>
          <a:xfrm>
            <a:off x="2050920" y="2276640"/>
            <a:ext cx="48405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asisafstell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rcRect l="11606" t="26367" r="13086" b="21465"/>
          <a:stretch/>
        </p:blipFill>
        <p:spPr>
          <a:xfrm>
            <a:off x="826920" y="2133720"/>
            <a:ext cx="7345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graanverliestab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rcRect l="19728" t="18512" r="21942" b="8658"/>
          <a:stretch/>
        </p:blipFill>
        <p:spPr>
          <a:xfrm>
            <a:off x="2484360" y="1935000"/>
            <a:ext cx="4824360" cy="45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Perceel dor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rcRect l="35970" t="21465" r="18997" b="12586"/>
          <a:stretch/>
        </p:blipFill>
        <p:spPr>
          <a:xfrm>
            <a:off x="2411280" y="2033640"/>
            <a:ext cx="4392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CCM dor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Picture 2" descr="http://www1.trekkerweb.nl/media/default.aspx/emma/org/10342196/P1010191.JPG"/>
          <p:cNvPicPr/>
          <p:nvPr/>
        </p:nvPicPr>
        <p:blipFill>
          <a:blip r:embed="rId1"/>
          <a:srcRect l="0" t="26074" r="0" b="19788"/>
          <a:stretch/>
        </p:blipFill>
        <p:spPr>
          <a:xfrm>
            <a:off x="714240" y="2000160"/>
            <a:ext cx="77454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ais Dor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CCM (Corn-Cob-Mi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orr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p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chutbla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orrelm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orr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KS (maiskolvenschroo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Hele kolf gehaks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Dorser CC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Picture 2" descr="http://www1.trekkerweb.nl/media/default.aspx/emma/org/10342181/P1010176.JPG"/>
          <p:cNvPicPr/>
          <p:nvPr/>
        </p:nvPicPr>
        <p:blipFill>
          <a:blip r:embed="rId1"/>
          <a:stretch/>
        </p:blipFill>
        <p:spPr>
          <a:xfrm>
            <a:off x="2286000" y="1928880"/>
            <a:ext cx="47530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Werking voorzetstu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924360" y="2205000"/>
            <a:ext cx="4851360" cy="3844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971640" y="2205000"/>
            <a:ext cx="32306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kolvenplukk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10872" t="31294" r="43361" b="23419"/>
          <a:stretch/>
        </p:blipFill>
        <p:spPr>
          <a:xfrm>
            <a:off x="1619280" y="2060640"/>
            <a:ext cx="54720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hamermol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Picture 2" descr="http://www1.trekkerweb.nl/media/default.aspx/emma/org/10342183/P1010178.JPG"/>
          <p:cNvPicPr/>
          <p:nvPr/>
        </p:nvPicPr>
        <p:blipFill>
          <a:blip r:embed="rId1"/>
          <a:stretch/>
        </p:blipFill>
        <p:spPr>
          <a:xfrm>
            <a:off x="2268360" y="1989000"/>
            <a:ext cx="475308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transportwa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0" name="Picture 2" descr="http://www1.trekkerweb.nl/media/default.aspx/emma/org/10342159/P1010152.JPG"/>
          <p:cNvPicPr/>
          <p:nvPr/>
        </p:nvPicPr>
        <p:blipFill>
          <a:blip r:embed="rId1"/>
          <a:stretch/>
        </p:blipFill>
        <p:spPr>
          <a:xfrm>
            <a:off x="1908000" y="2060640"/>
            <a:ext cx="47530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rcRect l="10890" t="24413" r="3138" b="19491"/>
          <a:stretch/>
        </p:blipFill>
        <p:spPr>
          <a:xfrm>
            <a:off x="3564000" y="3987720"/>
            <a:ext cx="5867280" cy="2870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uw en wer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aai en invoer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ors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Reinigings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raanopvang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Inf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ww.kennisakker.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andboek maistee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aai en invoergedeel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rcRect l="6445" t="26367" r="6445" b="25393"/>
          <a:stretch/>
        </p:blipFill>
        <p:spPr>
          <a:xfrm>
            <a:off x="324000" y="2276640"/>
            <a:ext cx="8496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"/>
          <p:cNvPicPr/>
          <p:nvPr/>
        </p:nvPicPr>
        <p:blipFill>
          <a:blip r:embed="rId1"/>
          <a:srcRect l="24154" t="19491" r="17513" b="23419"/>
          <a:stretch/>
        </p:blipFill>
        <p:spPr>
          <a:xfrm>
            <a:off x="4500720" y="2781360"/>
            <a:ext cx="4392360" cy="32241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dorsgedeel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2"/>
          <a:srcRect l="26383" t="17512" r="24903" b="19491"/>
          <a:stretch/>
        </p:blipFill>
        <p:spPr>
          <a:xfrm>
            <a:off x="250920" y="2249640"/>
            <a:ext cx="4751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Reinigingsgedeelt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rcRect l="16032" t="21465" r="15301" b="29320"/>
          <a:stretch/>
        </p:blipFill>
        <p:spPr>
          <a:xfrm>
            <a:off x="1258920" y="2565360"/>
            <a:ext cx="6697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Reinigingsgedeelte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rcRect l="13817" t="28341" r="11606" b="37200"/>
          <a:stretch/>
        </p:blipFill>
        <p:spPr>
          <a:xfrm>
            <a:off x="324000" y="1844640"/>
            <a:ext cx="831672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Reinigingsgedeelte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3" name="Group 6"/>
          <p:cNvGrpSpPr/>
          <p:nvPr/>
        </p:nvGrpSpPr>
        <p:grpSpPr>
          <a:xfrm>
            <a:off x="1908000" y="1989000"/>
            <a:ext cx="5832360" cy="4528800"/>
            <a:chOff x="1908000" y="1989000"/>
            <a:chExt cx="5832360" cy="4528800"/>
          </a:xfrm>
        </p:grpSpPr>
        <p:pic>
          <p:nvPicPr>
            <p:cNvPr id="114" name="Picture 4" descr=""/>
            <p:cNvPicPr/>
            <p:nvPr/>
          </p:nvPicPr>
          <p:blipFill>
            <a:blip r:embed="rId1"/>
            <a:srcRect l="13817" t="20466" r="33024" b="21465"/>
            <a:stretch/>
          </p:blipFill>
          <p:spPr>
            <a:xfrm>
              <a:off x="1908000" y="1989000"/>
              <a:ext cx="5526360" cy="45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Rectangle 5"/>
            <p:cNvSpPr/>
            <p:nvPr/>
          </p:nvSpPr>
          <p:spPr>
            <a:xfrm>
              <a:off x="5745600" y="4598280"/>
              <a:ext cx="1994760" cy="138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edie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23423" t="16538" r="21208" b="33273"/>
          <a:stretch/>
        </p:blipFill>
        <p:spPr>
          <a:xfrm>
            <a:off x="1763640" y="2060640"/>
            <a:ext cx="54007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Contro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rcRect l="19713" t="12600" r="9376" b="13585"/>
          <a:stretch/>
        </p:blipFill>
        <p:spPr>
          <a:xfrm>
            <a:off x="1332000" y="1484280"/>
            <a:ext cx="6410160" cy="500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6:11:45Z</dcterms:created>
  <dc:creator>Edwin Mellema</dc:creator>
  <dc:description/>
  <dc:language>en-US</dc:language>
  <cp:lastModifiedBy>eme</cp:lastModifiedBy>
  <dcterms:modified xsi:type="dcterms:W3CDTF">2010-04-09T09:48:15Z</dcterms:modified>
  <cp:revision>10</cp:revision>
  <dc:subject/>
  <dc:title>Maaidorser</dc:title>
</cp:coreProperties>
</file>