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8183-B94A-4461-A5D6-A39EF730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18C7-DF31-4D3E-A820-38277931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C53D-9F94-46F2-A7EA-3F9EF03F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A571-2757-4CF8-8A0D-42C9D826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4376-987A-4129-B68A-70F517060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52E2-54D6-42B9-BA0A-49E1052F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BC89-CC8B-4F2C-B089-AE8FC272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7634-FA5F-47F4-97A8-AFF07C6E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1E38-7C7B-4E2C-B9BA-71358FF3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02A0-C41E-4E2C-95E2-92E857BA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13DD-929A-48BE-B805-A660C6E4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3600-5983-4357-9DA5-AA776139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29B9-4823-48A1-9568-2CD4255B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C959-4CAF-465B-B3B3-92FED8DD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47A8-6F27-459D-8EFF-58476649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EA8B-F741-4133-8F79-50B88749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E4E9-633E-4BDA-BD95-62860EEB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3D50-D552-49F2-A2C0-4C2EB2C2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0D4F-8853-4D74-8E35-68163195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9B01-C02D-4DB7-9125-E30241F3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20A-293D-4F46-BC48-031791EB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E081-8C6B-40FD-84BF-DDBA20CE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585F-9F59-48BD-83F3-92966539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AA42-20EA-465D-8592-9329C478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C142-0B74-4752-9436-8503C5D49B43}" type="slidenum">
              <a:rPr b="0" lang="nl-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0A61-0E06-4F8A-B9D4-D2E159B0BCC1}" type="slidenum">
              <a:rPr b="0" lang="nl-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aidors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7162" t="24270" r="21928" b="9647"/>
          <a:stretch/>
        </p:blipFill>
        <p:spPr>
          <a:xfrm>
            <a:off x="2050920" y="2276640"/>
            <a:ext cx="48405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asisafstell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11606" t="26367" r="13086" b="21465"/>
          <a:stretch/>
        </p:blipFill>
        <p:spPr>
          <a:xfrm>
            <a:off x="826920" y="2133720"/>
            <a:ext cx="734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graanverliestab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rcRect l="19728" t="18512" r="21942" b="8658"/>
          <a:stretch/>
        </p:blipFill>
        <p:spPr>
          <a:xfrm>
            <a:off x="2484360" y="1935000"/>
            <a:ext cx="4824360" cy="45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Perceel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rcRect l="35970" t="21465" r="18997" b="12586"/>
          <a:stretch/>
        </p:blipFill>
        <p:spPr>
          <a:xfrm>
            <a:off x="2411280" y="2033640"/>
            <a:ext cx="439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CCM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2" descr="http://www1.trekkerweb.nl/media/default.aspx/emma/org/10342196/P1010191.JPG"/>
          <p:cNvPicPr/>
          <p:nvPr/>
        </p:nvPicPr>
        <p:blipFill>
          <a:blip r:embed="rId1"/>
          <a:srcRect l="0" t="26074" r="0" b="19788"/>
          <a:stretch/>
        </p:blipFill>
        <p:spPr>
          <a:xfrm>
            <a:off x="714240" y="2000160"/>
            <a:ext cx="77454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is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CM (Corn-Cob-Mi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orr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p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chutbla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orrelm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orr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KS (maiskolvenschroo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Hele kolf gehaks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orser CC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2" descr="http://www1.trekkerweb.nl/media/default.aspx/emma/org/10342181/P1010176.JPG"/>
          <p:cNvPicPr/>
          <p:nvPr/>
        </p:nvPicPr>
        <p:blipFill>
          <a:blip r:embed="rId1"/>
          <a:stretch/>
        </p:blipFill>
        <p:spPr>
          <a:xfrm>
            <a:off x="2286000" y="1928880"/>
            <a:ext cx="4753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Werking voorzetstu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4851360" cy="3844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3230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kolvenplukk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10872" t="31294" r="43361" b="23419"/>
          <a:stretch/>
        </p:blipFill>
        <p:spPr>
          <a:xfrm>
            <a:off x="1619280" y="2060640"/>
            <a:ext cx="54720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hamermol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Picture 2" descr="http://www1.trekkerweb.nl/media/default.aspx/emma/org/10342183/P1010178.JPG"/>
          <p:cNvPicPr/>
          <p:nvPr/>
        </p:nvPicPr>
        <p:blipFill>
          <a:blip r:embed="rId1"/>
          <a:stretch/>
        </p:blipFill>
        <p:spPr>
          <a:xfrm>
            <a:off x="2268360" y="1989000"/>
            <a:ext cx="47530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transportwa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Picture 2" descr="http://www1.trekkerweb.nl/media/default.aspx/emma/org/10342159/P1010152.JPG"/>
          <p:cNvPicPr/>
          <p:nvPr/>
        </p:nvPicPr>
        <p:blipFill>
          <a:blip r:embed="rId1"/>
          <a:stretch/>
        </p:blipFill>
        <p:spPr>
          <a:xfrm>
            <a:off x="1908000" y="2060640"/>
            <a:ext cx="4753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rcRect l="10890" t="24413" r="3138" b="19491"/>
          <a:stretch/>
        </p:blipFill>
        <p:spPr>
          <a:xfrm>
            <a:off x="3564000" y="3987720"/>
            <a:ext cx="5867280" cy="2870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uw en wer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aai en invoer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ors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Reinigings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aanopvang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Inf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ww.kennisakker.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andboek maiste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ai en invoergedeel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rcRect l="6445" t="26367" r="6445" b="25393"/>
          <a:stretch/>
        </p:blipFill>
        <p:spPr>
          <a:xfrm>
            <a:off x="324000" y="2276640"/>
            <a:ext cx="8496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rcRect l="24154" t="19491" r="17513" b="23419"/>
          <a:stretch/>
        </p:blipFill>
        <p:spPr>
          <a:xfrm>
            <a:off x="4500720" y="2781360"/>
            <a:ext cx="4392360" cy="3224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orsgedeel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rcRect l="26383" t="17512" r="24903" b="19491"/>
          <a:stretch/>
        </p:blipFill>
        <p:spPr>
          <a:xfrm>
            <a:off x="250920" y="2249640"/>
            <a:ext cx="4751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16032" t="21465" r="15301" b="29320"/>
          <a:stretch/>
        </p:blipFill>
        <p:spPr>
          <a:xfrm>
            <a:off x="1258920" y="2565360"/>
            <a:ext cx="6697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rcRect l="13817" t="28341" r="11606" b="37200"/>
          <a:stretch/>
        </p:blipFill>
        <p:spPr>
          <a:xfrm>
            <a:off x="324000" y="1844640"/>
            <a:ext cx="83167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3" name="Group 6"/>
          <p:cNvGrpSpPr/>
          <p:nvPr/>
        </p:nvGrpSpPr>
        <p:grpSpPr>
          <a:xfrm>
            <a:off x="1908000" y="1989000"/>
            <a:ext cx="5832360" cy="4528800"/>
            <a:chOff x="1908000" y="1989000"/>
            <a:chExt cx="5832360" cy="4528800"/>
          </a:xfrm>
        </p:grpSpPr>
        <p:pic>
          <p:nvPicPr>
            <p:cNvPr id="114" name="Picture 4" descr=""/>
            <p:cNvPicPr/>
            <p:nvPr/>
          </p:nvPicPr>
          <p:blipFill>
            <a:blip r:embed="rId1"/>
            <a:srcRect l="13817" t="20466" r="33024" b="21465"/>
            <a:stretch/>
          </p:blipFill>
          <p:spPr>
            <a:xfrm>
              <a:off x="1908000" y="1989000"/>
              <a:ext cx="5526360" cy="45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5"/>
            <p:cNvSpPr/>
            <p:nvPr/>
          </p:nvSpPr>
          <p:spPr>
            <a:xfrm>
              <a:off x="5745600" y="4598280"/>
              <a:ext cx="1994760" cy="13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edie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23423" t="16538" r="21208" b="33273"/>
          <a:stretch/>
        </p:blipFill>
        <p:spPr>
          <a:xfrm>
            <a:off x="1763640" y="2060640"/>
            <a:ext cx="5400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Contro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rcRect l="19713" t="12600" r="9376" b="13585"/>
          <a:stretch/>
        </p:blipFill>
        <p:spPr>
          <a:xfrm>
            <a:off x="1332000" y="1484280"/>
            <a:ext cx="6410160" cy="50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6:11:45Z</dcterms:created>
  <dc:creator>Edwin Mellema</dc:creator>
  <dc:description/>
  <dc:language>en-US</dc:language>
  <cp:lastModifiedBy>eme</cp:lastModifiedBy>
  <dcterms:modified xsi:type="dcterms:W3CDTF">2010-04-09T09:48:15Z</dcterms:modified>
  <cp:revision>10</cp:revision>
  <dc:subject/>
  <dc:title>Maaidorser</dc:title>
</cp:coreProperties>
</file>