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2845-2296-48AF-AC81-02333CB6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F1CB-85C0-4A12-A9AD-1D1F8F24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882-5619-4F71-B044-BC20E86F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3F5A-9C34-4239-84F7-4B2BD1839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DE79-8236-4094-A998-B737117A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0CEA-27FE-4DF5-AD1C-3F707F38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F834-3DC1-456A-87BD-78ECF360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1A15-5735-4F1D-8EA0-A01B8B21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1DB1-35A5-41CC-9901-0A1A462E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564A-31FA-4085-ACD1-F55B93BD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F7AB-1E81-4A0B-9432-FF014FA7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5583-9DBF-4F8D-995C-B7B2E7ED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CE37-EDB0-416E-8B6A-4DCF6CB1B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ydraulisch%20schema%20maaidorser" descr=""/>
          <p:cNvPicPr/>
          <p:nvPr/>
        </p:nvPicPr>
        <p:blipFill>
          <a:blip r:embed="rId1"/>
          <a:stretch/>
        </p:blipFill>
        <p:spPr>
          <a:xfrm>
            <a:off x="0" y="318960"/>
            <a:ext cx="891540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13:26:15Z</dcterms:created>
  <dc:creator>MBO Boxtel</dc:creator>
  <dc:description/>
  <dc:language>en-US</dc:language>
  <cp:lastModifiedBy>MBO Boxtel</cp:lastModifiedBy>
  <dcterms:modified xsi:type="dcterms:W3CDTF">2003-12-04T13:26:34Z</dcterms:modified>
  <cp:revision>1</cp:revision>
  <dc:subject/>
  <dc:title>PowerPoint-presentatie</dc:title>
</cp:coreProperties>
</file>