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485E1-F7BE-47D2-B313-596F90A42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3051C-AF99-4F9E-B923-FBD881DB4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61AE9-B07D-4678-9D33-8466F5914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88EE8-F844-4777-A0CE-6000CFDD7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96227-B57C-429D-9810-D2744FA62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21539-66CA-4C7B-8324-26FDBB3BC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69935-0B9F-4C7D-9878-E72B5E563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370F1-03D2-4FE3-A532-A76214CDD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DB554-CFD9-4685-89E9-BA796D50C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0D616-F94F-46E5-8DAF-66FEC2E6B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F180A-A147-460A-8ABC-F386EE047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5B370-1032-41EE-91F6-3DA70C036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49C43-156B-46EF-AA31-C6585F60EB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hydraulisch%20schema%20maaidorser" descr=""/>
          <p:cNvPicPr/>
          <p:nvPr/>
        </p:nvPicPr>
        <p:blipFill>
          <a:blip r:embed="rId1"/>
          <a:stretch/>
        </p:blipFill>
        <p:spPr>
          <a:xfrm>
            <a:off x="0" y="318960"/>
            <a:ext cx="8915400" cy="65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04T13:26:15Z</dcterms:created>
  <dc:creator>MBO Boxtel</dc:creator>
  <dc:description/>
  <dc:language>en-US</dc:language>
  <cp:lastModifiedBy>MBO Boxtel</cp:lastModifiedBy>
  <dcterms:modified xsi:type="dcterms:W3CDTF">2003-12-04T13:26:34Z</dcterms:modified>
  <cp:revision>1</cp:revision>
  <dc:subject/>
  <dc:title>PowerPoint-presentatie</dc:title>
</cp:coreProperties>
</file>