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A83B2-F9D4-4DB6-AF46-104A90B72F7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6F829-B4D0-4F94-B76B-0569FD45F3D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9A92C-602A-413A-B673-26CB1EAC4B0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B9B59-0517-4F09-A15C-A4670D4EDB9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39D3D-78C2-4721-8439-B4408BE14E5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C7434-B3FB-4EB5-9BFC-7E29478B8D1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DDFC9-99A2-447E-B196-D130EDE7157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BA8A8-68ED-4FCC-A729-94AAAE4CAEC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E7E9B-399B-4D9B-8BF7-EE68271AC3A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745BB-01BB-4D97-9634-1CB8E9E2AD4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82E135-4D73-4C6B-B225-FA410470C22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986B4C8B-F01E-426A-8C73-8912A6D37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DCE136B5-71EA-4391-A845-C82368DDB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93180DDC-877D-437C-BECB-1BB6ABBD4E9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F20AD7-3EDD-4100-9D94-246BE30F8D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697EF4FD-B207-4EB1-9374-6CBB3538AE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0A57F090-8FD8-40C7-AE2E-6684339031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27E1312C-671A-4BF4-A80F-7E61CFBC5D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84B91EDC-87CF-4590-B888-33891DBEF7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2DD2EB8F-58F4-4A88-ABDB-21CFC86805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47E8D664-8DFF-45C0-830C-011D086458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2FE1FF39-55D0-4097-B46A-F0140DD1B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B2DC1870-6E34-4A53-B547-0EA9BD4E64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7F170ADA-7A31-4146-8359-5EF2D15A5C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C553194D-F345-446A-A09E-3765FED742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AE6B4809-8921-4C7B-89A5-3FDC1D4C36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B35A5882-6DBC-4C40-9C98-26A4844E97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6E620DFA-06E4-4A38-8CBF-700C00A81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7489182D-B3B8-4EAF-A57B-B094C9D99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8632226E-A7AB-4109-A512-2F553C889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27568E70-348D-440B-9444-A528FEC8E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CD68656F-4F69-4B5C-9B96-11D20C8DC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BC5B8ED2-A80F-4816-95D0-D6C6BBE90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9BB34010-1BE1-4800-8705-5F18AD84264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24AB0-00C4-4665-BA28-5571390E2C4F}" type="datetime3">
              <a:rPr b="0" lang="nl-NL" sz="1400" spc="-1" strike="noStrike">
                <a:solidFill>
                  <a:srgbClr val="3b130a"/>
                </a:solidFill>
                <a:latin typeface="Times New Roman"/>
              </a:rPr>
              <a:t>29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F01C2-830C-43AC-86BA-10AF061BB811}"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4AA7E-E759-40E2-9624-20AA7A68E167}" type="datetime3">
              <a:rPr b="0" lang="nl-NL" sz="1400" spc="-1" strike="noStrike">
                <a:solidFill>
                  <a:srgbClr val="3b130a"/>
                </a:solidFill>
                <a:latin typeface="Times New Roman"/>
              </a:rPr>
              <a:t>29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B7A16-F013-4F84-9F6B-B4BCAB824E89}"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79658-84D2-4B09-A662-3454348C6B91}"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057A7-FBD9-4DAA-B961-13F91F66542C}"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881BA-AC55-42C9-8AD8-2B99E9A09053}"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46262-7B01-44AD-8DD0-B9DF4ABEB6ED}"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2F985-3A10-405C-822C-2FA4D1CD518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D476-875B-4C78-8AAF-0EF423BD4266}"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A921F-E7BF-4A7E-B1F5-7E754AD3B0F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FF70E-6EE7-4B4E-9745-DC846BFEEC5D}"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8F1AC-EE11-4910-A4CB-85EC9944931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FDE87-F6A2-4F7A-BC26-EFB3904A3499}"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F017E-CC1F-439D-9B01-0F4C9E573E13}"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B345E-0A12-4F9B-9516-94BB5CF95750}"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2C795-F1EA-4FBF-ADE8-68E5FB27DB52}"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F5DBF-F27C-4BBB-82AF-4F0D9901CCCD}"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6E72A-1ABC-48F4-8FD9-85AF42474A4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70BAF-C53F-41ED-A1F0-BA20CCBC8B0F}"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4C537-0C44-428F-838F-5919468135B2}"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7AC1C-7011-4B58-A588-8728E94866BA}"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35144-E4D6-4392-A92C-0E83096C826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