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9EB-F34F-4A86-AE83-39F11655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28F-9629-4F16-8741-451998E1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3E7-1AC2-4DDF-A57F-65B9E21F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3252-E5F1-4690-A915-7F8D4E53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0608-3F03-416F-8D96-864F4736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CDA9-D89A-4EC9-85AC-B911852F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0B57-E269-4381-A6AE-DC5F3202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5506-55F3-45A9-A22E-6504C441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77C3-3D31-43F2-A880-88E815FD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19DC-60CD-4C35-9194-0FFC2474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3D24-E9F0-4892-93CF-55513B72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7B8-BCA7-4706-97AB-B8D3CE63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62F9-F40D-4BBC-BBA4-F7454D64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BD34-8B44-4EC5-8EFC-55CA8F04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BF1E-747C-4183-977A-833B7C14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0310-2366-41B5-8C97-4FD2ED39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3477-0F76-42FA-84BD-8AF39E80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BF2D-47AF-4439-90BA-6BD0D4BB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8DC-BF8C-4B2A-AC70-B3567BE8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ED7D-0218-4A70-B2CC-76A06139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6EE-532E-460F-B441-2F7DEDB6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F42-6545-4441-B7FB-ACBF1822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FEF-212D-4C66-8935-F93522C1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7021-A64F-4AD1-AC64-07025F52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AEB5-4E45-4BC5-957B-35C9EF762EF8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7DD7-692C-4DE6-8D0D-11AE41F98B22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dor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7162" t="24270" r="21928" b="9647"/>
          <a:stretch/>
        </p:blipFill>
        <p:spPr>
          <a:xfrm>
            <a:off x="2050920" y="2276640"/>
            <a:ext cx="4840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safstell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11606" t="26367" r="13086" b="21465"/>
          <a:stretch/>
        </p:blipFill>
        <p:spPr>
          <a:xfrm>
            <a:off x="826920" y="2133720"/>
            <a:ext cx="734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graanverliestab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19728" t="18512" r="21942" b="8658"/>
          <a:stretch/>
        </p:blipFill>
        <p:spPr>
          <a:xfrm>
            <a:off x="2484360" y="1935000"/>
            <a:ext cx="482436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erceel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35970" t="21465" r="18997" b="12586"/>
          <a:stretch/>
        </p:blipFill>
        <p:spPr>
          <a:xfrm>
            <a:off x="2411280" y="2033640"/>
            <a:ext cx="439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CM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2" descr="http://www1.trekkerweb.nl/media/default.aspx/emma/org/10342196/P1010191.JPG"/>
          <p:cNvPicPr/>
          <p:nvPr/>
        </p:nvPicPr>
        <p:blipFill>
          <a:blip r:embed="rId1"/>
          <a:srcRect l="0" t="26074" r="0" b="19788"/>
          <a:stretch/>
        </p:blipFill>
        <p:spPr>
          <a:xfrm>
            <a:off x="714240" y="2000160"/>
            <a:ext cx="7745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is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CM (Corn-Cob-Mi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p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chutbla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rrelm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KS (maiskolvenschroo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ele kolf gehaks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er CC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2" descr="http://www1.trekkerweb.nl/media/default.aspx/emma/org/10342181/P1010176.JPG"/>
          <p:cNvPicPr/>
          <p:nvPr/>
        </p:nvPicPr>
        <p:blipFill>
          <a:blip r:embed="rId1"/>
          <a:stretch/>
        </p:blipFill>
        <p:spPr>
          <a:xfrm>
            <a:off x="2286000" y="192888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Werking voorzetstu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4851360" cy="384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3230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kolvenplukk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10872" t="31294" r="43361" b="23419"/>
          <a:stretch/>
        </p:blipFill>
        <p:spPr>
          <a:xfrm>
            <a:off x="1619280" y="2060640"/>
            <a:ext cx="54720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hamermol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Picture 2" descr="http://www1.trekkerweb.nl/media/default.aspx/emma/org/10342183/P1010178.JPG"/>
          <p:cNvPicPr/>
          <p:nvPr/>
        </p:nvPicPr>
        <p:blipFill>
          <a:blip r:embed="rId1"/>
          <a:stretch/>
        </p:blipFill>
        <p:spPr>
          <a:xfrm>
            <a:off x="2268360" y="1989000"/>
            <a:ext cx="4753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transportwa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Picture 2" descr="http://www1.trekkerweb.nl/media/default.aspx/emma/org/10342159/P1010152.JPG"/>
          <p:cNvPicPr/>
          <p:nvPr/>
        </p:nvPicPr>
        <p:blipFill>
          <a:blip r:embed="rId1"/>
          <a:stretch/>
        </p:blipFill>
        <p:spPr>
          <a:xfrm>
            <a:off x="1908000" y="206064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rcRect l="10890" t="24413" r="3138" b="19491"/>
          <a:stretch/>
        </p:blipFill>
        <p:spPr>
          <a:xfrm>
            <a:off x="3564000" y="3987720"/>
            <a:ext cx="5867280" cy="2870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uw en we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aai en invoer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or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einiging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aanopvang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Inf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ww.kennisakker.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andboek maiste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 en invoer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6445" t="26367" r="6445" b="25393"/>
          <a:stretch/>
        </p:blipFill>
        <p:spPr>
          <a:xfrm>
            <a:off x="324000" y="2276640"/>
            <a:ext cx="8496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rcRect l="24154" t="19491" r="17513" b="23419"/>
          <a:stretch/>
        </p:blipFill>
        <p:spPr>
          <a:xfrm>
            <a:off x="4500720" y="2781360"/>
            <a:ext cx="4392360" cy="3224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rcRect l="26383" t="17512" r="24903" b="19491"/>
          <a:stretch/>
        </p:blipFill>
        <p:spPr>
          <a:xfrm>
            <a:off x="250920" y="2249640"/>
            <a:ext cx="4751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16032" t="21465" r="15301" b="29320"/>
          <a:stretch/>
        </p:blipFill>
        <p:spPr>
          <a:xfrm>
            <a:off x="1258920" y="2565360"/>
            <a:ext cx="6697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13817" t="28341" r="11606" b="37200"/>
          <a:stretch/>
        </p:blipFill>
        <p:spPr>
          <a:xfrm>
            <a:off x="324000" y="1844640"/>
            <a:ext cx="83167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Group 6"/>
          <p:cNvGrpSpPr/>
          <p:nvPr/>
        </p:nvGrpSpPr>
        <p:grpSpPr>
          <a:xfrm>
            <a:off x="1908000" y="1989000"/>
            <a:ext cx="5832360" cy="4528800"/>
            <a:chOff x="1908000" y="1989000"/>
            <a:chExt cx="5832360" cy="4528800"/>
          </a:xfrm>
        </p:grpSpPr>
        <p:pic>
          <p:nvPicPr>
            <p:cNvPr id="114" name="Picture 4" descr=""/>
            <p:cNvPicPr/>
            <p:nvPr/>
          </p:nvPicPr>
          <p:blipFill>
            <a:blip r:embed="rId1"/>
            <a:srcRect l="13817" t="20466" r="33024" b="21465"/>
            <a:stretch/>
          </p:blipFill>
          <p:spPr>
            <a:xfrm>
              <a:off x="1908000" y="1989000"/>
              <a:ext cx="5526360" cy="45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5"/>
            <p:cNvSpPr/>
            <p:nvPr/>
          </p:nvSpPr>
          <p:spPr>
            <a:xfrm>
              <a:off x="5745600" y="4598280"/>
              <a:ext cx="1994760" cy="13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edie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23423" t="16538" r="21208" b="33273"/>
          <a:stretch/>
        </p:blipFill>
        <p:spPr>
          <a:xfrm>
            <a:off x="1763640" y="2060640"/>
            <a:ext cx="5400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ontro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19713" t="12600" r="9376" b="13585"/>
          <a:stretch/>
        </p:blipFill>
        <p:spPr>
          <a:xfrm>
            <a:off x="1332000" y="1484280"/>
            <a:ext cx="6410160" cy="50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6:11:45Z</dcterms:created>
  <dc:creator>Edwin Mellema</dc:creator>
  <dc:description/>
  <dc:language>en-US</dc:language>
  <cp:lastModifiedBy>eme</cp:lastModifiedBy>
  <dcterms:modified xsi:type="dcterms:W3CDTF">2010-04-09T09:48:15Z</dcterms:modified>
  <cp:revision>10</cp:revision>
  <dc:subject/>
  <dc:title>Maaidorser</dc:title>
</cp:coreProperties>
</file>