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0D41-29C4-446A-A116-94D2CC150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8B14-2F44-4732-BFD7-6EC63550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E7D4-94FB-4D15-A849-93C22D8DF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E968-2B79-4C67-9760-5984762C8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2C7F-C190-4E7F-84CD-3EE6F95D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F97D-7CF8-47A8-8F4A-3F73ACA7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2917-6044-454E-A1B4-7D5E9B35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6E83-9BE4-4B12-AFF8-8749FAED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E19F-3DAB-47F1-B023-A582E3FF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213B-3647-49F8-81AC-BFE50AFF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0E57-91E9-4A91-A596-873AC810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3541-7574-4878-B059-315EA9AB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316A-5B97-4E47-B03D-42B075429761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Prijselasticiteit van de vraa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2514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Inkomenselasticitei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45"/>
          <p:cNvSpPr/>
          <p:nvPr/>
        </p:nvSpPr>
        <p:spPr>
          <a:xfrm>
            <a:off x="5715000" y="29718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Als het inkomen toeneemt, wordt er meer gekocht van dit produc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AutoShape 47"/>
          <p:cNvSpPr/>
          <p:nvPr/>
        </p:nvSpPr>
        <p:spPr>
          <a:xfrm>
            <a:off x="13716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48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47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0"/>
          <p:cNvSpPr/>
          <p:nvPr/>
        </p:nvSpPr>
        <p:spPr>
          <a:xfrm>
            <a:off x="5562720" y="52578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9,09% / 16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2/3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% = 0,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51"/>
          <p:cNvSpPr/>
          <p:nvPr/>
        </p:nvSpPr>
        <p:spPr>
          <a:xfrm>
            <a:off x="5638680" y="57913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Wat zegt deze uitkom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Object 41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Object 42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46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0,5 naar 1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47"/>
          <p:cNvSpPr/>
          <p:nvPr/>
        </p:nvSpPr>
        <p:spPr>
          <a:xfrm>
            <a:off x="4648320" y="502920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8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20% / 100% = -0,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2 naar 2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42"/>
          <p:cNvSpPr/>
          <p:nvPr/>
        </p:nvSpPr>
        <p:spPr>
          <a:xfrm>
            <a:off x="4648320" y="327672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50% / 25% = 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2,5 naar 2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100% / -20% = 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44"/>
          <p:cNvSpPr/>
          <p:nvPr/>
        </p:nvSpPr>
        <p:spPr>
          <a:xfrm>
            <a:off x="4800600" y="3276720"/>
            <a:ext cx="380880" cy="990360"/>
          </a:xfrm>
          <a:prstGeom prst="downArrow">
            <a:avLst>
              <a:gd name="adj1" fmla="val 50000"/>
              <a:gd name="adj2" fmla="val 6500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41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1 naar 0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3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25% / -50% = -0,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44"/>
          <p:cNvSpPr/>
          <p:nvPr/>
        </p:nvSpPr>
        <p:spPr>
          <a:xfrm>
            <a:off x="4724280" y="5029200"/>
            <a:ext cx="381240" cy="1066680"/>
          </a:xfrm>
          <a:prstGeom prst="downArrow">
            <a:avLst>
              <a:gd name="adj1" fmla="val 50000"/>
              <a:gd name="adj2" fmla="val 6994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an</dc:creator>
  <dc:description/>
  <dc:language>en-US</dc:language>
  <cp:lastModifiedBy>Alberts, Johan</cp:lastModifiedBy>
  <dcterms:modified xsi:type="dcterms:W3CDTF">2014-10-01T13:37:51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