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670D-5F42-443B-8CF2-872136B85B59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1E8C-D540-48D2-AC1D-FD2BE94B3FC2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2AF7-3880-4EDF-B5A5-23C12F1EC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C333-8271-435B-AC2B-81146F9F0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A6BC-9EC5-4B9C-AF01-FC0DD232C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0C47-F281-4C44-9219-232434C95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80501-BFE8-4F46-911F-EA0F69739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5E69B-AB1A-428A-B161-F902A101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1BA8-878A-4BC6-9EA9-C86917AE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DF93-5EC7-47C3-9C3E-B913B9EE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24FB6-8B4D-4D0D-BE6E-3BBC80DEC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2E4B6-CE41-433A-9759-B0E3FB4F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3EBE3-8E85-445F-AC57-37977180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A88B-D30C-406B-9563-6654D4980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EE65-2EE9-40E7-8750-782AFFECC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C4167-23CD-43D5-95EC-AF89C07A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3CF97-DD7B-48AC-867D-7BF42756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5CA9-5559-4E77-8825-B4810D9DB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149A4-FE2F-4855-A51B-DC6265DEC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03DD-B474-46A6-B156-808F477BC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E15C-8AAC-4104-BB94-6E98E4C8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B2B3-EDE2-4776-AB93-92FD6207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8631-02BC-4C02-ABC5-B1E1FD234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F9D8-D236-48B2-9D3B-0DCCD4738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2340-F4A4-457D-9CEB-C3AA73496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8D42-2289-4646-AFD2-238C362B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17FF-ADC2-4F1B-BF09-F78BFB4E603B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3E48-85C6-48D6-8539-E997E19DB4A6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380880" y="243828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pt-BR" sz="6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betalingsbala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447920" y="464832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en systematisch overzicht van alle economische transacties met het buitenland gedurende een j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228600" y="68580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e uitvo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304920" y="1523880"/>
            <a:ext cx="259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aan het buitenland verleende diens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304920" y="2743200"/>
            <a:ext cx="236196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primaire          inko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      inkomensoverdra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228600" y="4343400"/>
            <a:ext cx="28195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kredie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uitenlandse investeringen      en beleggingen in Neder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0" y="5943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2971800" y="6858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e invo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2895480" y="1600200"/>
            <a:ext cx="28195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oor het buitenland verleende diens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2895480" y="2743200"/>
            <a:ext cx="3124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etaalde primaire inko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etaalde inkomensoverdra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2895480" y="4343400"/>
            <a:ext cx="27432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Verleende kredie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Nederlandse investeringen en beleggingen in het buite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3"/>
          <p:cNvSpPr/>
          <p:nvPr/>
        </p:nvSpPr>
        <p:spPr>
          <a:xfrm>
            <a:off x="5867280" y="304920"/>
            <a:ext cx="838440" cy="3657600"/>
          </a:xfrm>
          <a:custGeom>
            <a:avLst/>
            <a:gdLst>
              <a:gd name="textAreaLeft" fmla="*/ 0 w 838440"/>
              <a:gd name="textAreaRight" fmla="*/ 302760 w 83844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4"/>
          <p:cNvSpPr/>
          <p:nvPr/>
        </p:nvSpPr>
        <p:spPr>
          <a:xfrm>
            <a:off x="6781680" y="16765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opende rek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5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6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380880" y="228600"/>
            <a:ext cx="784872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ijvoorbeeld: welke plaats nemen onderstaande transacties in op de betalingsbala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oogovens voert ijzerert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en Nederlandse onderneming bouwt een haven in Saoedi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ab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hilips ontvangt dividend van een dochteronderneming i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ederland verstrekt India een l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Kameroen betaalt aflossing van een door Neder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erstrekte l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urkse werknemers sturen geld naar h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ederlandse toeristen verblijven in het buiten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6"/>
          <p:cNvSpPr/>
          <p:nvPr/>
        </p:nvSpPr>
        <p:spPr>
          <a:xfrm>
            <a:off x="2895480" y="60948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Hoogovens voert ijzererts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7"/>
          <p:cNvSpPr/>
          <p:nvPr/>
        </p:nvSpPr>
        <p:spPr>
          <a:xfrm>
            <a:off x="304920" y="1600200"/>
            <a:ext cx="24382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Een Nederlandse onderneming bouwt een haven in Saoedi Arab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8"/>
          <p:cNvSpPr/>
          <p:nvPr/>
        </p:nvSpPr>
        <p:spPr>
          <a:xfrm>
            <a:off x="304920" y="2819520"/>
            <a:ext cx="236196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Philips ontvangt dividend van een dochteronderneming in de V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9"/>
          <p:cNvSpPr/>
          <p:nvPr/>
        </p:nvSpPr>
        <p:spPr>
          <a:xfrm>
            <a:off x="2895480" y="449568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Nederland verstrekt India een l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0"/>
          <p:cNvSpPr/>
          <p:nvPr/>
        </p:nvSpPr>
        <p:spPr>
          <a:xfrm>
            <a:off x="228600" y="4495680"/>
            <a:ext cx="2514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meroen betaalt aflossing van een door Nederland  verstrekte l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1"/>
          <p:cNvSpPr/>
          <p:nvPr/>
        </p:nvSpPr>
        <p:spPr>
          <a:xfrm>
            <a:off x="2971800" y="281952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urkse werknemers sturen geld naar hu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2"/>
          <p:cNvSpPr/>
          <p:nvPr/>
        </p:nvSpPr>
        <p:spPr>
          <a:xfrm>
            <a:off x="2895480" y="160020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Nederlandse toeristen verblijven in het buite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3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4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533520" y="0"/>
            <a:ext cx="70866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ge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itvoer van goederen 3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voer van goederen 5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an buitenland  verleende diensten 3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ntvangen kredieten 2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erleende kredieten 1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ntvangen primaire inkomens 1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taalde primaire inkomens 2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oor buitenland geleverde diensten 1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vraag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reken het saldo op de lopende rek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reken de verandering in de officiele rese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304920" y="6094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Uitvoer van goederen 3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304920" y="2819520"/>
            <a:ext cx="236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Ontvangen primaire inkomens 1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6781680" y="160020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9"/>
          <p:cNvSpPr/>
          <p:nvPr/>
        </p:nvSpPr>
        <p:spPr>
          <a:xfrm>
            <a:off x="2971800" y="6094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voer van goederen 5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228600" y="167652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an buitenland  verleende diensten 3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7"/>
          <p:cNvSpPr/>
          <p:nvPr/>
        </p:nvSpPr>
        <p:spPr>
          <a:xfrm>
            <a:off x="228600" y="449568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Ontvangen kredieten 2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8"/>
          <p:cNvSpPr/>
          <p:nvPr/>
        </p:nvSpPr>
        <p:spPr>
          <a:xfrm>
            <a:off x="2971800" y="4495680"/>
            <a:ext cx="22096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Verleende kredieten 1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0"/>
          <p:cNvSpPr/>
          <p:nvPr/>
        </p:nvSpPr>
        <p:spPr>
          <a:xfrm>
            <a:off x="2971800" y="281952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Betaalde primaire inkomens 2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1"/>
          <p:cNvSpPr/>
          <p:nvPr/>
        </p:nvSpPr>
        <p:spPr>
          <a:xfrm>
            <a:off x="2971800" y="167652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oor buitenland geleverde diensten 1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32"/>
          <p:cNvSpPr/>
          <p:nvPr/>
        </p:nvSpPr>
        <p:spPr>
          <a:xfrm>
            <a:off x="5791320" y="380880"/>
            <a:ext cx="914400" cy="3353040"/>
          </a:xfrm>
          <a:custGeom>
            <a:avLst/>
            <a:gdLst>
              <a:gd name="textAreaLeft" fmla="*/ 0 w 914400"/>
              <a:gd name="textAreaRight" fmla="*/ 330120 w 91440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3"/>
          <p:cNvSpPr/>
          <p:nvPr/>
        </p:nvSpPr>
        <p:spPr>
          <a:xfrm>
            <a:off x="7010280" y="914400"/>
            <a:ext cx="1905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aldo lopende reke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4"/>
          <p:cNvSpPr/>
          <p:nvPr/>
        </p:nvSpPr>
        <p:spPr>
          <a:xfrm>
            <a:off x="2971800" y="601992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oename 1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5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6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hthoek 1"/>
          <p:cNvSpPr/>
          <p:nvPr/>
        </p:nvSpPr>
        <p:spPr>
          <a:xfrm>
            <a:off x="468360" y="333360"/>
            <a:ext cx="638964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r wordt voor 20 miljoen euro aan bloembollen geexportee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en Duits bedrijf bouwt in Nederland winkelpanden voor 50 miljoen eu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Nederland verstrekt Zuid Afrika een lening van 2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hilips ontvangt 50 miljoen aan inkomen in de 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Japanse toeristen geven voor 15 miljoen euro uit in Nede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 Ontvangen kredieten van de VS naar Nederland zijn .. miljo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 import van tv’s bedraagt 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et Zweedse bedrijf Ikea ontvangt vanuit Nederland 3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et Saldo op de salderingsrekening is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3T18:17:28Z</dcterms:created>
  <dc:creator>J. de Jong</dc:creator>
  <dc:description/>
  <dc:language>en-US</dc:language>
  <cp:lastModifiedBy>Alberts, Johan</cp:lastModifiedBy>
  <dcterms:modified xsi:type="dcterms:W3CDTF">2014-09-22T07:20:54Z</dcterms:modified>
  <cp:revision>12</cp:revision>
  <dc:subject/>
  <dc:title>PowerPoint-presentatie</dc:title>
</cp:coreProperties>
</file>