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BA8D5-5C40-4B39-AA49-718F5A0C376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C7F07-A262-4795-93D8-61ADA15F255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7909-DD1B-42A1-994F-332529903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C3FC-6794-4B1C-8358-F186003CC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E6FE-008E-4405-A499-054F8AB7C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5BC2-8DCD-4794-97F7-5CCDB0BDD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1E7EC-EF1D-4775-8E0F-84185AF19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163E1-F20A-4F41-8DE2-661013C60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DED21-FE6D-47E0-97D5-18D897200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D52ED-F3B1-4C21-94C2-2249E3569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104CA-6A6D-42F6-BFC8-054CD462D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C4E2E-4A2B-4035-8E15-2A86A8B71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72318-C993-4FB4-8659-4F189D523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68E0-8946-46A6-899E-864490F1B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67F72-3751-4066-8536-2BDFEF885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9BD13-1085-46F6-A5A2-53222792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9DC4D-41F0-46A4-89CA-B4F005603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C75A5-6D3B-48A4-95C5-47129E8B0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799F5-B176-47FB-9B63-074EA5A27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9ED9-09C5-4F90-A3A8-087952A52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BA59-FDA9-4797-BEEB-73E50FCF0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0802-D1D8-4125-B5DD-9C64FC1FC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EAB9-6B89-452B-82F7-9FDBC9605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812D-09A0-4ED2-AA8C-98A89157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1C70-A856-47AF-BA6C-0BED6AD9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F8C0-B5D6-4FF4-9F47-AADC0AB95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0D2E1-AD65-4011-997C-FFB9C8348286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94E93-F48B-46F1-8176-E062365B82DA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380880" y="2438280"/>
            <a:ext cx="8077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pt-BR" sz="60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1" lang="pt-BR" sz="60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000000"/>
                </a:solidFill>
                <a:latin typeface="Times New Roman"/>
              </a:rPr>
              <a:t>betalingsbala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1447920" y="464832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en systematisch overzicht van alle economische transacties met het buitenland gedurende een j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Line 2"/>
          <p:cNvSpPr/>
          <p:nvPr/>
        </p:nvSpPr>
        <p:spPr>
          <a:xfrm>
            <a:off x="304920" y="45720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"/>
          <p:cNvSpPr/>
          <p:nvPr/>
        </p:nvSpPr>
        <p:spPr>
          <a:xfrm>
            <a:off x="304920" y="144792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4"/>
          <p:cNvSpPr/>
          <p:nvPr/>
        </p:nvSpPr>
        <p:spPr>
          <a:xfrm>
            <a:off x="304920" y="266688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5"/>
          <p:cNvSpPr/>
          <p:nvPr/>
        </p:nvSpPr>
        <p:spPr>
          <a:xfrm>
            <a:off x="304920" y="426708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6"/>
          <p:cNvSpPr/>
          <p:nvPr/>
        </p:nvSpPr>
        <p:spPr>
          <a:xfrm>
            <a:off x="304920" y="594360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7"/>
          <p:cNvSpPr/>
          <p:nvPr/>
        </p:nvSpPr>
        <p:spPr>
          <a:xfrm>
            <a:off x="2819520" y="457200"/>
            <a:ext cx="0" cy="63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1981080" y="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7e9ce8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Goeder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1981080" y="114300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Dienst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1905120" y="236232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Inkomen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1"/>
          <p:cNvSpPr/>
          <p:nvPr/>
        </p:nvSpPr>
        <p:spPr>
          <a:xfrm>
            <a:off x="1981080" y="3200400"/>
            <a:ext cx="19814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Kapitaal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1828800" y="5181480"/>
            <a:ext cx="2133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Saldering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3"/>
          <p:cNvSpPr/>
          <p:nvPr/>
        </p:nvSpPr>
        <p:spPr>
          <a:xfrm>
            <a:off x="228600" y="68580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Waarde van de uitvo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4"/>
          <p:cNvSpPr/>
          <p:nvPr/>
        </p:nvSpPr>
        <p:spPr>
          <a:xfrm>
            <a:off x="304920" y="1523880"/>
            <a:ext cx="2590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Waarde van aan het buitenland verleende dienst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5"/>
          <p:cNvSpPr/>
          <p:nvPr/>
        </p:nvSpPr>
        <p:spPr>
          <a:xfrm>
            <a:off x="304920" y="2743200"/>
            <a:ext cx="236196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Ontvangen primaire          inkom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Ontvangen       inkomensoverdrach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6"/>
          <p:cNvSpPr/>
          <p:nvPr/>
        </p:nvSpPr>
        <p:spPr>
          <a:xfrm>
            <a:off x="228600" y="4343400"/>
            <a:ext cx="28195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Ontvangen kredie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Buitenlandse investeringen      en beleggingen in Neder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0" y="59436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8"/>
          <p:cNvSpPr/>
          <p:nvPr/>
        </p:nvSpPr>
        <p:spPr>
          <a:xfrm>
            <a:off x="2971800" y="68580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Waarde van de invo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9"/>
          <p:cNvSpPr/>
          <p:nvPr/>
        </p:nvSpPr>
        <p:spPr>
          <a:xfrm>
            <a:off x="2895480" y="1600200"/>
            <a:ext cx="28195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Waarde van door het buitenland verleende dienst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0"/>
          <p:cNvSpPr/>
          <p:nvPr/>
        </p:nvSpPr>
        <p:spPr>
          <a:xfrm>
            <a:off x="2895480" y="2743200"/>
            <a:ext cx="31244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Betaalde primaire inkom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Betaalde inkomensoverdrach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1"/>
          <p:cNvSpPr/>
          <p:nvPr/>
        </p:nvSpPr>
        <p:spPr>
          <a:xfrm>
            <a:off x="2895480" y="4343400"/>
            <a:ext cx="274320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Verleende kredie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Nederlandse investeringen en beleggingen in het buiten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23"/>
          <p:cNvSpPr/>
          <p:nvPr/>
        </p:nvSpPr>
        <p:spPr>
          <a:xfrm>
            <a:off x="5867280" y="304920"/>
            <a:ext cx="838440" cy="3657600"/>
          </a:xfrm>
          <a:custGeom>
            <a:avLst/>
            <a:gdLst>
              <a:gd name="textAreaLeft" fmla="*/ 0 w 838440"/>
              <a:gd name="textAreaRight" fmla="*/ 302760 w 838440"/>
              <a:gd name="textAreaTop" fmla="*/ 95040 h 3657600"/>
              <a:gd name="textAreaBottom" fmla="*/ 356256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4"/>
          <p:cNvSpPr/>
          <p:nvPr/>
        </p:nvSpPr>
        <p:spPr>
          <a:xfrm>
            <a:off x="6781680" y="167652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Lopende rek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5"/>
          <p:cNvSpPr/>
          <p:nvPr/>
        </p:nvSpPr>
        <p:spPr>
          <a:xfrm>
            <a:off x="0" y="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Ontvang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6"/>
          <p:cNvSpPr/>
          <p:nvPr/>
        </p:nvSpPr>
        <p:spPr>
          <a:xfrm>
            <a:off x="3809880" y="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Uitga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380880" y="228600"/>
            <a:ext cx="7848720" cy="69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ijvoorbeeld: welke plaats nemen onderstaande transacties in op de betalingsbala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Hoogovens voert ijzererts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en Nederlandse onderneming bouwt een haven in Saoedi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rab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hilips ontvangt dividend van een dochteronderneming in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ederland verstrekt India een l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Kameroen betaalt aflossing van een door Nederl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erstrekte l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urkse werknemers sturen geld naar hu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ederlandse toeristen verblijven in het buiten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Line 2"/>
          <p:cNvSpPr/>
          <p:nvPr/>
        </p:nvSpPr>
        <p:spPr>
          <a:xfrm>
            <a:off x="304920" y="45720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3"/>
          <p:cNvSpPr/>
          <p:nvPr/>
        </p:nvSpPr>
        <p:spPr>
          <a:xfrm>
            <a:off x="304920" y="144792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4"/>
          <p:cNvSpPr/>
          <p:nvPr/>
        </p:nvSpPr>
        <p:spPr>
          <a:xfrm>
            <a:off x="304920" y="266688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5"/>
          <p:cNvSpPr/>
          <p:nvPr/>
        </p:nvSpPr>
        <p:spPr>
          <a:xfrm>
            <a:off x="304920" y="426708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6"/>
          <p:cNvSpPr/>
          <p:nvPr/>
        </p:nvSpPr>
        <p:spPr>
          <a:xfrm>
            <a:off x="304920" y="594360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7"/>
          <p:cNvSpPr/>
          <p:nvPr/>
        </p:nvSpPr>
        <p:spPr>
          <a:xfrm>
            <a:off x="2819520" y="457200"/>
            <a:ext cx="0" cy="63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8"/>
          <p:cNvSpPr/>
          <p:nvPr/>
        </p:nvSpPr>
        <p:spPr>
          <a:xfrm>
            <a:off x="1981080" y="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7e9ce8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Goeder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1981080" y="114300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Dienst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1905120" y="236232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Inkomen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1981080" y="3200400"/>
            <a:ext cx="19814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Kapitaal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2"/>
          <p:cNvSpPr/>
          <p:nvPr/>
        </p:nvSpPr>
        <p:spPr>
          <a:xfrm>
            <a:off x="1828800" y="5181480"/>
            <a:ext cx="2133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Saldering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6"/>
          <p:cNvSpPr/>
          <p:nvPr/>
        </p:nvSpPr>
        <p:spPr>
          <a:xfrm>
            <a:off x="2895480" y="60948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Hoogovens voert ijzererts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7"/>
          <p:cNvSpPr/>
          <p:nvPr/>
        </p:nvSpPr>
        <p:spPr>
          <a:xfrm>
            <a:off x="304920" y="1600200"/>
            <a:ext cx="24382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Een Nederlandse onderneming bouwt een haven in Saoedi Arab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8"/>
          <p:cNvSpPr/>
          <p:nvPr/>
        </p:nvSpPr>
        <p:spPr>
          <a:xfrm>
            <a:off x="304920" y="2819520"/>
            <a:ext cx="236196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Philips ontvangt dividend van een dochteronderneming in de V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9"/>
          <p:cNvSpPr/>
          <p:nvPr/>
        </p:nvSpPr>
        <p:spPr>
          <a:xfrm>
            <a:off x="2895480" y="4495680"/>
            <a:ext cx="259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Nederland verstrekt India een l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0"/>
          <p:cNvSpPr/>
          <p:nvPr/>
        </p:nvSpPr>
        <p:spPr>
          <a:xfrm>
            <a:off x="228600" y="4495680"/>
            <a:ext cx="25146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Kameroen betaalt aflossing van een door Nederland  verstrekte l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1"/>
          <p:cNvSpPr/>
          <p:nvPr/>
        </p:nvSpPr>
        <p:spPr>
          <a:xfrm>
            <a:off x="2971800" y="281952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Turkse werknemers sturen geld naar hu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2"/>
          <p:cNvSpPr/>
          <p:nvPr/>
        </p:nvSpPr>
        <p:spPr>
          <a:xfrm>
            <a:off x="2895480" y="1600200"/>
            <a:ext cx="259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Nederlandse toeristen verblijven in het buiten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3"/>
          <p:cNvSpPr/>
          <p:nvPr/>
        </p:nvSpPr>
        <p:spPr>
          <a:xfrm>
            <a:off x="0" y="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Ontvang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4"/>
          <p:cNvSpPr/>
          <p:nvPr/>
        </p:nvSpPr>
        <p:spPr>
          <a:xfrm>
            <a:off x="3809880" y="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Uitga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533520" y="0"/>
            <a:ext cx="708660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egev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Uitvoer van goederen 30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nvoer van goederen 50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an buitenland  verleende diensten 35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ntvangen kredieten 25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erleende kredieten 10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ntvangen primaire inkomens 15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etaalde primaire inkomens 20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oor buitenland geleverde diensten 15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evraag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ereken het saldo op de lopende rek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ereken de verandering in de officiele reser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Line 2"/>
          <p:cNvSpPr/>
          <p:nvPr/>
        </p:nvSpPr>
        <p:spPr>
          <a:xfrm>
            <a:off x="304920" y="45720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3"/>
          <p:cNvSpPr/>
          <p:nvPr/>
        </p:nvSpPr>
        <p:spPr>
          <a:xfrm>
            <a:off x="304920" y="144792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4"/>
          <p:cNvSpPr/>
          <p:nvPr/>
        </p:nvSpPr>
        <p:spPr>
          <a:xfrm>
            <a:off x="304920" y="266688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5"/>
          <p:cNvSpPr/>
          <p:nvPr/>
        </p:nvSpPr>
        <p:spPr>
          <a:xfrm>
            <a:off x="304920" y="426708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6"/>
          <p:cNvSpPr/>
          <p:nvPr/>
        </p:nvSpPr>
        <p:spPr>
          <a:xfrm>
            <a:off x="304920" y="594360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7"/>
          <p:cNvSpPr/>
          <p:nvPr/>
        </p:nvSpPr>
        <p:spPr>
          <a:xfrm>
            <a:off x="2819520" y="457200"/>
            <a:ext cx="0" cy="63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1981080" y="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7e9ce8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Goeder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1981080" y="114300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Dienst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0"/>
          <p:cNvSpPr/>
          <p:nvPr/>
        </p:nvSpPr>
        <p:spPr>
          <a:xfrm>
            <a:off x="1905120" y="236232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Inkomen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1981080" y="3200400"/>
            <a:ext cx="19814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Kapitaal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2"/>
          <p:cNvSpPr/>
          <p:nvPr/>
        </p:nvSpPr>
        <p:spPr>
          <a:xfrm>
            <a:off x="1828800" y="5181480"/>
            <a:ext cx="2133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Saldering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3"/>
          <p:cNvSpPr/>
          <p:nvPr/>
        </p:nvSpPr>
        <p:spPr>
          <a:xfrm>
            <a:off x="304920" y="609480"/>
            <a:ext cx="243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Uitvoer van goederen 30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304920" y="2819520"/>
            <a:ext cx="2361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Ontvangen primaire inkomens 15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8"/>
          <p:cNvSpPr/>
          <p:nvPr/>
        </p:nvSpPr>
        <p:spPr>
          <a:xfrm>
            <a:off x="6781680" y="1600200"/>
            <a:ext cx="19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9"/>
          <p:cNvSpPr/>
          <p:nvPr/>
        </p:nvSpPr>
        <p:spPr>
          <a:xfrm>
            <a:off x="2971800" y="609480"/>
            <a:ext cx="243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Invoer van goederen 50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1"/>
          <p:cNvSpPr/>
          <p:nvPr/>
        </p:nvSpPr>
        <p:spPr>
          <a:xfrm>
            <a:off x="228600" y="1676520"/>
            <a:ext cx="243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Aan buitenland  verleende diensten 35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7"/>
          <p:cNvSpPr/>
          <p:nvPr/>
        </p:nvSpPr>
        <p:spPr>
          <a:xfrm>
            <a:off x="228600" y="4495680"/>
            <a:ext cx="2362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Ontvangen kredieten 25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8"/>
          <p:cNvSpPr/>
          <p:nvPr/>
        </p:nvSpPr>
        <p:spPr>
          <a:xfrm>
            <a:off x="2971800" y="4495680"/>
            <a:ext cx="22096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Verleende kredieten 10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0"/>
          <p:cNvSpPr/>
          <p:nvPr/>
        </p:nvSpPr>
        <p:spPr>
          <a:xfrm>
            <a:off x="2971800" y="2819520"/>
            <a:ext cx="259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Betaalde primaire inkomens 20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1"/>
          <p:cNvSpPr/>
          <p:nvPr/>
        </p:nvSpPr>
        <p:spPr>
          <a:xfrm>
            <a:off x="2971800" y="167652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Door buitenland geleverde diensten 15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32"/>
          <p:cNvSpPr/>
          <p:nvPr/>
        </p:nvSpPr>
        <p:spPr>
          <a:xfrm>
            <a:off x="5791320" y="380880"/>
            <a:ext cx="914400" cy="3353040"/>
          </a:xfrm>
          <a:custGeom>
            <a:avLst/>
            <a:gdLst>
              <a:gd name="textAreaLeft" fmla="*/ 0 w 914400"/>
              <a:gd name="textAreaRight" fmla="*/ 330120 w 914400"/>
              <a:gd name="textAreaTop" fmla="*/ 87120 h 3353040"/>
              <a:gd name="textAreaBottom" fmla="*/ 3265920 h 335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3"/>
          <p:cNvSpPr/>
          <p:nvPr/>
        </p:nvSpPr>
        <p:spPr>
          <a:xfrm>
            <a:off x="7010280" y="914400"/>
            <a:ext cx="19051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aldo lopende reken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5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4"/>
          <p:cNvSpPr/>
          <p:nvPr/>
        </p:nvSpPr>
        <p:spPr>
          <a:xfrm>
            <a:off x="2971800" y="601992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Toename 10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5"/>
          <p:cNvSpPr/>
          <p:nvPr/>
        </p:nvSpPr>
        <p:spPr>
          <a:xfrm>
            <a:off x="0" y="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Ontvang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6"/>
          <p:cNvSpPr/>
          <p:nvPr/>
        </p:nvSpPr>
        <p:spPr>
          <a:xfrm>
            <a:off x="3809880" y="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Uitga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hthoek 1"/>
          <p:cNvSpPr/>
          <p:nvPr/>
        </p:nvSpPr>
        <p:spPr>
          <a:xfrm>
            <a:off x="468360" y="333360"/>
            <a:ext cx="6389640" cy="50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r wordt voor 20 miljoen euro aan bloembollen geexportee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en Duits bedrijf bouwt in Nederland winkelpanden voor 50 miljoen eu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Nederland verstrekt Zuid Afrika een lening van 25 miljoen 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hilips ontvangt 50 miljoen aan inkomen in de V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Japanse toeristen geven voor 15 miljoen euro uit in Neder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De Ontvangen kredieten van de VS naar Nederland zijn .. miljo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De import van tv’s bedraagt 5 miljoen 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Het Zweedse bedrijf Ikea ontvangt vanuit Nederland 35 miljoen 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Het Saldo op de salderingsrekening is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3T18:17:28Z</dcterms:created>
  <dc:creator>J. de Jong</dc:creator>
  <dc:description/>
  <dc:language>en-US</dc:language>
  <cp:lastModifiedBy>Alberts, Johan</cp:lastModifiedBy>
  <dcterms:modified xsi:type="dcterms:W3CDTF">2014-09-22T07:20:54Z</dcterms:modified>
  <cp:revision>12</cp:revision>
  <dc:subject/>
  <dc:title>PowerPoint-presentatie</dc:title>
</cp:coreProperties>
</file>