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52D-861A-4223-B489-170B5B3E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897E-0FA5-49C2-9866-5D640CA1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1021-E838-421B-A1DB-DE2FBD9A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571-26FE-4FA9-8EFA-8492DD10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83C-47E3-4270-A367-2670F271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2672-23B0-4011-BF21-7D97FB86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C1E1-E90E-4913-8E97-25A28785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C453-7940-43DA-8CEA-178F5067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4CF-B23B-49E2-ADB8-AE989781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2FF5-A619-4AD8-9CA0-C300C6A2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7BB8-A488-40CE-A0AB-B69F1780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EC9-4473-4C76-AA42-5B423460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278C-8F99-419E-B06B-8FE7BF87AC5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watching&amp;source=images&amp;cd=&amp;cad=rja&amp;docid=17V0yn8HfmGjGM&amp;tbnid=1tDI84Bzt4wo3M:&amp;ved=0CAUQjRw&amp;url=http://www.etftrends.com/2012/05/best-etfs-to-watch-for-market-insight/&amp;ei=6sQYUYGpMKXK0AWazICgBw&amp;bvm=bv.42080656,d.d2k&amp;psig=AFQjCNGkJtJ2EFa1kouK65lmmunkem69dg&amp;ust=136066416165360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6uYUL1KpGKa1xM&amp;tbnid=3HX3btYTj-Vz7M:&amp;ved=0CAUQjRw&amp;url=http://daddysprincess.hubpages.com/hub/20-Questions-No-Limit-to-Bad-Answers-Interactive-Humor&amp;ei=L5FNUZycFKn30gWU1YDwDQ&amp;bvm=bv.44158598,d.d2k&amp;psig=AFQjCNGBrQkE271dyf7Sf6aRfPtvfeKDWQ&amp;ust=1364124266368180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nl/url?sa=i&amp;rct=j&amp;q=&amp;esrc=s&amp;frm=1&amp;source=images&amp;cd=&amp;cad=rja&amp;docid=6uYUL1KpGKa1xM&amp;tbnid=3HX3btYTj-Vz7M:&amp;ved=0CAUQjRw&amp;url=http://daddysprincess.hubpages.com/hub/20-Questions-No-Limit-to-Bad-Answers-Interactive-Humor&amp;ei=L5FNUZycFKn30gWU1YDwDQ&amp;bvm=bv.44158598,d.d2k&amp;psig=AFQjCNGBrQkE271dyf7Sf6aRfPtvfeKDWQ&amp;ust=1364124266368180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www.youtube.com/watch?v=X42E7erSaUw&amp;list=PLi_srCikhtgifGOLTFuVatXl7XzMk_Nmj&amp;index=34" TargetMode="External"/><Relationship Id="rId3" Type="http://schemas.openxmlformats.org/officeDocument/2006/relationships/hyperlink" Target="https://www.youtube.com/watch?v=X42E7erSaUw&amp;list=PLi_srCikhtgifGOLTFuVatXl7XzMk_Nmj&amp;index=34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youtube.com/watch?v=ig-P52ANp9s&amp;list=PLi_srCikhtghrNa6Ti1d4aSyPQzQ3JI63&amp;index=27" TargetMode="External"/><Relationship Id="rId3" Type="http://schemas.openxmlformats.org/officeDocument/2006/relationships/hyperlink" Target="https://www.youtube.com/watch?v=NRTIVMmq9oU&amp;list=PLi_srCikhtggb0XZKcFfRUFK8Zew21W5y&amp;index=10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etftrends.com/wp-content/uploads/2012/04/istock_000006450589medium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743880" cy="4485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2" name="Tekstvak 4"/>
          <p:cNvSpPr/>
          <p:nvPr/>
        </p:nvSpPr>
        <p:spPr>
          <a:xfrm>
            <a:off x="1692360" y="620640"/>
            <a:ext cx="5616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 is de waarhei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oelichting met afgeronde rechthoek 5"/>
          <p:cNvSpPr/>
          <p:nvPr/>
        </p:nvSpPr>
        <p:spPr>
          <a:xfrm>
            <a:off x="4788000" y="5157720"/>
            <a:ext cx="1778040" cy="1187640"/>
          </a:xfrm>
          <a:prstGeom prst="wedgeRoundRectCallout">
            <a:avLst>
              <a:gd name="adj1" fmla="val -51185"/>
              <a:gd name="adj2" fmla="val -10988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ooooo, wat zie ik daar een mooi leve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oelichting met afgeronde rechthoek 4"/>
          <p:cNvSpPr/>
          <p:nvPr/>
        </p:nvSpPr>
        <p:spPr>
          <a:xfrm>
            <a:off x="395280" y="115920"/>
            <a:ext cx="3384720" cy="2160720"/>
          </a:xfrm>
          <a:prstGeom prst="wedgeRoundRectCallout">
            <a:avLst>
              <a:gd name="adj1" fmla="val 40388"/>
              <a:gd name="adj2" fmla="val 12287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 gaan eerst naar socrative.co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volgen een aantal  meerkeuze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pen eerst: YOUTUB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mag de video’s bekijken tijdens de 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5"/>
          <p:cNvSpPr/>
          <p:nvPr/>
        </p:nvSpPr>
        <p:spPr>
          <a:xfrm>
            <a:off x="4643280" y="404640"/>
            <a:ext cx="3024360" cy="1440000"/>
          </a:xfrm>
          <a:prstGeom prst="wedgeRoundRectCallout">
            <a:avLst>
              <a:gd name="adj1" fmla="val -48370"/>
              <a:gd name="adj2" fmla="val 18590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de: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arna: eerst je achternaam, dan je voornaam en als laatste de tussenvoegs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oelichting met afgeronde rechthoek 6"/>
          <p:cNvSpPr/>
          <p:nvPr/>
        </p:nvSpPr>
        <p:spPr>
          <a:xfrm>
            <a:off x="5950080" y="1989000"/>
            <a:ext cx="3024000" cy="2087640"/>
          </a:xfrm>
          <a:prstGeom prst="wedgeRoundRectCallout">
            <a:avLst>
              <a:gd name="adj1" fmla="val -57754"/>
              <a:gd name="adj2" fmla="val 777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Tijdens de vragen mag je de YOUTUBE-VIDEO’S kijk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Let op het trucj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Kopieer de titel van de video en plak die in de youtube-zoekbal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>
            <a:hlinkClick r:id="rId1"/>
          </p:cNvPr>
          <p:cNvPicPr/>
          <p:nvPr/>
        </p:nvPicPr>
        <p:blipFill>
          <a:blip r:embed="rId2"/>
          <a:srcRect l="0" t="62600" r="73376" b="3697"/>
          <a:stretch/>
        </p:blipFill>
        <p:spPr>
          <a:xfrm>
            <a:off x="3059280" y="3933720"/>
            <a:ext cx="2547720" cy="2325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>
            <a:hlinkClick r:id="rId3"/>
          </p:cNvPr>
          <p:cNvPicPr/>
          <p:nvPr/>
        </p:nvPicPr>
        <p:blipFill>
          <a:blip r:embed="rId4"/>
          <a:srcRect l="50942" t="31495" r="25906" b="36412"/>
          <a:stretch/>
        </p:blipFill>
        <p:spPr>
          <a:xfrm>
            <a:off x="3348000" y="3860640"/>
            <a:ext cx="2303640" cy="230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>
            <a:hlinkClick r:id="rId5"/>
          </p:cNvPr>
          <p:cNvPicPr/>
          <p:nvPr/>
        </p:nvPicPr>
        <p:blipFill>
          <a:blip r:embed="rId6"/>
          <a:srcRect l="72939" t="1602" r="2754" b="66297"/>
          <a:stretch/>
        </p:blipFill>
        <p:spPr>
          <a:xfrm>
            <a:off x="3276720" y="3860640"/>
            <a:ext cx="2447640" cy="233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192400"/>
            <a:ext cx="3887640" cy="466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192400"/>
            <a:ext cx="3887640" cy="4665600"/>
          </a:xfrm>
          <a:prstGeom prst="rect">
            <a:avLst/>
          </a:prstGeom>
          <a:ln w="0">
            <a:noFill/>
          </a:ln>
        </p:spPr>
      </p:pic>
      <p:sp>
        <p:nvSpPr>
          <p:cNvPr id="52" name="Toelichting met afgeronde rechthoek 5"/>
          <p:cNvSpPr/>
          <p:nvPr/>
        </p:nvSpPr>
        <p:spPr>
          <a:xfrm>
            <a:off x="6816600" y="0"/>
            <a:ext cx="2303640" cy="4032360"/>
          </a:xfrm>
          <a:prstGeom prst="wedgeRoundRectCallout">
            <a:avLst>
              <a:gd name="adj1" fmla="val -108041"/>
              <a:gd name="adj2" fmla="val 36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leraren en andere personen die het kunnen weten het zeggen, dan zal het wel klopp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wat moet ik doen als de geleerden elkaar tegenspreken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ie moet ik dan gelov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oelichting met afgeronde rechthoek 6"/>
          <p:cNvSpPr/>
          <p:nvPr/>
        </p:nvSpPr>
        <p:spPr>
          <a:xfrm>
            <a:off x="1440" y="0"/>
            <a:ext cx="2554560" cy="4221000"/>
          </a:xfrm>
          <a:prstGeom prst="wedgeRoundRectCallout">
            <a:avLst>
              <a:gd name="adj1" fmla="val 80643"/>
              <a:gd name="adj2" fmla="val 32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s heb ik het idee dat ze me maar wat vertellen. Is het allemaal wel waar? Bestaat Griekenland wel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er een Tweede Wereldoorlog gewee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 kan ik nog wel een hele tijd doorga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2" descr=""/>
          <p:cNvPicPr/>
          <p:nvPr/>
        </p:nvPicPr>
        <p:blipFill>
          <a:blip r:embed="rId1"/>
          <a:stretch/>
        </p:blipFill>
        <p:spPr>
          <a:xfrm>
            <a:off x="0" y="-1440"/>
            <a:ext cx="5148360" cy="69530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5"/>
          <p:cNvSpPr/>
          <p:nvPr/>
        </p:nvSpPr>
        <p:spPr>
          <a:xfrm>
            <a:off x="5435640" y="260280"/>
            <a:ext cx="3168720" cy="504720"/>
          </a:xfrm>
          <a:prstGeom prst="wedgeRoundRectCallout">
            <a:avLst>
              <a:gd name="adj1" fmla="val -130694"/>
              <a:gd name="adj2" fmla="val 9577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et Jan Pieterz. Co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6"/>
          <p:cNvSpPr/>
          <p:nvPr/>
        </p:nvSpPr>
        <p:spPr>
          <a:xfrm>
            <a:off x="5580000" y="3139920"/>
            <a:ext cx="3492720" cy="1368720"/>
          </a:xfrm>
          <a:prstGeom prst="wedgeRoundRectCallout">
            <a:avLst>
              <a:gd name="adj1" fmla="val -130717"/>
              <a:gd name="adj2" fmla="val -15114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u zeggen ze dat ik veel geld heb verdiend aan de slavernij. Ik ben het er niet mee ee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7"/>
          <p:cNvSpPr/>
          <p:nvPr/>
        </p:nvSpPr>
        <p:spPr>
          <a:xfrm>
            <a:off x="5435640" y="1268280"/>
            <a:ext cx="3384360" cy="432000"/>
          </a:xfrm>
          <a:prstGeom prst="wedgeRoundRectCallout">
            <a:avLst>
              <a:gd name="adj1" fmla="val -121046"/>
              <a:gd name="adj2" fmla="val -6215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leefde van 1587 tot 16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oelichting met afgeronde rechthoek 8"/>
          <p:cNvSpPr/>
          <p:nvPr/>
        </p:nvSpPr>
        <p:spPr>
          <a:xfrm>
            <a:off x="5492880" y="1951200"/>
            <a:ext cx="3600360" cy="576000"/>
          </a:xfrm>
          <a:prstGeom prst="wedgeRoundRectCallout">
            <a:avLst>
              <a:gd name="adj1" fmla="val -119453"/>
              <a:gd name="adj2" fmla="val -13884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Nederland veel rijkdom gebracht dankzij de kolonië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oelichting met afgeronde rechthoek 9"/>
          <p:cNvSpPr/>
          <p:nvPr/>
        </p:nvSpPr>
        <p:spPr>
          <a:xfrm>
            <a:off x="5435640" y="5445000"/>
            <a:ext cx="2879640" cy="973440"/>
          </a:xfrm>
          <a:prstGeom prst="wedgeRoundRectCallout">
            <a:avLst>
              <a:gd name="adj1" fmla="val -131657"/>
              <a:gd name="adj2" fmla="val -38904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as lange tijd een held, maar nu is dat voorbi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1"/>
          <p:cNvSpPr/>
          <p:nvPr/>
        </p:nvSpPr>
        <p:spPr>
          <a:xfrm>
            <a:off x="108000" y="14292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derl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3" descr=""/>
          <p:cNvPicPr/>
          <p:nvPr/>
        </p:nvPicPr>
        <p:blipFill>
          <a:blip r:embed="rId1"/>
          <a:stretch/>
        </p:blipFill>
        <p:spPr>
          <a:xfrm>
            <a:off x="0" y="-12600"/>
            <a:ext cx="4356000" cy="7061040"/>
          </a:xfrm>
          <a:prstGeom prst="rect">
            <a:avLst/>
          </a:prstGeom>
          <a:ln w="0">
            <a:noFill/>
          </a:ln>
        </p:spPr>
      </p:pic>
      <p:sp>
        <p:nvSpPr>
          <p:cNvPr id="62" name="Toelichting met afgeronde rechthoek 5"/>
          <p:cNvSpPr/>
          <p:nvPr/>
        </p:nvSpPr>
        <p:spPr>
          <a:xfrm>
            <a:off x="5435640" y="260280"/>
            <a:ext cx="3168720" cy="504720"/>
          </a:xfrm>
          <a:prstGeom prst="wedgeRoundRectCallout">
            <a:avLst>
              <a:gd name="adj1" fmla="val -130694"/>
              <a:gd name="adj2" fmla="val 14443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 een sukkel, ze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5580000" y="3139920"/>
            <a:ext cx="3240000" cy="1152720"/>
          </a:xfrm>
          <a:prstGeom prst="wedgeRoundRectCallout">
            <a:avLst>
              <a:gd name="adj1" fmla="val -131981"/>
              <a:gd name="adj2" fmla="val -9828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bij mijn veroveringen heb ik meer dan 10 miljoen mensen laten vermoor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oelichting met afgeronde rechthoek 7"/>
          <p:cNvSpPr/>
          <p:nvPr/>
        </p:nvSpPr>
        <p:spPr>
          <a:xfrm>
            <a:off x="5483160" y="1052640"/>
            <a:ext cx="3384720" cy="431640"/>
          </a:xfrm>
          <a:prstGeom prst="wedgeRoundRectCallout">
            <a:avLst>
              <a:gd name="adj1" fmla="val -123467"/>
              <a:gd name="adj2" fmla="val 79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et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Timoer Le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oelichting met afgeronde rechthoek 8"/>
          <p:cNvSpPr/>
          <p:nvPr/>
        </p:nvSpPr>
        <p:spPr>
          <a:xfrm>
            <a:off x="5472000" y="2060640"/>
            <a:ext cx="3600720" cy="576360"/>
          </a:xfrm>
          <a:prstGeom prst="wedgeRoundRectCallout">
            <a:avLst>
              <a:gd name="adj1" fmla="val -120231"/>
              <a:gd name="adj2" fmla="val -597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leefde in de 14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eeuw. En ik liep een beekje man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oelichting met afgeronde rechthoek 9"/>
          <p:cNvSpPr/>
          <p:nvPr/>
        </p:nvSpPr>
        <p:spPr>
          <a:xfrm>
            <a:off x="5435640" y="5445000"/>
            <a:ext cx="3637080" cy="973440"/>
          </a:xfrm>
          <a:prstGeom prst="wedgeRoundRectCallout">
            <a:avLst>
              <a:gd name="adj1" fmla="val -136870"/>
              <a:gd name="adj2" fmla="val -33856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nog steeds een held in mijn land, Oezbekist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"/>
          <p:cNvSpPr/>
          <p:nvPr/>
        </p:nvSpPr>
        <p:spPr>
          <a:xfrm>
            <a:off x="0" y="14616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ide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57038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oelichting met afgeronde rechthoek 5"/>
          <p:cNvSpPr/>
          <p:nvPr/>
        </p:nvSpPr>
        <p:spPr>
          <a:xfrm>
            <a:off x="5240160" y="36360"/>
            <a:ext cx="3888000" cy="619200"/>
          </a:xfrm>
          <a:prstGeom prst="wedgeRoundRectCallout">
            <a:avLst>
              <a:gd name="adj1" fmla="val -85319"/>
              <a:gd name="adj2" fmla="val 10283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ik ben Columbus. Je weet wel: de ontdekker van Ameri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oelichting met afgeronde rechthoek 6"/>
          <p:cNvSpPr/>
          <p:nvPr/>
        </p:nvSpPr>
        <p:spPr>
          <a:xfrm>
            <a:off x="5554800" y="3606840"/>
            <a:ext cx="3492360" cy="1152360"/>
          </a:xfrm>
          <a:prstGeom prst="wedgeRoundRectCallout">
            <a:avLst>
              <a:gd name="adj1" fmla="val -113175"/>
              <a:gd name="adj2" fmla="val -2010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leen een paar analfabeten geloofden dat de aarde plat was. De kerk en alle geleerden geloofden in een ronde aar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7"/>
          <p:cNvSpPr/>
          <p:nvPr/>
        </p:nvSpPr>
        <p:spPr>
          <a:xfrm>
            <a:off x="5483160" y="1052640"/>
            <a:ext cx="3384720" cy="568080"/>
          </a:xfrm>
          <a:prstGeom prst="wedgeRoundRectCallout">
            <a:avLst>
              <a:gd name="adj1" fmla="val -96449"/>
              <a:gd name="adj2" fmla="val 1416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irriteer me aan de onzin die over me is verte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8"/>
          <p:cNvSpPr/>
          <p:nvPr/>
        </p:nvSpPr>
        <p:spPr>
          <a:xfrm>
            <a:off x="5472000" y="1843200"/>
            <a:ext cx="3600720" cy="1154160"/>
          </a:xfrm>
          <a:prstGeom prst="wedgeRoundRectCallout">
            <a:avLst>
              <a:gd name="adj1" fmla="val -101990"/>
              <a:gd name="adj2" fmla="val -7318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zocht naar een korte route naar India en China. Niet om aan te tonen dat de aarde rond w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9"/>
          <p:cNvSpPr/>
          <p:nvPr/>
        </p:nvSpPr>
        <p:spPr>
          <a:xfrm>
            <a:off x="4140360" y="5332320"/>
            <a:ext cx="5025960" cy="1409760"/>
          </a:xfrm>
          <a:prstGeom prst="wedgeRoundRectCallout">
            <a:avLst>
              <a:gd name="adj1" fmla="val -69856"/>
              <a:gd name="adj2" fmla="val -27702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ijk maar eens naar de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vide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over de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mythe van de platte aard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klik op wikiwijs: de mythe van de platte aar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1"/>
          <p:cNvSpPr/>
          <p:nvPr/>
        </p:nvSpPr>
        <p:spPr>
          <a:xfrm>
            <a:off x="0" y="14616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10"/>
          <p:cNvSpPr/>
          <p:nvPr/>
        </p:nvSpPr>
        <p:spPr>
          <a:xfrm>
            <a:off x="250920" y="4941720"/>
            <a:ext cx="1511280" cy="642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og een 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2" descr=""/>
          <p:cNvPicPr/>
          <p:nvPr/>
        </p:nvPicPr>
        <p:blipFill>
          <a:blip r:embed="rId1"/>
          <a:stretch/>
        </p:blipFill>
        <p:spPr>
          <a:xfrm>
            <a:off x="1763640" y="-309600"/>
            <a:ext cx="5545080" cy="7381800"/>
          </a:xfrm>
          <a:prstGeom prst="rect">
            <a:avLst/>
          </a:prstGeom>
          <a:ln w="0">
            <a:noFill/>
          </a:ln>
        </p:spPr>
      </p:pic>
      <p:sp>
        <p:nvSpPr>
          <p:cNvPr id="77" name="Toelichting met afgeronde rechthoek 5"/>
          <p:cNvSpPr/>
          <p:nvPr/>
        </p:nvSpPr>
        <p:spPr>
          <a:xfrm>
            <a:off x="6816600" y="0"/>
            <a:ext cx="2303640" cy="4032360"/>
          </a:xfrm>
          <a:prstGeom prst="wedgeRoundRectCallout">
            <a:avLst>
              <a:gd name="adj1" fmla="val -108041"/>
              <a:gd name="adj2" fmla="val 36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Robert de Sorbon. Sommige slimme studenten hadden geen geld om te studeren. Ik heb mijn huis maar voor ze opengesteld zodat ze konden studer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de wereld vooruit helpe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oelichting met afgeronde rechthoek 6"/>
          <p:cNvSpPr/>
          <p:nvPr/>
        </p:nvSpPr>
        <p:spPr>
          <a:xfrm>
            <a:off x="1440" y="0"/>
            <a:ext cx="2554560" cy="4221000"/>
          </a:xfrm>
          <a:prstGeom prst="wedgeRoundRectCallout">
            <a:avLst>
              <a:gd name="adj1" fmla="val 80643"/>
              <a:gd name="adj2" fmla="val 32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Dat van die platte aarde was dus onzin. Ook in de 21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eeuw zijn er mensen die geloven in een platte aarde. Maar de meeste ni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waar komen die universiteiten vand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3-11T15:25:55Z</dcterms:modified>
  <cp:revision>284</cp:revision>
  <dc:subject/>
  <dc:title>Dia 1</dc:title>
</cp:coreProperties>
</file>