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31834-2FE2-4A0A-A5E2-F3486253B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2D40-DFC1-4319-A241-025FD2832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50CA7-D26B-41C2-8B5A-DEC8E96A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61C6-07AB-4037-A4D7-3C1B9248B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BABA-90A5-4BD7-8373-3289C6C5F6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E140-733E-424F-9C8F-B62219CC44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F2CD-AE61-4B02-AC83-C489EFAA5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5C772-C029-4D03-B0DE-C18D0D378B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55937-7AA0-477A-BC0A-E5500FAC1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5D6FD-3DD2-441F-A105-85421736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0BA4-619A-4CAA-AF5B-CD1D35A31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9E9F-2DC4-43F8-964A-FEDC0CBE1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B8B494-9EA3-4F0E-A9E3-5061ED61D87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watching&amp;source=images&amp;cd=&amp;cad=rja&amp;docid=17V0yn8HfmGjGM&amp;tbnid=1tDI84Bzt4wo3M:&amp;ved=0CAUQjRw&amp;url=http://www.etftrends.com/2012/05/best-etfs-to-watch-for-market-insight/&amp;ei=6sQYUYGpMKXK0AWazICgBw&amp;bvm=bv.42080656,d.d2k&amp;psig=AFQjCNGkJtJ2EFa1kouK65lmmunkem69dg&amp;ust=1360664161653603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4" Type="http://schemas.openxmlformats.org/officeDocument/2006/relationships/image" Target="../media/image2.jpeg"/><Relationship Id="rId5" Type="http://schemas.openxmlformats.org/officeDocument/2006/relationships/hyperlink" Target="http://www.google.nl/url?sa=i&amp;rct=j&amp;q=facial+expressions&amp;source=images&amp;cd=&amp;cad=rja&amp;docid=D3i1OeIk_jOnVM&amp;tbnid=Mg-IvQbSHGShBM:&amp;ved=0CAUQjRw&amp;url=http://www.freeimageworks.com/vector-collection-of-facial-expressions/-&amp;ei=xZ8bUcKYMOiy0QX8qoBg&amp;bvm=bv.42261806,d.d2k&amp;psig=AFQjCNGp_XUIWQqItOb_z2Y8QzOXJpW4Dg&amp;ust=1360849716120116" TargetMode="External"/><Relationship Id="rId6" Type="http://schemas.openxmlformats.org/officeDocument/2006/relationships/image" Target="../media/image2.jpe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google.nl/url?sa=i&amp;rct=j&amp;q=&amp;esrc=s&amp;frm=1&amp;source=images&amp;cd=&amp;cad=rja&amp;docid=6uYUL1KpGKa1xM&amp;tbnid=3HX3btYTj-Vz7M:&amp;ved=0CAUQjRw&amp;url=http://daddysprincess.hubpages.com/hub/20-Questions-No-Limit-to-Bad-Answers-Interactive-Humor&amp;ei=L5FNUZycFKn30gWU1YDwDQ&amp;bvm=bv.44158598,d.d2k&amp;psig=AFQjCNGBrQkE271dyf7Sf6aRfPtvfeKDWQ&amp;ust=1364124266368180" TargetMode="External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hyperlink" Target="https://www.youtube.com/watch?v=X42E7erSaUw&amp;list=PLi_srCikhtgifGOLTFuVatXl7XzMk_Nmj&amp;index=34" TargetMode="External"/><Relationship Id="rId3" Type="http://schemas.openxmlformats.org/officeDocument/2006/relationships/hyperlink" Target="https://www.youtube.com/watch?v=X42E7erSaUw&amp;list=PLi_srCikhtgifGOLTFuVatXl7XzMk_Nmj&amp;index=34" TargetMode="External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hyperlink" Target="https://www.youtube.com/watch?v=ig-P52ANp9s&amp;list=PLi_srCikhtghrNa6Ti1d4aSyPQzQ3JI63&amp;index=27" TargetMode="External"/><Relationship Id="rId3" Type="http://schemas.openxmlformats.org/officeDocument/2006/relationships/hyperlink" Target="https://www.youtube.com/watch?v=NRTIVMmq9oU&amp;list=PLi_srCikhtggb0XZKcFfRUFK8Zew21W5y&amp;index=10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2" descr="http://www.etftrends.com/wp-content/uploads/2012/04/istock_000006450589medium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187280" y="1916280"/>
            <a:ext cx="6743880" cy="448596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42" name="Tekstvak 4"/>
          <p:cNvSpPr/>
          <p:nvPr/>
        </p:nvSpPr>
        <p:spPr>
          <a:xfrm>
            <a:off x="1692360" y="620640"/>
            <a:ext cx="56163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Burgerschap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is de waarheid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Toelichting met afgeronde rechthoek 5"/>
          <p:cNvSpPr/>
          <p:nvPr/>
        </p:nvSpPr>
        <p:spPr>
          <a:xfrm>
            <a:off x="4788000" y="5157720"/>
            <a:ext cx="1778040" cy="1187640"/>
          </a:xfrm>
          <a:prstGeom prst="wedgeRoundRectCallout">
            <a:avLst>
              <a:gd name="adj1" fmla="val -51185"/>
              <a:gd name="adj2" fmla="val -109884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ooooo, wat zie ik daar een mooi lev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oelichting met afgeronde rechthoek 4"/>
          <p:cNvSpPr/>
          <p:nvPr/>
        </p:nvSpPr>
        <p:spPr>
          <a:xfrm>
            <a:off x="395280" y="115920"/>
            <a:ext cx="3384720" cy="2160720"/>
          </a:xfrm>
          <a:prstGeom prst="wedgeRoundRectCallout">
            <a:avLst>
              <a:gd name="adj1" fmla="val 40388"/>
              <a:gd name="adj2" fmla="val 12287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We gaan eerst naar socrative.com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Er volgen een aantal  meerkeuze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Open eerst: YOUTUB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Je mag de video’s bekijken tijdens de vrag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Toelichting met afgeronde rechthoek 5"/>
          <p:cNvSpPr/>
          <p:nvPr/>
        </p:nvSpPr>
        <p:spPr>
          <a:xfrm>
            <a:off x="4643280" y="404640"/>
            <a:ext cx="3024360" cy="1440000"/>
          </a:xfrm>
          <a:prstGeom prst="wedgeRoundRectCallout">
            <a:avLst>
              <a:gd name="adj1" fmla="val -48370"/>
              <a:gd name="adj2" fmla="val 18590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Code: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alibri"/>
              </a:rPr>
              <a:t>Daarna: eerst je achternaam, dan je voornaam en als laatste de tussenvoegse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oelichting met afgeronde rechthoek 6"/>
          <p:cNvSpPr/>
          <p:nvPr/>
        </p:nvSpPr>
        <p:spPr>
          <a:xfrm>
            <a:off x="5950080" y="1989000"/>
            <a:ext cx="3024000" cy="2087640"/>
          </a:xfrm>
          <a:prstGeom prst="wedgeRoundRectCallout">
            <a:avLst>
              <a:gd name="adj1" fmla="val -57754"/>
              <a:gd name="adj2" fmla="val 777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Tijdens de vragen mag je de YOUTUBE-VIDEO’S kijk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Let op het trucje: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1800" spc="-1" strike="noStrike">
                <a:solidFill>
                  <a:srgbClr val="000000"/>
                </a:solidFill>
                <a:latin typeface="Calibri"/>
              </a:rPr>
              <a:t>Kopieer de titel van de video en plak die in de youtube-zoekbalk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4" descr="">
            <a:hlinkClick r:id="rId1"/>
          </p:cNvPr>
          <p:cNvPicPr/>
          <p:nvPr/>
        </p:nvPicPr>
        <p:blipFill>
          <a:blip r:embed="rId2"/>
          <a:srcRect l="0" t="62600" r="73376" b="3697"/>
          <a:stretch/>
        </p:blipFill>
        <p:spPr>
          <a:xfrm>
            <a:off x="3059280" y="3933720"/>
            <a:ext cx="2547720" cy="232596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6" descr="">
            <a:hlinkClick r:id="rId3"/>
          </p:cNvPr>
          <p:cNvPicPr/>
          <p:nvPr/>
        </p:nvPicPr>
        <p:blipFill>
          <a:blip r:embed="rId4"/>
          <a:srcRect l="50942" t="31495" r="25906" b="36412"/>
          <a:stretch/>
        </p:blipFill>
        <p:spPr>
          <a:xfrm>
            <a:off x="3348000" y="3860640"/>
            <a:ext cx="2303640" cy="230508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8" descr="">
            <a:hlinkClick r:id="rId5"/>
          </p:cNvPr>
          <p:cNvPicPr/>
          <p:nvPr/>
        </p:nvPicPr>
        <p:blipFill>
          <a:blip r:embed="rId6"/>
          <a:srcRect l="72939" t="1602" r="2754" b="66297"/>
          <a:stretch/>
        </p:blipFill>
        <p:spPr>
          <a:xfrm>
            <a:off x="3276720" y="3860640"/>
            <a:ext cx="2447640" cy="2332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2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556000" y="2192400"/>
            <a:ext cx="3887640" cy="4665600"/>
          </a:xfrm>
          <a:prstGeom prst="rect">
            <a:avLst/>
          </a:prstGeom>
          <a:ln w="0">
            <a:noFill/>
          </a:ln>
        </p:spPr>
      </p:pic>
      <p:sp>
        <p:nvSpPr>
          <p:cNvPr id="52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s leraren en andere personen die het kunnen weten het zeggen, dan zal het wel klopp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t moet ik doen als de geleerden elkaar tegenspreken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ie moet ik dan gelove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Soms heb ik het idee dat ze me maar wat vertellen. Is het allemaal wel waar? Bestaat Griekenland wel?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s er een Tweede Wereldoorlog geweest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Zo kan ik nog wel een hele tijd doorga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4" dur="2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9c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Afbeelding 2" descr=""/>
          <p:cNvPicPr/>
          <p:nvPr/>
        </p:nvPicPr>
        <p:blipFill>
          <a:blip r:embed="rId1"/>
          <a:stretch/>
        </p:blipFill>
        <p:spPr>
          <a:xfrm>
            <a:off x="0" y="-1440"/>
            <a:ext cx="5148360" cy="6953040"/>
          </a:xfrm>
          <a:prstGeom prst="rect">
            <a:avLst/>
          </a:prstGeom>
          <a:ln w="0">
            <a:noFill/>
          </a:ln>
        </p:spPr>
      </p:pic>
      <p:sp>
        <p:nvSpPr>
          <p:cNvPr id="55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9577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Jan Pieterz. Co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oelichting met afgeronde rechthoek 6"/>
          <p:cNvSpPr/>
          <p:nvPr/>
        </p:nvSpPr>
        <p:spPr>
          <a:xfrm>
            <a:off x="5580000" y="3139920"/>
            <a:ext cx="3492720" cy="1368720"/>
          </a:xfrm>
          <a:prstGeom prst="wedgeRoundRectCallout">
            <a:avLst>
              <a:gd name="adj1" fmla="val -130717"/>
              <a:gd name="adj2" fmla="val -15114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u zeggen ze dat ik veel geld heb verdiend aan de slavernij. Ik ben het er niet mee een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Toelichting met afgeronde rechthoek 7"/>
          <p:cNvSpPr/>
          <p:nvPr/>
        </p:nvSpPr>
        <p:spPr>
          <a:xfrm>
            <a:off x="5435640" y="1268280"/>
            <a:ext cx="3384360" cy="432000"/>
          </a:xfrm>
          <a:prstGeom prst="wedgeRoundRectCallout">
            <a:avLst>
              <a:gd name="adj1" fmla="val -121046"/>
              <a:gd name="adj2" fmla="val -6215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van 1587 tot 1629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Toelichting met afgeronde rechthoek 8"/>
          <p:cNvSpPr/>
          <p:nvPr/>
        </p:nvSpPr>
        <p:spPr>
          <a:xfrm>
            <a:off x="5492880" y="1951200"/>
            <a:ext cx="3600360" cy="576000"/>
          </a:xfrm>
          <a:prstGeom prst="wedgeRoundRectCallout">
            <a:avLst>
              <a:gd name="adj1" fmla="val -119453"/>
              <a:gd name="adj2" fmla="val -13884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b Nederland veel rijkdom gebracht dankzij de kolonië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oelichting met afgeronde rechthoek 9"/>
          <p:cNvSpPr/>
          <p:nvPr/>
        </p:nvSpPr>
        <p:spPr>
          <a:xfrm>
            <a:off x="5435640" y="5445000"/>
            <a:ext cx="2879640" cy="973440"/>
          </a:xfrm>
          <a:prstGeom prst="wedgeRoundRectCallout">
            <a:avLst>
              <a:gd name="adj1" fmla="val -131657"/>
              <a:gd name="adj2" fmla="val -38904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was lange tijd een held, maar nu is dat voorbij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Tekstvak 1"/>
          <p:cNvSpPr/>
          <p:nvPr/>
        </p:nvSpPr>
        <p:spPr>
          <a:xfrm>
            <a:off x="108000" y="14292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ederland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Afbeelding 3" descr=""/>
          <p:cNvPicPr/>
          <p:nvPr/>
        </p:nvPicPr>
        <p:blipFill>
          <a:blip r:embed="rId1"/>
          <a:stretch/>
        </p:blipFill>
        <p:spPr>
          <a:xfrm>
            <a:off x="0" y="-12600"/>
            <a:ext cx="4356000" cy="7061040"/>
          </a:xfrm>
          <a:prstGeom prst="rect">
            <a:avLst/>
          </a:prstGeom>
          <a:ln w="0">
            <a:noFill/>
          </a:ln>
        </p:spPr>
      </p:pic>
      <p:sp>
        <p:nvSpPr>
          <p:cNvPr id="62" name="Toelichting met afgeronde rechthoek 5"/>
          <p:cNvSpPr/>
          <p:nvPr/>
        </p:nvSpPr>
        <p:spPr>
          <a:xfrm>
            <a:off x="5435640" y="260280"/>
            <a:ext cx="3168720" cy="504720"/>
          </a:xfrm>
          <a:prstGeom prst="wedgeRoundRectCallout">
            <a:avLst>
              <a:gd name="adj1" fmla="val -130694"/>
              <a:gd name="adj2" fmla="val 14443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Wat een sukkel, zeg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oelichting met afgeronde rechthoek 6"/>
          <p:cNvSpPr/>
          <p:nvPr/>
        </p:nvSpPr>
        <p:spPr>
          <a:xfrm>
            <a:off x="5580000" y="3139920"/>
            <a:ext cx="3240000" cy="1152720"/>
          </a:xfrm>
          <a:prstGeom prst="wedgeRoundRectCallout">
            <a:avLst>
              <a:gd name="adj1" fmla="val -131981"/>
              <a:gd name="adj2" fmla="val -9828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bij mijn veroveringen heb ik meer dan 10 miljoen mensen laten vermoord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oelichting met afgeronde rechthoek 7"/>
          <p:cNvSpPr/>
          <p:nvPr/>
        </p:nvSpPr>
        <p:spPr>
          <a:xfrm>
            <a:off x="5483160" y="1052640"/>
            <a:ext cx="3384720" cy="431640"/>
          </a:xfrm>
          <a:prstGeom prst="wedgeRoundRectCallout">
            <a:avLst>
              <a:gd name="adj1" fmla="val -123467"/>
              <a:gd name="adj2" fmla="val 7987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heet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Timoer Lenk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oelichting met afgeronde rechthoek 8"/>
          <p:cNvSpPr/>
          <p:nvPr/>
        </p:nvSpPr>
        <p:spPr>
          <a:xfrm>
            <a:off x="5472000" y="2060640"/>
            <a:ext cx="3600720" cy="576360"/>
          </a:xfrm>
          <a:prstGeom prst="wedgeRoundRectCallout">
            <a:avLst>
              <a:gd name="adj1" fmla="val -120231"/>
              <a:gd name="adj2" fmla="val -5975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leefde in de 14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. En ik liep een beekje mank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oelichting met afgeronde rechthoek 9"/>
          <p:cNvSpPr/>
          <p:nvPr/>
        </p:nvSpPr>
        <p:spPr>
          <a:xfrm>
            <a:off x="5435640" y="5445000"/>
            <a:ext cx="3637080" cy="973440"/>
          </a:xfrm>
          <a:prstGeom prst="wedgeRoundRectCallout">
            <a:avLst>
              <a:gd name="adj1" fmla="val -136870"/>
              <a:gd name="adj2" fmla="val -338560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nog steeds een held in mijn land, Oezbekista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Afbeelding 2" descr=""/>
          <p:cNvPicPr/>
          <p:nvPr/>
        </p:nvPicPr>
        <p:blipFill>
          <a:blip r:embed="rId1"/>
          <a:stretch/>
        </p:blipFill>
        <p:spPr>
          <a:xfrm>
            <a:off x="0" y="0"/>
            <a:ext cx="5703840" cy="6858000"/>
          </a:xfrm>
          <a:prstGeom prst="rect">
            <a:avLst/>
          </a:prstGeom>
          <a:ln w="0">
            <a:noFill/>
          </a:ln>
        </p:spPr>
      </p:pic>
      <p:sp>
        <p:nvSpPr>
          <p:cNvPr id="69" name="Toelichting met afgeronde rechthoek 5"/>
          <p:cNvSpPr/>
          <p:nvPr/>
        </p:nvSpPr>
        <p:spPr>
          <a:xfrm>
            <a:off x="5240160" y="36360"/>
            <a:ext cx="3888000" cy="619200"/>
          </a:xfrm>
          <a:prstGeom prst="wedgeRoundRectCallout">
            <a:avLst>
              <a:gd name="adj1" fmla="val -85319"/>
              <a:gd name="adj2" fmla="val 10283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ik ben Columbus. Je weet wel: de ontdekker van Amerika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Toelichting met afgeronde rechthoek 6"/>
          <p:cNvSpPr/>
          <p:nvPr/>
        </p:nvSpPr>
        <p:spPr>
          <a:xfrm>
            <a:off x="5554800" y="3606840"/>
            <a:ext cx="3492360" cy="1152360"/>
          </a:xfrm>
          <a:prstGeom prst="wedgeRoundRectCallout">
            <a:avLst>
              <a:gd name="adj1" fmla="val -113175"/>
              <a:gd name="adj2" fmla="val -20108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Alleen een paar analfabeten geloofden dat de aarde plat was. De kerk en alle geleerden geloofden in een rond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Toelichting met afgeronde rechthoek 7"/>
          <p:cNvSpPr/>
          <p:nvPr/>
        </p:nvSpPr>
        <p:spPr>
          <a:xfrm>
            <a:off x="5483160" y="1052640"/>
            <a:ext cx="3384720" cy="568080"/>
          </a:xfrm>
          <a:prstGeom prst="wedgeRoundRectCallout">
            <a:avLst>
              <a:gd name="adj1" fmla="val -96449"/>
              <a:gd name="adj2" fmla="val 14162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irriteer me aan de onzin die over me is verteld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Toelichting met afgeronde rechthoek 8"/>
          <p:cNvSpPr/>
          <p:nvPr/>
        </p:nvSpPr>
        <p:spPr>
          <a:xfrm>
            <a:off x="5472000" y="1843200"/>
            <a:ext cx="3600720" cy="1154160"/>
          </a:xfrm>
          <a:prstGeom prst="wedgeRoundRectCallout">
            <a:avLst>
              <a:gd name="adj1" fmla="val -101990"/>
              <a:gd name="adj2" fmla="val -73189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zocht naar een korte route naar India en China. Niet om aan te tonen dat de aarde rond wa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oelichting met afgeronde rechthoek 9"/>
          <p:cNvSpPr/>
          <p:nvPr/>
        </p:nvSpPr>
        <p:spPr>
          <a:xfrm>
            <a:off x="4140360" y="5332320"/>
            <a:ext cx="5025960" cy="1409760"/>
          </a:xfrm>
          <a:prstGeom prst="wedgeRoundRectCallout">
            <a:avLst>
              <a:gd name="adj1" fmla="val -69856"/>
              <a:gd name="adj2" fmla="val -277027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Kijk maar eens naa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2"/>
              </a:rPr>
              <a:t>video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over de </a:t>
            </a:r>
            <a:r>
              <a:rPr b="0" lang="nl-NL" sz="1800" spc="-1" strike="noStrike" u="sng">
                <a:solidFill>
                  <a:srgbClr val="0000ff"/>
                </a:solidFill>
                <a:uFillTx/>
                <a:latin typeface="Arial"/>
                <a:ea typeface="Arial"/>
                <a:hlinkClick r:id="rId3"/>
              </a:rPr>
              <a:t>mythe van de platte aard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klik op wikiwijs: de mythe van de platte aard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kstvak 1"/>
          <p:cNvSpPr/>
          <p:nvPr/>
        </p:nvSpPr>
        <p:spPr>
          <a:xfrm>
            <a:off x="0" y="146160"/>
            <a:ext cx="1511280" cy="368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kstvak 10"/>
          <p:cNvSpPr/>
          <p:nvPr/>
        </p:nvSpPr>
        <p:spPr>
          <a:xfrm>
            <a:off x="250920" y="4941720"/>
            <a:ext cx="1511280" cy="64260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Nog een video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Afbeelding 2" descr=""/>
          <p:cNvPicPr/>
          <p:nvPr/>
        </p:nvPicPr>
        <p:blipFill>
          <a:blip r:embed="rId1"/>
          <a:stretch/>
        </p:blipFill>
        <p:spPr>
          <a:xfrm>
            <a:off x="1763640" y="-309600"/>
            <a:ext cx="5545080" cy="7381800"/>
          </a:xfrm>
          <a:prstGeom prst="rect">
            <a:avLst/>
          </a:prstGeom>
          <a:ln w="0">
            <a:noFill/>
          </a:ln>
        </p:spPr>
      </p:pic>
      <p:sp>
        <p:nvSpPr>
          <p:cNvPr id="77" name="Toelichting met afgeronde rechthoek 5"/>
          <p:cNvSpPr/>
          <p:nvPr/>
        </p:nvSpPr>
        <p:spPr>
          <a:xfrm>
            <a:off x="6816600" y="0"/>
            <a:ext cx="2303640" cy="4032360"/>
          </a:xfrm>
          <a:prstGeom prst="wedgeRoundRectCallout">
            <a:avLst>
              <a:gd name="adj1" fmla="val -108041"/>
              <a:gd name="adj2" fmla="val 36013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Ik ben Robert de Sorbon. Sommige slimme studenten hadden geen geld om te studeren. Ik heb mijn huis maar voor ze opengesteld zodat ze konden studeren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En de wereld vooruit helpen!!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oelichting met afgeronde rechthoek 6"/>
          <p:cNvSpPr/>
          <p:nvPr/>
        </p:nvSpPr>
        <p:spPr>
          <a:xfrm>
            <a:off x="1440" y="0"/>
            <a:ext cx="2554560" cy="4221000"/>
          </a:xfrm>
          <a:prstGeom prst="wedgeRoundRectCallout">
            <a:avLst>
              <a:gd name="adj1" fmla="val 80643"/>
              <a:gd name="adj2" fmla="val 32916"/>
              <a:gd name="adj3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Ok. Dat van die platte aarde was dus onzin. Ook in de 21</a:t>
            </a:r>
            <a:r>
              <a:rPr b="0" lang="nl-NL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e</a:t>
            </a: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 eeuw zijn er mensen die geloven in een platte aarde. Maar de meeste niet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Arial"/>
                <a:ea typeface="Arial"/>
              </a:rPr>
              <a:t>Maar waar komen die universiteiten vandaan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2-11T10:01:07Z</dcterms:created>
  <dc:creator>ha.barten</dc:creator>
  <dc:description/>
  <dc:language>en-US</dc:language>
  <cp:lastModifiedBy>Adela van Stiphout</cp:lastModifiedBy>
  <dcterms:modified xsi:type="dcterms:W3CDTF">2020-03-11T15:25:55Z</dcterms:modified>
  <cp:revision>284</cp:revision>
  <dc:subject/>
  <dc:title>Dia 1</dc:title>
</cp:coreProperties>
</file>