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1864B-7083-4BE2-BA85-04E212542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485ED-AA66-4FEB-970C-588717BFD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0124A-2D69-4909-B8EE-604148A0F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44086-BDE4-4399-B00B-CC7BD9C19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52237-A76E-44EC-9277-1C79C5F96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10580-C839-4E74-B8B8-61ABF0596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C90E4-B3D1-4049-BD8D-D4533F42C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1BFD9-A460-42E0-B91F-11E415E99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6D24B-17E5-4413-BF57-19859B2F2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A4737-441F-453A-B797-9FF16FE89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04F50-33AF-4244-811C-6FE0683FA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BDE38-AFE1-41A8-9220-DB411E31A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9E9B0-3507-40B9-838B-6548C1324444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Indonesie-Nederl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amenv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Radicaal nationalis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edenen voor opkomst radicalism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- geen vertrouwen in overdracht macht                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oor Nederl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- verbod voor radicale partij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KI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elfstandigheid door revolu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NI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elfstandigheid door propaganda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n door niet te samenwerken met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Reacties NL op nationalis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nstelling Volksraad                                    soort parlement met weinig bevoegdheden voor Europeanen, Indo-Europeanen en gematigde Indonesië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perkte bevoegdheden voor Indonesiërs in lokaal bestu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adicalen worden naar strafkampen gestuu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4"/>
          <p:cNvSpPr/>
          <p:nvPr/>
        </p:nvSpPr>
        <p:spPr>
          <a:xfrm>
            <a:off x="4572000" y="1916280"/>
            <a:ext cx="324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Gevolgen van Japanse bezett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ederlanders opgesloten in kamp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Japanners gesteund door Indonesië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mpuls voor nationalis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Japan wordt gezien als bevrij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6"/>
          <p:cNvSpPr/>
          <p:nvPr/>
        </p:nvSpPr>
        <p:spPr>
          <a:xfrm>
            <a:off x="7812000" y="2565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7"/>
          <p:cNvSpPr/>
          <p:nvPr/>
        </p:nvSpPr>
        <p:spPr>
          <a:xfrm>
            <a:off x="5580000" y="3141720"/>
            <a:ext cx="216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Conflict Indonesie-Nederla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5-08-1945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apitulatie Jap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7-08-1945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nafhankelijkheidsverklaring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oor Soekar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-10-1945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ederlandse bestuurders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eren terug naar Indonesië    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rzet door nationalis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8244000" y="40766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Overleg tussen Indonesië en Nederlan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pril 1946 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Conferentie op Hoge Veluw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verleg met gematigde nationalis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Java voor Indonesië, de rest voor N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Okt. 1946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Conferentie van Linggadjat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Indonesië wordt federatie van deelsta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Indonesië en Nederland vormen 1 uni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fspraken worden niet nagekomen                   wapengeweld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4"/>
          <p:cNvSpPr/>
          <p:nvPr/>
        </p:nvSpPr>
        <p:spPr>
          <a:xfrm>
            <a:off x="6443640" y="5589720"/>
            <a:ext cx="115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Overleg tussen Indonesië en Nederland (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ritiek op Linggadjati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ndonesië wil eenheidssta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L heeft moeite met gelijkwaardige positie tussen 2 lan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c. 1947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onferentie op de Renvil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nternationale conferen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fspraken Linggadjati bevestig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apenstilst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Politionele acties</a:t>
            </a:r>
            <a:br>
              <a:rPr sz="4000"/>
            </a:b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1947 en 194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ilitaire acties tegen nationalis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ijdens conferenties versterkt NL leg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ind 1946: 90.000 militai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L herstelt macht op meeste eiland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L stopt acties onder druk van VN en V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Druk van buitena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olitionele acties            zelfbeschikkingsrecht (Roosevelt, V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S willen voorkomen dat nationalisten kant van communisten kiezen (Koude Oorlo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N eist staakt-het-vuren                             nieuwe onderhandelingen tussen NL en Indonesië                                                  1949 Rondetafelconferentie in Den Haa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4"/>
          <p:cNvSpPr/>
          <p:nvPr/>
        </p:nvSpPr>
        <p:spPr>
          <a:xfrm>
            <a:off x="4067280" y="1700280"/>
            <a:ext cx="4033800" cy="485640"/>
          </a:xfrm>
          <a:prstGeom prst="leftRightArrow">
            <a:avLst>
              <a:gd name="adj1" fmla="val 50000"/>
              <a:gd name="adj2" fmla="val 16535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5"/>
          <p:cNvSpPr/>
          <p:nvPr/>
        </p:nvSpPr>
        <p:spPr>
          <a:xfrm>
            <a:off x="5292720" y="4581360"/>
            <a:ext cx="2808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6"/>
          <p:cNvSpPr/>
          <p:nvPr/>
        </p:nvSpPr>
        <p:spPr>
          <a:xfrm>
            <a:off x="2843280" y="5589720"/>
            <a:ext cx="2881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Resultaten Rondetafelconferenti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ndonesië: federatie van deelstaten onder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           druk van N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ndonesië en NL vormen een unie olv N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27-12-1949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oevereiniteitsoverdracht in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n Haa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Kwestie Nieuw Guine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NG bleef in 1949 bij NL hor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parte onderhandelingen tussen NL en Indonesië lopen in 1950 v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Chronologie gebeurteniss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Indonesië stapt uit Un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NL bedrijven in Ind. Genationalisee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Indonesië verbreekt diplomatieke ban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Alle NL uit Indonesië gestuu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anaf 1960 aanvallen door Ind. Op 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1-5-1963 soevereiniteit NG overgedragen aan 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egin relati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596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andelsreizen naar Azië voor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pecerij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602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prichting VOC                             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rlies door concurrentie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perken                                       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onopolie op handel op Azi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4"/>
          <p:cNvSpPr/>
          <p:nvPr/>
        </p:nvSpPr>
        <p:spPr>
          <a:xfrm>
            <a:off x="5411880" y="3970440"/>
            <a:ext cx="3024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5"/>
          <p:cNvSpPr/>
          <p:nvPr/>
        </p:nvSpPr>
        <p:spPr>
          <a:xfrm>
            <a:off x="5292720" y="2997360"/>
            <a:ext cx="287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VO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atavia wordt hoofdkwartier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stuur, opslag, samenkomst en controle van schep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etwerk van factorijen in Azië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ermanente handelsposten en forten in 1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oel = overheersing plaatselijke bevol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ijand op afstand hou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4"/>
          <p:cNvSpPr/>
          <p:nvPr/>
        </p:nvSpPr>
        <p:spPr>
          <a:xfrm>
            <a:off x="6012000" y="1916280"/>
            <a:ext cx="2305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5"/>
          <p:cNvSpPr/>
          <p:nvPr/>
        </p:nvSpPr>
        <p:spPr>
          <a:xfrm>
            <a:off x="6300720" y="3933720"/>
            <a:ext cx="201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7"/>
          <p:cNvSpPr/>
          <p:nvPr/>
        </p:nvSpPr>
        <p:spPr>
          <a:xfrm>
            <a:off x="8317080" y="4437000"/>
            <a:ext cx="826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pecerijenhan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oel VOC = monopolie op                                 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     specerijenhandel verkrij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iddelen = - bondgenootschappen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(Ceylon)                          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weld/strafexpedities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(Molukke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- beheersing van belangrijke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               scheepvaartroures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Contacten met Inlandse bevolk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Formele contact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et vorsten over handelscontacten in ruil voor geschenken en militaire hul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nformele contact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uropese mannen trouwen met Aziatische vrou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ntstaan mengcultuur     Indo-European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4"/>
          <p:cNvSpPr/>
          <p:nvPr/>
        </p:nvSpPr>
        <p:spPr>
          <a:xfrm>
            <a:off x="4356000" y="1916280"/>
            <a:ext cx="23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5"/>
          <p:cNvSpPr/>
          <p:nvPr/>
        </p:nvSpPr>
        <p:spPr>
          <a:xfrm>
            <a:off x="4643280" y="4149720"/>
            <a:ext cx="2521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6"/>
          <p:cNvSpPr/>
          <p:nvPr/>
        </p:nvSpPr>
        <p:spPr>
          <a:xfrm>
            <a:off x="5003640" y="580536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Ontstaan van Nederlands-Indi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825-1830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Java-oorlo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874-1904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tjeh-oorlo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anaf 1870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rovering buitengewesten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anwege gevaar modern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mperialis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Cultuurstelsel 1830-187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oel = Nederlands-Indie winstgevend                    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    ma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Javaanse boeren worden gedwongen om op deel van hun grond producten te verbouwen voor de NL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uiker, koffie en taba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evolg = grote winsten voor de N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rote armoede voor Javaanse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 boe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4"/>
          <p:cNvSpPr/>
          <p:nvPr/>
        </p:nvSpPr>
        <p:spPr>
          <a:xfrm>
            <a:off x="5148360" y="4005360"/>
            <a:ext cx="295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Van uitbuiting naar ontwikke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830-1870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ultuurstels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anaf 1850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ritiek op uitbuiting vanuit N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870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grarische wet                      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inde cultuurstelsel door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iberalisme                             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lantages in particuliere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anden Europeanen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nlanders    contractarbeiders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4"/>
          <p:cNvSpPr/>
          <p:nvPr/>
        </p:nvSpPr>
        <p:spPr>
          <a:xfrm>
            <a:off x="6084720" y="3141720"/>
            <a:ext cx="215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5"/>
          <p:cNvSpPr/>
          <p:nvPr/>
        </p:nvSpPr>
        <p:spPr>
          <a:xfrm>
            <a:off x="5292720" y="4076640"/>
            <a:ext cx="2808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6"/>
          <p:cNvSpPr/>
          <p:nvPr/>
        </p:nvSpPr>
        <p:spPr>
          <a:xfrm>
            <a:off x="7020000" y="5084640"/>
            <a:ext cx="1584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7"/>
          <p:cNvSpPr/>
          <p:nvPr/>
        </p:nvSpPr>
        <p:spPr>
          <a:xfrm>
            <a:off x="4932360" y="566100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Opkomst nationalis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Redenen voor opkomst nationalism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- Japan verslaat Rusland in oorlog (1905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- Industrialisatie Japan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- Nationalisme in Brits-Ind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Boedi Oetomo/Sarekat Islam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matigd nationalis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en zelfstandigheid, maar invloed door samenwerking met de Nederlan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8T13:00:18Z</dcterms:created>
  <dc:creator>algemeen1</dc:creator>
  <dc:description/>
  <dc:language>en-US</dc:language>
  <cp:lastModifiedBy>ottj</cp:lastModifiedBy>
  <dcterms:modified xsi:type="dcterms:W3CDTF">2013-06-21T12:30:29Z</dcterms:modified>
  <cp:revision>8</cp:revision>
  <dc:subject/>
  <dc:title>Indonesie-Nederland</dc:title>
</cp:coreProperties>
</file>