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7D-E1F0-4EC5-A8DD-93584C9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A5E-5B0E-47EF-BF9E-D09B5A6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766-0D92-47DE-A598-8FF56DB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311-6801-4942-880B-1B47E881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1D2-177C-4C35-A062-153D065E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A84-9F6D-44A5-B99B-8E0C651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B63-A781-4C65-A1B0-49C2A515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552-C201-44CB-B56B-D530CDBC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778-AACF-437A-96F9-31722AE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9F6-5D6B-4388-A8B4-6969470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0CF-4A0E-453F-9915-6373C76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B44-CAA1-428D-ABCF-22D1D2F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080-F311-4226-9482-DD377A87F9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dicaal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nen voor opkomst radicalis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geen vertrouwen in overdracht macht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verbod voor radical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K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revol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propaganda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door niet te samenwerken me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acties NL op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elling Volksraad                                    soort parlement met weinig bevoegdheden voor Europeanen, Indo-Europeanen en gematigde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te bevoegdheden voor Indonesiërs in lokaal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calen worden naar strafkampen gestuu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572000" y="1916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volgen van Japanse beze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opgesloten in k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ners gesteund door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uls voor 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wordt gezien als bevrij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781200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580000" y="3141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 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itulatie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afhankelijkheidsverklarin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Soek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10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bestuurder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en terug naar Indonesië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zet door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824400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ril 1946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op Hoge Veluw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 met gematigde nationa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va voor Indonesië, de rest voor N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t. 1946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van Linggadj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ordt federatie van deel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en Nederland vormen 1 u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ken worden niet nagekomen                   wapengeweld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443640" y="5589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Linggadja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wil eenheid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eft moeite met gelijkwaardige positie tussen 2 l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. 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ferentie op de Renv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tionale confe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praken Linggadjati beves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penstil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acties tegen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conferenties versterkt NL l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 1946: 90.000 militai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rstelt macht op meeste eila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stopt acties onder druk van VN en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uk van buiten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onele acties            zelfbeschikkingsrecht (Roosevelt, 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willen voorkomen dat nationalisten kant van communisten kiezen (Koude Oor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N eist staakt-het-vuren                             nieuwe onderhandelingen tussen NL en Indonesië                                                  1949 Rondetafelconferentie in 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067280" y="1700280"/>
            <a:ext cx="4033800" cy="485640"/>
          </a:xfrm>
          <a:prstGeom prst="leftRightArrow">
            <a:avLst>
              <a:gd name="adj1" fmla="val 50000"/>
              <a:gd name="adj2" fmla="val 165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5292720" y="45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84328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sultaten Rondetafelconferen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: federatie van deelstaten onde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druk van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en NL vormen een unie olv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7-12-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vereiniteitsoverdracht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westie Nieuw Gui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G bleef in 1949 bij NL h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arte onderhandelingen tussen NL en Indonesië lopen in 1950 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ologie gebeurteni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stapt ui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bedrijven in Ind. Genationalis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verbreekt diplomatieke b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 NL uit Indonesië gestu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af 1960 aanvallen door Ind. Op 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5-1963 soevereiniteit NG overgedragen a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in relat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9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lsreizen naar Azië v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er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60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VOC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lies door concurren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en 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polie op handel op Azi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411880" y="39704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5292720" y="29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tavia wordt hoofdkwartier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uur, opslag, samenkomst en controle van sch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twerk van factorijen in Azië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e handelsposten en forten in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overheersing plaatselijk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 op afstand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12000" y="19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30072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8317080" y="443700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erijenha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VOC = monopolie op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specerijenhandel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= - bondgenootschap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Ceylon)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/strafexpeditie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oluk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eheersing van belangrijk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scheepvaartroures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ontacten met Inlands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vorsten over handelscontacten in ruil voor geschenken en militaire 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mannen trouwen met Aziatische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mengcultuur     Indo-Europea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356000" y="191628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43280" y="4149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003640" y="58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tstaan van Nederlands-Ind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25-183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4-190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jeh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vering buitengewes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wege gevaar moder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eri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ltuurstelsel 1830-18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Nederlands-Indie winstgevend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anse boeren worden gedwongen om op deel van hun grond producten te verbouwen voor de NL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iker, koffie en 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lg = grote winsten voor de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 voor Javaan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b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148360" y="4005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uitbuiting naar 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30-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uur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uitbuiting vanuit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grarische wet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e cultuurstelsel d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beralisme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tages in particulier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n Europeanen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anders    contractarbeid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084720" y="3141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292720" y="4076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702000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4932360" y="566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komst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en voor opkomst nationalis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Japan verslaat Rusland in oorlog (190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dustrialisatie Japan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Nationalisme in Brits-In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di Oetomo/Sarekat Isl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tigd nat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zelfstandigheid, maar invloed door samenwerking met de Neder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00:18Z</dcterms:created>
  <dc:creator>algemeen1</dc:creator>
  <dc:description/>
  <dc:language>en-US</dc:language>
  <cp:lastModifiedBy>ottj</cp:lastModifiedBy>
  <dcterms:modified xsi:type="dcterms:W3CDTF">2013-06-21T12:30:29Z</dcterms:modified>
  <cp:revision>8</cp:revision>
  <dc:subject/>
  <dc:title>Indonesie-Nederland</dc:title>
</cp:coreProperties>
</file>