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0C6-2FAF-4CA8-A3FF-5AB10250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244-BB84-4C2C-B25E-CEE9D49E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752-FD95-493C-9B19-EC5FEB58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32E-8F04-41D3-A185-A509EB09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476-E6E6-403D-9050-C656561F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7F6-CF69-44EA-A792-A13AB7C9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219-BFE0-44B2-AEBC-F4B1E6B0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4A9-370B-4BE8-BA92-2E322FD1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528-743D-4935-84BA-933ADE1F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C55-08C3-48F4-9574-A9C633BC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C10-8851-432B-89BE-DCC87416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5AC-BB68-4C4F-83AA-D8C1FB2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5139-31C4-4A3E-8EFE-E79C6668E5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onesie-Ned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adicaal 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nen voor opkomst radicalis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geen vertrouwen in overdracht macht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verbod voor radical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K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standigheid door revol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standigheid door propaganda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door niet te samenwerken me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acties NL op 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elling Volksraad                                    soort parlement met weinig bevoegdheden voor Europeanen, Indo-Europeanen en gematigde Indonesië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erkte bevoegdheden voor Indonesiërs in lokaal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dicalen worden naar strafkampen gestuu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572000" y="1916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volgen van Japanse beze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opgesloten in k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ners gesteund door Indonesië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mpuls voor 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wordt gezien als bevrij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7812000" y="256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5580000" y="3141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lict Indonesie-Ned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5-08-194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pitulatie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-08-194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afhankelijkheidsverklarin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Soeka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10-194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bestuurders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en terug naar Indonesië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zet door nationa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824400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verleg tussen Indonesië en Ned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pril 1946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ferentie op Hoge Veluw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 met gematigde nationa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va voor Indonesië, de rest voor N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t. 1946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ferentie van Linggadj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ordt federatie van deel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en Nederland vormen 1 u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ken worden niet nagekomen                   wapengeweld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6443640" y="5589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verleg tussen Indonesië en Nederland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itiek op Linggadja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wil eenheid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heeft moeite met gelijkwaardige positie tussen 2 l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c. 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ferentie op de Renvil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tionale confe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praken Linggadjati beves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penstilst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acties tegen nationa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conferenties versterkt NL l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nd 1946: 90.000 militai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herstelt macht op meeste eilan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stopt acties onder druk van VN en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uk van buiten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onele acties            zelfbeschikkingsrecht (Roosevelt, 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willen voorkomen dat nationalisten kant van communisten kiezen (Koude Oorl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N eist staakt-het-vuren                             nieuwe onderhandelingen tussen NL en Indonesië                                                  1949 Rondetafelconferentie in Den H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067280" y="1700280"/>
            <a:ext cx="4033800" cy="485640"/>
          </a:xfrm>
          <a:prstGeom prst="leftRightArrow">
            <a:avLst>
              <a:gd name="adj1" fmla="val 50000"/>
              <a:gd name="adj2" fmla="val 1653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5292720" y="45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843280" y="558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sultaten Rondetafelconferen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: federatie van deelstaten onde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druk van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en NL vormen een unie olv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7-12-194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vereiniteitsoverdracht i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 H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westie Nieuw Gui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G bleef in 1949 bij NL h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parte onderhandelingen tussen NL en Indonesië lopen in 1950 v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ologie gebeurteni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stapt uit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bedrijven in Ind. Genationalise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verbreekt diplomatieke b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 NL uit Indonesië gestu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af 1960 aanvallen door Ind. Op 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-5-1963 soevereiniteit NG overgedragen a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in relat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596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ndelsreizen naar Azië voo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cer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60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VOC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lies door concurren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erken 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polie op handel op Azi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5411880" y="39704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5292720" y="29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tavia wordt hoofdkwartier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uur, opslag, samenkomst en controle van sch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twerk van factorijen in Azië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e handelsposten en forten in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overheersing plaatselijk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 op afstand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6012000" y="19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30072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8317080" y="443700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erijenhan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VOC = monopolie op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specerijenhandel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= - bondgenootschapp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Ceylon)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/strafexpedities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Moluk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eheersing van belangrijk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scheepvaartroures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ontacten met Inlands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ele contac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vorsten over handelscontacten in ruil voor geschenken en militaire h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le contac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mannen trouwen met Aziatische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mengcultuur     Indo-Europea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356000" y="191628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643280" y="4149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003640" y="580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tstaan van Nederlands-Ind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25-183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va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74-190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jeh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af 187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overing buitengewes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wege gevaar moder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mperi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ltuurstelsel 1830-18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Nederlands-Indie winstgevend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vaanse boeren worden gedwongen om op deel van hun grond producten te verbouwen voor de NL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iker, koffie en 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olg = grote winsten voor de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rmoede voor Javaans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b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148360" y="4005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uitbuiting naar ontwik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30-187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ltuurstel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af 18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itiek op uitbuiting vanuit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7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grarische wet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nde cultuurstelsel doo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beralisme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tages in particulier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nden Europeanen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anders    contractarbeide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6084720" y="314172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5292720" y="4076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7020000" y="50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4932360" y="566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komst 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en voor opkomst nationalism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Japan verslaat Rusland in oorlog (190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dustrialisatie Japan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Nationalisme in Brits-In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di Oetomo/Sarekat Isl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tigd nat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zelfstandigheid, maar invloed door samenwerking met de Nederla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3:00:18Z</dcterms:created>
  <dc:creator>algemeen1</dc:creator>
  <dc:description/>
  <dc:language>en-US</dc:language>
  <cp:lastModifiedBy>ottj</cp:lastModifiedBy>
  <dcterms:modified xsi:type="dcterms:W3CDTF">2013-06-21T12:30:29Z</dcterms:modified>
  <cp:revision>8</cp:revision>
  <dc:subject/>
  <dc:title>Indonesie-Nederland</dc:title>
</cp:coreProperties>
</file>