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5E5B-F471-4B90-AD30-2ED0C0D4871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AC11-D63A-4CDC-9668-4D9761FA92E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A45E-EF99-484E-8EC6-18BF7529434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61FA-CC92-4947-9BFF-64A839F8A7F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6CDF-F844-4910-BBF4-BB82514E87D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1EC1-8140-46BB-B3D8-E5975B14502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7308-720E-46FB-B9DC-0F603D4A5C9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ACE4-6C58-4D09-BC6D-AFD44ACF7F5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6F39-A53A-494D-B129-A9DBB708A03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1DF7-F749-48CC-9D34-4C3E85076D0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2517-0754-44F5-8F61-F1486B7D9CD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4DA2-682C-45DF-A152-DACB1F90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4A0-143C-4120-86CE-101CA71B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2E07-4D18-4E4F-A03E-47C41C48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3FD5-395D-4523-B35C-BB7D1467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6355-DD43-4A95-BED7-A8B557BA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4978-3A43-47AF-BCB5-1E24F88F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E815-8CCA-44B3-90D0-E88595C4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C82B-D64E-4746-920B-36DB83A1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7690-CCB8-41FB-A27A-822EB89E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6E97-28D2-4934-BC34-8F6BCB89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7741-6D65-49F8-AAEF-665DFE5B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170E-9827-4991-85BD-CF100924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6841-D1C5-4CCC-9CB7-62912F41E13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orumeerstewereldoorlog.nl/wiki/index.php/Afbeelding:Oostenrijk-Hongarije1914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ageshack.us/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Eerste Wereldoor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vat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ofdstuk 4.1/4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oor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timisme maakt plaats voor pessim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9 miljoen dode sold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ouwenkiesrecht in vele l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log was totale 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vrouwenkiesrecht.jpg (11246 bytes)"/>
          <p:cNvPicPr/>
          <p:nvPr/>
        </p:nvPicPr>
        <p:blipFill>
          <a:blip r:embed="rId1"/>
          <a:stretch/>
        </p:blipFill>
        <p:spPr>
          <a:xfrm>
            <a:off x="5435640" y="3573360"/>
            <a:ext cx="3333600" cy="2838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826920" y="5516640"/>
            <a:ext cx="446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Vrouwen werken in wapenfabrie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ederland in de 1</a:t>
            </a:r>
            <a:r>
              <a:rPr b="0" lang="nl-NL" sz="4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= neutr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bilisatie van 200.000 sold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vang 100.000den Belgische vluchte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teruggang handel voedseltekor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voedseldistributie dmv bo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vluchtelingen"/>
          <p:cNvPicPr/>
          <p:nvPr/>
        </p:nvPicPr>
        <p:blipFill>
          <a:blip r:embed="rId1"/>
          <a:stretch/>
        </p:blipFill>
        <p:spPr>
          <a:xfrm>
            <a:off x="6443640" y="4437000"/>
            <a:ext cx="2552760" cy="16002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6227640" y="6165720"/>
            <a:ext cx="25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Belgische vluchtelingen aan de grens van Neder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rede van Versai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houd bepaald door GB/F/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tsland mag niet meepr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tsland als schuldige aangewe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B/F willen Duitsland zwaar stra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S willen veilige, vrije en democratische wer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Bepalingen Verdrag van Versail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itsland verliest gebieden en kolonië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itsland mag geen luchtmacht heb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ger van slechts 100.000 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jnland wordt gedemilitarisee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itsland moet herstelbetalingen d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enbond opgericht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m problemen op te lossen door pr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lfbeschikkingsrecht voor volker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zelf beslissen over eigen land of deel zijn van een and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400px-German_Empire_1914"/>
          <p:cNvPicPr/>
          <p:nvPr/>
        </p:nvPicPr>
        <p:blipFill>
          <a:blip r:embed="rId1"/>
          <a:stretch/>
        </p:blipFill>
        <p:spPr>
          <a:xfrm>
            <a:off x="5796000" y="1916280"/>
            <a:ext cx="3057480" cy="1400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2556000" y="2492280"/>
            <a:ext cx="30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Duitsland’s koloniën tot 19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1</a:t>
            </a:r>
            <a:r>
              <a:rPr b="0" lang="nl-NL" sz="4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tionalisme (GB/F/D/O-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ijd om koloniën (GB/F/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litaris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penwedloop (GB/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ysteem van bondgenootschappen (Euro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moord in Sarajevo (aanleiding) (O-H/S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zas-Lotharingen (F/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FWWassass2"/>
          <p:cNvPicPr/>
          <p:nvPr/>
        </p:nvPicPr>
        <p:blipFill>
          <a:blip r:embed="rId1"/>
          <a:stretch/>
        </p:blipFill>
        <p:spPr>
          <a:xfrm>
            <a:off x="5940360" y="4149720"/>
            <a:ext cx="2038320" cy="2362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2411280" y="4365720"/>
            <a:ext cx="338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Franz - Ferdinand wordt neergeschoten in Saraje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ional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erke landen die nog sterker en groter willen worden (GB/F/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lkeren die een eigen staat                         willen hebben (volkeren in O-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begin van oorlog zijn mensen enthousiast: alle landen denken oorlog in paar maanden te w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Oostenrijk-Hongarije in 1914 (Naar Philip, Record Atlas, 1926)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2349360"/>
            <a:ext cx="2028600" cy="1952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 flipH="1">
            <a:off x="7020720" y="4508640"/>
            <a:ext cx="144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ostenrijk-Hongari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ndgenootscha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entr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uits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stenrijk-Hongar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ttomaanse r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lgar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talië t/m 19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allie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root-Brittanni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rankr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s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rvi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talië vanaf 19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.S. vanaf 19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st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n Schlieffenplan van Duit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B en Frankrijk tegen Duit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uwe wap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a7v_05"/>
          <p:cNvPicPr/>
          <p:nvPr/>
        </p:nvPicPr>
        <p:blipFill>
          <a:blip r:embed="rId1"/>
          <a:stretch/>
        </p:blipFill>
        <p:spPr>
          <a:xfrm>
            <a:off x="5580000" y="3500280"/>
            <a:ext cx="2685960" cy="1810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GasAttack-%20WWI%20(538x406)"/>
          <p:cNvPicPr/>
          <p:nvPr/>
        </p:nvPicPr>
        <p:blipFill>
          <a:blip r:embed="rId2"/>
          <a:stretch/>
        </p:blipFill>
        <p:spPr>
          <a:xfrm>
            <a:off x="539640" y="3789360"/>
            <a:ext cx="3613320" cy="2725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5508720" y="5373720"/>
            <a:ext cx="25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Duitse t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4356000" y="6093000"/>
            <a:ext cx="36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Engelse soldaten tijdens een aanval met gif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st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opgravenoorlog:  Noord-Frankrijk/Belgi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 slachtoffers door oude tactieken van officieren tegen moderne wap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tsland verliest door deelname V.S. en opstanden in Duit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Loopgraaf%20Somnme"/>
          <p:cNvPicPr/>
          <p:nvPr/>
        </p:nvPicPr>
        <p:blipFill>
          <a:blip r:embed="rId1"/>
          <a:stretch/>
        </p:blipFill>
        <p:spPr>
          <a:xfrm>
            <a:off x="5219640" y="3860640"/>
            <a:ext cx="3602160" cy="25052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1547640" y="6093000"/>
            <a:ext cx="36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Engelse soldaten in een Loopgra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opleidinglewisgunnernd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4292640"/>
            <a:ext cx="1662120" cy="22305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1"/>
          <p:cNvSpPr/>
          <p:nvPr/>
        </p:nvSpPr>
        <p:spPr>
          <a:xfrm>
            <a:off x="2268360" y="4797360"/>
            <a:ext cx="25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De oude tactieken waren niet opgewassen tegen de mitraill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st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tsland en O-H tegen Ru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rontlijn verplaatst zi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eindelijk Rusland ver teruggedr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sland verliest door slechte bewapening en Russische revolutie (191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lenin"/>
          <p:cNvPicPr/>
          <p:nvPr/>
        </p:nvPicPr>
        <p:blipFill>
          <a:blip r:embed="rId1"/>
          <a:stretch/>
        </p:blipFill>
        <p:spPr>
          <a:xfrm>
            <a:off x="6227640" y="4005360"/>
            <a:ext cx="2536920" cy="26715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3348000" y="573408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484360" y="5877000"/>
            <a:ext cx="36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Lenin: De leider van de communistische revolutie in Ru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st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ede van Brest-Litovsk (1917)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nin sluit snel vrede om burgeroorlog te kunnen wi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sland verliest 1/3 van haar grondgeb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tsland kan leger nu op 1 front inze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paganda en Cens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paganda = reclame maken voor eigen ideeën en land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m nieuwe soldaten te wer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m de tegenstander zwart te maken en het eigen gedrag te rechtvaard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ensuur = overheid bepaalt wat in de media komt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ritische verhalen over eigen rol niet gepubliceerd; anders kan eigen volk zich tegen oorlog ke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2:47:07Z</dcterms:created>
  <dc:creator>OTTJ</dc:creator>
  <dc:description/>
  <dc:language>en-US</dc:language>
  <cp:lastModifiedBy>ottj</cp:lastModifiedBy>
  <cp:lastPrinted>2011-09-15T07:23:14Z</cp:lastPrinted>
  <dcterms:modified xsi:type="dcterms:W3CDTF">2014-06-06T12:59:06Z</dcterms:modified>
  <cp:revision>10</cp:revision>
  <dc:subject/>
  <dc:title>De Eerste Wereldoorlog</dc:title>
</cp:coreProperties>
</file>