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C8E0-CE59-4A65-A43D-8EA9D829DEE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7B2E-90DA-4F9B-ABCF-629050D6B90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4DF1-4D2F-402B-855F-777E2F01BC1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34F4-BB58-4F7B-B883-C90231C8FC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45DE-A4E0-4350-83F1-4D19E330C0C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3C19-0BB0-4D3E-9F74-78231FBE01C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0833-34B6-4C63-A1D7-B459D8E267B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1C57-29A5-44A7-B84B-C535AE2F6E8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A99C-58A6-4B5A-9946-CD58C6F9446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7283-A399-42E9-8908-75C0C9BD545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5071-94DF-44C7-A445-D6BC2288BF9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C7D-C032-4FEE-9A6C-507F648F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B25-DED1-47B6-8644-5635C3D6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CA6-A021-4305-ACC7-F61F160B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388-46D8-4FFD-881D-9D556F5C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DEF-652F-4347-8178-D39B290B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A45-0A4B-4A8D-8822-F95C1CDF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135-0E16-4CEB-A3F3-840D8723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85E-2637-4EE9-8206-2C6A8CBF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366-341F-4CCD-BBA6-73F4CFE8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FF0-C88C-4611-8133-D550BEAA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C4B-2116-457E-BDAA-E8FC05D5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005-6436-414D-88DF-26A4760B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3CDA-8088-4451-ABD8-B6768F448A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orumeerstewereldoorlog.nl/wiki/index.php/Afbeelding:Oostenrijk-Hongarije1914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hack.us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Eerste Wereld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ofdstuk 4.1/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timisme maakt plaats voor pessim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9 miljoen dode sol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ouwenkiesrecht in vele l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 was total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vrouwenkiesrecht.jpg (11246 bytes)"/>
          <p:cNvPicPr/>
          <p:nvPr/>
        </p:nvPicPr>
        <p:blipFill>
          <a:blip r:embed="rId1"/>
          <a:stretch/>
        </p:blipFill>
        <p:spPr>
          <a:xfrm>
            <a:off x="5435640" y="3573360"/>
            <a:ext cx="3333600" cy="2838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826920" y="5516640"/>
            <a:ext cx="446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Vrouwen werken in wapenfabrie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 in de 1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= neutr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bilisatie van 200.000 sol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vang 100.000den Belgische vlucht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teruggang handel voedseltekor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voedseldistributie dmv bo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vluchtelingen"/>
          <p:cNvPicPr/>
          <p:nvPr/>
        </p:nvPicPr>
        <p:blipFill>
          <a:blip r:embed="rId1"/>
          <a:stretch/>
        </p:blipFill>
        <p:spPr>
          <a:xfrm>
            <a:off x="6443640" y="4437000"/>
            <a:ext cx="25527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6227640" y="616572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Belgische vluchtelingen aan de grens van Neder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rede van Versa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houd bepaald door GB/F/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tsland mag niet meepr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tsland als schuldige aangew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B/F willen Duitsland zwaar stra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willen veilige, vrije en democratische wer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epalingen Verdrag van Versa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itsland verliest gebieden en koloni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itsland mag geen luchtmacht heb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ger van slechts 100.000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jnland wordt gedemilitarise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itsland moet herstelbetalingen d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enbond opgericht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m problemen op te lossen door pr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lfbeschikkingsrecht voor volker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zelf beslissen over eigen land of deel zijn van een and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400px-German_Empire_1914"/>
          <p:cNvPicPr/>
          <p:nvPr/>
        </p:nvPicPr>
        <p:blipFill>
          <a:blip r:embed="rId1"/>
          <a:stretch/>
        </p:blipFill>
        <p:spPr>
          <a:xfrm>
            <a:off x="5796000" y="1916280"/>
            <a:ext cx="3057480" cy="1400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556000" y="2492280"/>
            <a:ext cx="30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Duitsland’s koloniën tot 19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1</a:t>
            </a:r>
            <a:r>
              <a:rPr b="0" lang="nl-NL" sz="4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lisme (GB/F/D/O-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ijd om koloniën (GB/F/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taris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penwedloop (GB/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ysteem van bondgenootschappen (Euro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oord in Sarajevo (aanleiding) (O-H/S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zas-Lotharingen (F/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WWassass2"/>
          <p:cNvPicPr/>
          <p:nvPr/>
        </p:nvPicPr>
        <p:blipFill>
          <a:blip r:embed="rId1"/>
          <a:stretch/>
        </p:blipFill>
        <p:spPr>
          <a:xfrm>
            <a:off x="5940360" y="4149720"/>
            <a:ext cx="2038320" cy="2362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411280" y="4365720"/>
            <a:ext cx="33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Franz - Ferdinand wordt neergeschoten in Saraje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erke landen die nog sterker en groter willen worden (GB/F/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lkeren die een eigen staat                         willen hebben (volkeren in O-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begin van oorlog zijn mensen enthousiast: alle landen denken oorlog in paar maanden te w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Oostenrijk-Hongarije in 1914 (Naar Philip, Record Atlas, 1926)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2349360"/>
            <a:ext cx="2028600" cy="1952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 flipH="1">
            <a:off x="7020720" y="4508640"/>
            <a:ext cx="144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ostenrijk-Hong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ndgenoot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tr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stenrijk-Hongar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ttomaanse r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lgar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talië t/m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allie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ot-Brittanni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rankr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rvi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talië vanaf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.S. vanaf 19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st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n Schlieffenplan van Duit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B en Frankrijk tegen Duit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wa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7v_05"/>
          <p:cNvPicPr/>
          <p:nvPr/>
        </p:nvPicPr>
        <p:blipFill>
          <a:blip r:embed="rId1"/>
          <a:stretch/>
        </p:blipFill>
        <p:spPr>
          <a:xfrm>
            <a:off x="5580000" y="3500280"/>
            <a:ext cx="2685960" cy="181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GasAttack-%20WWI%20(538x406)"/>
          <p:cNvPicPr/>
          <p:nvPr/>
        </p:nvPicPr>
        <p:blipFill>
          <a:blip r:embed="rId2"/>
          <a:stretch/>
        </p:blipFill>
        <p:spPr>
          <a:xfrm>
            <a:off x="539640" y="3789360"/>
            <a:ext cx="3613320" cy="2725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508720" y="537372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Duitse t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356000" y="609300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Engelse soldaten tijdens een aanval met gif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st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opgravenoorlog:  Noord-Frankrijk/Belgi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slachtoffers door oude tactieken van officieren tegen moderne wa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tsland verliest door deelname V.S. en opstanden in Duit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Loopgraaf%20Somnme"/>
          <p:cNvPicPr/>
          <p:nvPr/>
        </p:nvPicPr>
        <p:blipFill>
          <a:blip r:embed="rId1"/>
          <a:stretch/>
        </p:blipFill>
        <p:spPr>
          <a:xfrm>
            <a:off x="5219640" y="3860640"/>
            <a:ext cx="3602160" cy="2505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1547640" y="6093000"/>
            <a:ext cx="36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Engelse soldaten in een Loopgra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opleidinglewisgunnernd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292640"/>
            <a:ext cx="1662120" cy="2230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1"/>
          <p:cNvSpPr/>
          <p:nvPr/>
        </p:nvSpPr>
        <p:spPr>
          <a:xfrm>
            <a:off x="2268360" y="479736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De oude tactieken waren niet opgewassen tegen de mitraill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st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tsland en O-H tegen Ru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rontlijn verplaatst z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eindelijk Rusland ver teruggedr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sland verliest door slechte bewapening en Russische revolutie (19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lenin"/>
          <p:cNvPicPr/>
          <p:nvPr/>
        </p:nvPicPr>
        <p:blipFill>
          <a:blip r:embed="rId1"/>
          <a:stretch/>
        </p:blipFill>
        <p:spPr>
          <a:xfrm>
            <a:off x="6227640" y="4005360"/>
            <a:ext cx="2536920" cy="2671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348000" y="573408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484360" y="5877000"/>
            <a:ext cx="36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Lenin: De leider van de communistische revolutie in Ru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st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ede van Brest-Litovsk (1917)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nin sluit snel vrede om burgeroorlog te kunnen w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sland verliest 1/3 van haar grondgeb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tsland kan leger nu op 1 front inz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paganda en Cens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paganda = reclame maken voor eigen ideeën en land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m nieuwe soldaten te wer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m de tegenstander zwart te maken en het eigen gedrag te rechtvaar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 = overheid bepaalt wat in de media kom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ritische verhalen over eigen rol niet gepubliceerd; anders kan eigen volk zich tegen oorlog ke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2:47:07Z</dcterms:created>
  <dc:creator>OTTJ</dc:creator>
  <dc:description/>
  <dc:language>en-US</dc:language>
  <cp:lastModifiedBy>ottj</cp:lastModifiedBy>
  <cp:lastPrinted>2011-09-15T07:23:14Z</cp:lastPrinted>
  <dcterms:modified xsi:type="dcterms:W3CDTF">2014-06-06T12:59:06Z</dcterms:modified>
  <cp:revision>10</cp:revision>
  <dc:subject/>
  <dc:title>De Eerste Wereldoorlog</dc:title>
</cp:coreProperties>
</file>