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5BD-A671-433A-8FBC-D4DD2D31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A58-2B91-4E75-B60C-3AD90FA9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BE3E-77B9-47BA-A368-437E79B4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83A4-0FF4-4D5B-9182-6A3C8B05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9CC7-6FD6-4FE2-BD75-A22B99ED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D13B-C884-4AA2-B6FE-7ED3031E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0D7C-91F5-478B-A914-BFC5EEE2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33AE-3711-4CFB-8AE5-BD115550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7F31-A07F-4D28-B2EE-ECCE6DEF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3612-7165-4DEE-B70E-0A46FD8A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9621-9B33-4D81-A96E-94AEC799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20C-2353-4E5E-8D96-473C4E8F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7165-841B-4757-8365-5DC51420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5D4A-DE24-43E7-B654-370F5E4E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3ABE-7A97-461F-90C3-BE7FD490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4BC1-852C-48A7-80DA-76825A2A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B2F6-AD9B-4733-AA7B-5B8A0A98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83F-7D8C-447C-B7DF-525E12B4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46D-770A-43E4-9055-1688CAFD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CFA-275F-4D6D-B191-D92E3A8F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4F1-868C-4E7B-B4F1-ED862BFB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C87-6E15-47D6-B40B-5B94A73B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AFC9-7DF7-4B0D-9AEA-1E2B514D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D486-AE08-4CEC-869D-BD65764F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69A7-8DD4-4DC2-B7EF-476EA1BB759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97D8-C9A6-4599-9432-F183801396A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Ambulante Compressietherapi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193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Problemen/gevaren van AC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nsteroed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ijn bij het zwacht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eur van de t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zakken van zwacht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rritatie van de h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Leefregel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en afhangende b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p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wisselend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oede vo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oorkomen van nieuwe wondjes  (veilighe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Nazor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a het zwachtelen met druk worden therapeutisch elastische kousen  aangem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  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Het eindresulta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2" name="Picture 5" descr="ineke3"/>
          <p:cNvPicPr/>
          <p:nvPr/>
        </p:nvPicPr>
        <p:blipFill>
          <a:blip r:embed="rId1"/>
          <a:stretch/>
        </p:blipFill>
        <p:spPr>
          <a:xfrm>
            <a:off x="2514600" y="175248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En nu………</a:t>
            </a:r>
            <a:br>
              <a:rPr sz="4000"/>
            </a:b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              … zelf oefe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Picture 3" descr="zwachtel"/>
          <p:cNvPicPr/>
          <p:nvPr/>
        </p:nvPicPr>
        <p:blipFill>
          <a:blip r:embed="rId1"/>
          <a:stretch/>
        </p:blipFill>
        <p:spPr>
          <a:xfrm>
            <a:off x="1371600" y="1981080"/>
            <a:ext cx="6629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Hoe het niet moe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1" name="Picture 7" descr="fotoAZG"/>
          <p:cNvPicPr/>
          <p:nvPr/>
        </p:nvPicPr>
        <p:blipFill>
          <a:blip r:embed="rId1"/>
          <a:stretch/>
        </p:blipFill>
        <p:spPr>
          <a:xfrm>
            <a:off x="2514600" y="1905120"/>
            <a:ext cx="3352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Een mogelijk gevol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Picture 4" descr="ineke1"/>
          <p:cNvPicPr/>
          <p:nvPr/>
        </p:nvPicPr>
        <p:blipFill>
          <a:blip r:embed="rId1"/>
          <a:stretch/>
        </p:blipFill>
        <p:spPr>
          <a:xfrm>
            <a:off x="2765520" y="1600200"/>
            <a:ext cx="3787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Definitie AC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en combinatie van bewegen van het (onder)been en het uitoefenen van druk van buitenaf op dat (onder)be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Doelstell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rugdringen en voorkomen van voc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eteren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oorstroming in 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beteren van de spierpomp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vorderen van de wondgene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Indicaties voor AC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lecht werkende bloedv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Ulcus cru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ntstoken 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pat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Contra-indicat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lechte werking slag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sluiting in een bloedvat door tromb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uidaando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llergie voor ‘iets’ dat in zwachtel of kous verwerk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4617b"/>
                </a:solidFill>
                <a:latin typeface="Calibri"/>
                <a:ea typeface="Calibri"/>
              </a:rPr>
              <a:t>Algemene principe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2 zwachtels per onderbeen, waarbij 1 rechtsom en 1 linksom wordt aangeb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In de rol 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Beginnen bij voet/t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Zwachtel volgt vorm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Gelijkmati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Afbeelding 4" descr="Afbeelding met tekst&#10;&#10;Beschrijving is gegenereerd met hoge betrouwbaarheid"/>
          <p:cNvPicPr/>
          <p:nvPr/>
        </p:nvPicPr>
        <p:blipFill>
          <a:blip r:embed="rId1"/>
          <a:stretch/>
        </p:blipFill>
        <p:spPr>
          <a:xfrm>
            <a:off x="223920" y="2127240"/>
            <a:ext cx="879624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4:08:08Z</dcterms:created>
  <dc:creator>Consulenten</dc:creator>
  <dc:description/>
  <dc:language>en-US</dc:language>
  <cp:lastModifiedBy>Ilse Mellema - Peper</cp:lastModifiedBy>
  <cp:lastPrinted>2004-03-10T10:22:56Z</cp:lastPrinted>
  <dcterms:modified xsi:type="dcterms:W3CDTF">2019-05-11T19:31:03Z</dcterms:modified>
  <cp:revision>53</cp:revision>
  <dc:subject/>
  <dc:title>Ambulante Compressietherapie</dc:title>
</cp:coreProperties>
</file>