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F70-7D2C-4B8B-B067-ED6C54E5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CEE-4161-4407-B5C4-844FEE9F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253-79C8-41FF-874B-ADAF84B5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BFB-0D53-4460-941B-00F91729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EADD-7E0F-4674-931B-3E387410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F8F4-D572-4B3E-B901-21A243A6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BD1D-C27E-4780-995C-C6855D29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D0E1-EC37-4C64-859D-CB460AB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2F17-6A9E-472D-A725-00111652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30EF-59DF-4C44-8FE1-CCB179F5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87DE-ABA1-4BC4-B380-A493974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800-9622-4433-A4E5-E5C36382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CB65-D784-40AB-A782-C38E0BE4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3163-4274-4664-A8D8-18EC12F4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3409-2A59-456B-B967-550C85F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97F2-C18F-45BA-B786-5D9693A7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C191-59A2-4FFF-9787-F61E345A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69E1-914C-4BE1-AB86-E7C841C7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A6B1B-8132-4C96-967E-DBC9F76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6E97-E213-4BC4-B1C9-357C5A14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2433-295A-463E-B684-D0F1E28E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5C44-C6CE-4168-A5A8-C6CD0F4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1CC-D8D1-4C0B-91CB-F721E064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735D-B6D2-4E1F-A7EB-DB20FB4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F7F3-B6BD-4046-A8C8-3E6ADD7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A864-A4B7-4F55-A06B-D47AACF7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6296-8956-484D-B05E-118B12A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C5DB-7F5E-4AC2-BED9-A68F9AB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DD55-29D0-4782-B6FF-3F838258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4B05-39FE-48F2-9C10-3ACABA93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61A6A-249E-4AA5-BC5F-1EF6D2CD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9D53D-0E6E-415C-804D-F90AEC8F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1133-A1FA-4CF1-8A75-DAE8DFF0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F25-67D4-40A1-89F5-33B525B4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FA71-A3FD-4D7C-97B7-411C8EB1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52D42-FA29-4D9B-A015-F84AD675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565A-12B7-4838-8284-2001AF53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FF35-CAC0-478D-A802-129CA2C0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411A1-8330-4047-B7C4-AC358930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DEB3-D102-4AB8-A0DC-F120991E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3B6FA-86EE-490D-BA0E-2281E99B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93112-926C-49C0-89BB-223C15B4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698D-AB7C-413D-BB0A-ECA54FC5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5477-91C8-4EEF-A4F7-B629BF39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DCE-5050-48FB-B0E0-284B0413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20729-C5C1-4FAB-AA1B-D2E9FE1D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F9415-BAB1-4FE6-98E0-2419D3C8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5FC7-1A3E-4A1A-A64E-C7816B47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5A006-F26A-410C-BA77-5613E3F7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3D96-DC7C-4FC5-BAF4-F630EE14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8E99-4A7E-4B9F-A0F4-C523475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A3AE-A32A-4D0A-BB3D-DAC91B1A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A885-9733-4F23-8405-8C5AD9CD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3BCF0-4D2C-4AAA-967A-D934DE90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5BC9-6B47-4B5A-8619-FB25FAC3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804-6878-4927-956D-687DB59F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FD01-2E37-4B34-AAD4-A40942BE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946-1816-4E8A-833B-1519B9E2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2DC-4447-442C-8D73-8B269D4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391-FEA4-4E08-8E6E-A872DFB7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434B-D3A2-48EA-86F3-19992BFEA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BD9C-21C6-46DD-9021-A89191441A0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5BFC-B475-46BA-B09A-CD2CD26AE65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7E4D-6E5A-4641-9CB6-3DFF43C21E0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4C51-D4AD-48DE-BCCA-A134B88AA8B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en stoma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5" descr="Stoma"/>
          <p:cNvPicPr/>
          <p:nvPr/>
        </p:nvPicPr>
        <p:blipFill>
          <a:blip r:embed="rId1"/>
          <a:stretch/>
        </p:blipFill>
        <p:spPr>
          <a:xfrm>
            <a:off x="5580000" y="2060640"/>
            <a:ext cx="2808360" cy="352908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 1" descr=""/>
          <p:cNvPicPr/>
          <p:nvPr/>
        </p:nvPicPr>
        <p:blipFill>
          <a:blip r:embed="rId2"/>
          <a:stretch/>
        </p:blipFill>
        <p:spPr>
          <a:xfrm>
            <a:off x="987480" y="1146240"/>
            <a:ext cx="40291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uidproble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720"/>
            <a:ext cx="76345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Droog en geïrriteerd: huid vuurrood, jeukt en pijnlij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ochtig en geïrriteerd: huid vuurrood, jeukt, pijnlijk en na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vochtopnemendpoeder aanbre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Bij hevige pijn of jeuk alles verva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et?         N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leostoma: moeite met opname voedingsstoff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aker kleine maal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lostoma: moeite om water en zout uit de darm te onttrekk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vt zouttabletten en minstens 2,5 l/d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r door ervaring uitvinden welk eten wel en niet 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ts waarschuwen 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het niet vertrou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ma onverklaarbaar blo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onverklaarbare ko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aanhoudende pij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 stoelgangvermindering of –vermee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wone uitstulping naast de stoma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r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denen om een stoma aan te leg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480" y="169992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chronische ontsteking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kwaadaardige tumor of kwaadaardige tumo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ongelu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geboren afwijkingen, bv. het ontbreken van een deel van de dar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stoma kan tijdelijk zij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emand die een stoma heeft, is in principe incontine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m ontlasting of urine op te vangen, worden stomazakjes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oma kan aangelegd worden i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luchtpijp: trach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urinewegen: ureter praeternaturalis (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: ile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: col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unn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929960"/>
            <a:ext cx="75628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nne darm: ilio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e dunne darm: il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 scheidt sappen af die een functie hebben bij het verteren en verwerken van voedsel. De inhoud is dun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tlasting is du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wat rechts van het midden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ikk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33720"/>
            <a:ext cx="727560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ikke darm: col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ikke darm: col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 neemt het vocht weer op. De ontlasting wordt dikk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tlasting is wat dikker. Hoe verder de stoma aan het eind van de dikke darm zit hoe dikker de ontlast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vaak aan de linkerzijde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ciale aspect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7418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aanleggen van een stoma is een ingrijpende gebeurteni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heeft invloed op het zelfbeeld en sociale relat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es je bewust van een juiste benadering, houdt rekening met de gevoelens van de clië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orten materiaa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71312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delige: -&gt; zak en plak aan elkaar v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et vaker verwisseld word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delig: -&gt; Zak en plak los van elkaa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akjes kunnen verwisseld worden, plak blijft zit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zweetabsorberend laag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koolstof luchtfil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andachtspunten verzorg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ygiëne, Tijd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orgvrager kan in bad of douch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auw water en evt. neutrale zeep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en ether of alcohol houd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d droog dep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raa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ndeling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2160360"/>
            <a:ext cx="74916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at in de plakplaat knippen (meetkaart)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lakplaat verwarmen tussen handen, kleding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ude zakje VOORZICHTIG verwijderen! (evt met koud water.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nspectie van de stoma en huid!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oonmaken met zacht papier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uid rondom stoma wassen en droog deppen, niet WRIJVEN!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erwisselen als zakje ¾ vol zit of als deze lek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5:11:59Z</dcterms:created>
  <dc:creator>Mellema, Ilse</dc:creator>
  <dc:description/>
  <dc:language>en-US</dc:language>
  <cp:lastModifiedBy>Ilse Mellema - Peper</cp:lastModifiedBy>
  <dcterms:modified xsi:type="dcterms:W3CDTF">2019-03-04T13:22:55Z</dcterms:modified>
  <cp:revision>9</cp:revision>
  <dc:subject/>
  <dc:title>Verzorging van een stoma</dc:title>
</cp:coreProperties>
</file>