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D2A-2ADD-4ABA-AAAD-B4D9761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38F-2755-47F1-AD13-793F586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3F2-8A55-484D-BEA0-FEDA9622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818-E35C-4FBA-86E8-77AAF857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242-CF09-426A-8400-D08E4441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3681-6D9B-41D6-B7D0-23531D8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062E-56AB-467B-B8CB-A4A83EA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43A8-6300-4DEA-9102-DF319F6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971-C705-424E-BF28-9605398B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E8C6-33DE-47C7-AD60-46576A3D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DA1A-75C5-4BCF-90A0-2862A974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D6D-FCFC-44F2-A7F4-032FB415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4E2F-FF38-4BA2-A5E5-97A34BF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B3A-FC87-46EF-A05B-FF97BFA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4F91-7902-49EC-85A0-CF13BC61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0EB-1C12-47BC-A3DF-1074C36B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53CD-9813-4D0B-89B5-46A10C83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503-7720-448A-B5EE-BE10F52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654-81AE-4A54-8676-D1A8575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572-A9AF-4517-97A7-9AF95731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755-EEEB-44DF-AE86-B67B69FB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95C-156E-4F8D-ACCE-8A37018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D63-70B8-4116-A9AB-9254996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7F5-2ED0-45EA-9E03-1F9E12B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D38-23B0-4771-AF66-C497BFB516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EEB2-5FF4-46F5-92EC-E17F0735B6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Ambulante Compressietherap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Problemen/gevaren van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nsteroe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ijn bij het zwach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 van de 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zakken van zwach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rritatie van de h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Leefreg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afhangende b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wisselend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e vo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komen van nieuwe wondjes  (veilighe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Nazor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 het zwachtelen met druk worden therapeutisch elastische kousen  aangem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et eindresulta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5" descr="ineke3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n nu………</a:t>
            </a:r>
            <a:br>
              <a:rPr sz="4000"/>
            </a:b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         … zelf oefe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3" descr="zwachtel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oe het niet mo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7" descr="fotoAZG"/>
          <p:cNvPicPr/>
          <p:nvPr/>
        </p:nvPicPr>
        <p:blipFill>
          <a:blip r:embed="rId1"/>
          <a:stretch/>
        </p:blipFill>
        <p:spPr>
          <a:xfrm>
            <a:off x="251460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en mogelijk gevol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ineke1"/>
          <p:cNvPicPr/>
          <p:nvPr/>
        </p:nvPicPr>
        <p:blipFill>
          <a:blip r:embed="rId1"/>
          <a:stretch/>
        </p:blipFill>
        <p:spPr>
          <a:xfrm>
            <a:off x="2765520" y="1600200"/>
            <a:ext cx="378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efinitie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en combinatie van bewegen van het (onder)been en het uitoefenen van druk van buitenaf op dat (onder)be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oelstell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dringen en voorkomen van vo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ter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orstroming i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beteren van de spierpomp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vorderen van de wondgen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Indicaties voor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 werkende bloedv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toke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t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Contra-indicat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e werking 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sluiting in een bloedvat door trom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uidaando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rgie voor ‘iets’ dat in zwachtel of kous verwerk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  <a:ea typeface="Calibri"/>
              </a:rPr>
              <a:t>Algemene princip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2 zwachtels per onderbeen, waarbij 1 rechtsom en 1 linksom wordt aan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In de rol 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Beginnen bij voet/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Zwachtel volgt vorm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Gelijkmati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4" descr="Afbeelding met tekst&#10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223920" y="2127240"/>
            <a:ext cx="87962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4:08:08Z</dcterms:created>
  <dc:creator>Consulenten</dc:creator>
  <dc:description/>
  <dc:language>en-US</dc:language>
  <cp:lastModifiedBy>Ilse Mellema - Peper</cp:lastModifiedBy>
  <cp:lastPrinted>2004-03-10T10:22:56Z</cp:lastPrinted>
  <dcterms:modified xsi:type="dcterms:W3CDTF">2019-05-11T19:31:03Z</dcterms:modified>
  <cp:revision>53</cp:revision>
  <dc:subject/>
  <dc:title>Ambulante Compressietherapie</dc:title>
</cp:coreProperties>
</file>