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B388-97B5-4F5F-858E-3E6950A9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2F5-5A09-446E-87EB-BDEFA123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72D1-46D2-4F2A-935B-FF385C06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499-2F41-432E-9784-623AFD00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A26A-93D5-46F5-ADEB-2192AACF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5356-BC0B-4E2F-8184-ADBC0CD3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92E9-1B79-4EDD-AB92-7D8FAE52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10F6-4FDD-41A3-9EE2-72674F53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F85E-5F3A-45F5-B965-7B0E8D93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C8F3-4BE0-41AB-BE24-1EB77C1B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37A9-861A-46ED-B8C8-8B4008B4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7953-1D7D-41BE-9FFC-B22FE1F1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53F4-AF59-4EE5-AAB8-E4471892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DFF5-FE96-4C58-AFDE-3D886A01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1FB8-EA61-4AF1-95D9-88BCFED7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D46C-4EE1-482E-8B92-3CCD1F2F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D813-7D55-46C1-A66E-029F3B12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02E41-481A-4F95-AA14-0FB91E57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F9241-2A33-430C-87F1-E5330133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653B9-01D9-43C7-8757-77F17C3D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8F5B5-1754-4AC9-968E-94EFA0A9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37C22-272C-48BF-A4E9-521BB675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5DA-F191-484E-ADEF-F4A43A2A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DEFA5-81F2-4513-B20C-BC3710E1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89FF7-851C-4512-AF04-668F77F2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762BC-48ED-44D1-A2D1-73691540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9105E-4D2B-43E9-AEEC-6FCDDC01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AEEFD-1B10-4311-81F0-5383D0AD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6C805-FACC-460E-BA8D-A0676070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EDD98-123A-46EA-805E-741E5674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3306A-26AC-4361-818D-11518BE7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278F6-889E-49B0-8947-B8EE0509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70253-BADD-4103-A643-A31814BE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0C6-C220-4703-AF52-942BD2AC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16417-3199-42F0-847A-17942C09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9EB97-9404-4752-83D8-717CC3BE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8E1EE-8FBF-416F-B3BE-7C841348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23D0A-9D67-4DFA-8880-98854CA5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BCEED-8FF5-429E-A2CA-6D75D8C0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A01A7-DF85-4D1F-A409-AD532458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2F358-A597-4991-8C0D-BF2A6607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E3201-B46F-45FD-8B79-E6096100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C1DE2-5CFA-42DC-9521-93E69AFF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D547C-0C72-424D-BFC5-23569512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6CD7-ABB4-4C8D-87A8-40844D0C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80C56-A1AB-4C9B-878D-AF4CF423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E766E-34A3-4298-9142-230F8F6E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7A993-7564-4DA5-82AC-119CE568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47D36-F57D-4D5A-98FF-D3BE4F9A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337A5-323F-4D25-834F-74883F20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A3D01-5BCB-4BFF-A1A5-8B7309F2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092B8-9169-4DAC-8E99-B212E7C3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1C1F4-4D3A-4FEE-BA86-E0E9B288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8717B-6685-42A7-8972-4F6B754D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5BEF2-F873-481F-9DED-E255378E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6D86-BA95-4801-B101-3D878F62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C6026-6050-45AA-8A68-5543D45A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F1B9-89C7-4FE1-A1D7-E213F66B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B876-2588-4B8A-B106-E8B74EAB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8D75-2830-4FF6-A0FC-74FAA7C6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A2B9-46AA-4A32-8508-45DD5230E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6726-4D6A-4F0E-BB33-50C81A93BD0D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4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0DAF-AFC1-46C1-BD51-1F7C645BD603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A442-8E94-4D87-B748-645F72CF400F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0DF0-E740-4363-9286-E5F0A7C7472F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Een stoma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4" name="Picture 5" descr="Stoma"/>
          <p:cNvPicPr/>
          <p:nvPr/>
        </p:nvPicPr>
        <p:blipFill>
          <a:blip r:embed="rId1"/>
          <a:stretch/>
        </p:blipFill>
        <p:spPr>
          <a:xfrm>
            <a:off x="5580000" y="2060640"/>
            <a:ext cx="2808360" cy="3529080"/>
          </a:xfrm>
          <a:prstGeom prst="rect">
            <a:avLst/>
          </a:prstGeom>
          <a:ln w="0">
            <a:noFill/>
          </a:ln>
        </p:spPr>
      </p:pic>
      <p:pic>
        <p:nvPicPr>
          <p:cNvPr id="255" name="Diagram 1" descr=""/>
          <p:cNvPicPr/>
          <p:nvPr/>
        </p:nvPicPr>
        <p:blipFill>
          <a:blip r:embed="rId2"/>
          <a:stretch/>
        </p:blipFill>
        <p:spPr>
          <a:xfrm>
            <a:off x="987480" y="1146240"/>
            <a:ext cx="40291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uidproblem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09120" y="2160720"/>
            <a:ext cx="763452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Droog en geïrriteerd: huid vuurrood, jeukt en pijnlijk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Wassen met lauw wate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Tweedelig systee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Vochtig en geïrriteerd: huid vuurrood, jeukt, pijnlijk en na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wassen met lauw wate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vochtopnemendpoeder aanbreng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Tweedelig systee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Bij hevige pijn of jeuk alles vervang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eet?         Ne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leostoma: moeite met opname voedingsstoffen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aker kleine maal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lostoma: moeite om water en zout uit de darm te onttrekken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vt zouttabletten en minstens 2,5 l/d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r door ervaring uitvinden welk eten wel en niet k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rts waarschuwen 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het niet vertrouw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stoma onverklaarbaar bloe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vrager onverklaarbare ko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vrager aanhoudende pijn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ke stoelgangvermindering of –vermee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wone uitstulping naast de stoma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r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denen om een stoma aan te leg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480" y="1699920"/>
            <a:ext cx="7707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chronische ontsteking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kwaadaardige tumor of kwaadaardige tumo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ongeluk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geboren afwijkingen, bv. het ontbreken van een deel van de darm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stoma kan tijdelijk zij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emand die een stoma heeft, is in principe incontinen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m ontlasting of urine op te vangen, worden stomazakjes gebruik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oma kan aangelegd worden in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9480" y="2160360"/>
            <a:ext cx="6770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luchtpijp: tracheostom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urinewegen: ureter praeternaturalis (UP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dunne darm: ileostoma (AP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dikke darm: colostoma (AP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toma in de dunne darm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929960"/>
            <a:ext cx="756288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unne darm: ilio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Stoma in de dunne darm: ileostom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dunne darm scheidt sappen af die een functie hebben bij het verteren en verwerken van voedsel. De inhoud is dun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ontlasting is du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toma bevindt zich wat rechts van het midden van de buik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toma in de dikke darm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480" y="2133720"/>
            <a:ext cx="727560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ikke darm: col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Stoma in dikke darm: colostom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dikke darm neemt het vocht weer op. De ontlasting wordt dikk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ntlasting is wat dikker. Hoe verder de stoma aan het eind van de dikke darm zit hoe dikker de ontlastin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toma bevindt zich vaak aan de linkerzijde van de buik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ociale aspect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7418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et aanleggen van een stoma is een ingrijpende gebeurteni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et heeft invloed op het zelfbeeld en sociale relati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ees je bewust van een juiste benadering, houdt rekening met de gevoelens van de cliën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oorten materiaa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9120" y="2160360"/>
            <a:ext cx="713124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delige: -&gt; zak en plak aan elkaar vas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oet vaker verwisseld word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weedelig: -&gt; Zak en plak los van elkaa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Zakjes kunnen verwisseld worden, plak blijft zitt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vt. zweetabsorberend laagj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vt. koolstof luchtfilt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andachtspunten verzorg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ygiëne, Tijd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Zorgvrager kan in bad of douchen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auw water en evt. neutrale zeep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en ether of alcohol houdende mid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id droog depp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oorraa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andeling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480" y="2160360"/>
            <a:ext cx="749160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Gat in de plakplaat knippen (meetkaart)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Plakplaat verwarmen tussen handen, kleding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Oude zakje VOORZICHTIG verwijderen! (evt met koud water.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Inspectie van de stoma en huid!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Schoonmaken met zacht papier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Huid rondom stoma wassen en droog deppen, niet WRIJVEN!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Verwisselen als zakje ¾ vol zit of als deze lek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5:11:59Z</dcterms:created>
  <dc:creator>Mellema, Ilse</dc:creator>
  <dc:description/>
  <dc:language>en-US</dc:language>
  <cp:lastModifiedBy>Ilse Mellema - Peper</cp:lastModifiedBy>
  <dcterms:modified xsi:type="dcterms:W3CDTF">2019-03-04T13:22:55Z</dcterms:modified>
  <cp:revision>9</cp:revision>
  <dc:subject/>
  <dc:title>Verzorging van een stoma</dc:title>
</cp:coreProperties>
</file>