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9EE-BD6C-49D0-843B-E6C5B151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348-48B6-455D-BBB3-F15C1155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DAA-1643-4466-A925-85823852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EFEB-7AF7-41AC-BBB4-22A276D6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0402-094D-455B-9FF7-DD0A1F46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F0F1-C69F-43A5-9A6F-F64876CE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0233-5967-4845-AC67-CE1751A0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F6A4-E76F-436A-9A39-E9B964AC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356D-B777-4AC7-9385-4FB1DA82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3D5C-B72E-4939-8280-74465F16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A36B-7841-40FA-917B-F943BF4E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848-585B-41C9-A803-D061ADF9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A01D-C21D-43B5-97ED-0D05457E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EF88-189E-4A4B-8D82-C4187C0E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0A68-CA67-41BD-A716-3641DA38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5883-790D-4587-8E19-AF114321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52EB-80D2-4029-A248-4A51527F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CF6-5EBD-44F3-B685-1554DC9D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892-0AE5-4389-842E-1DF82F6F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72CC-3AA8-415C-9B45-B7501C29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3C57-1C09-44EB-9D29-6036A00B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3EC-3C2F-4F50-8746-B9ACD1CE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6D1-AD7C-48CB-8A9B-C0CB14D9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CCF9-EDEC-4F8D-8741-DE6D42CD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1E2F-B64B-426D-896F-77DE17DFFBC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4820-7A5E-428D-A02D-6523764296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Ambulante Compressietherapi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193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Problemen/gevaren van AC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nsteroed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ijn bij het zwacht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eur van de t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zakken van zwacht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rritatie van de h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Leefregel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en afhangende b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p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wisselend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oede vo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oorkomen van nieuwe wondjes  (veilighe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Nazor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a het zwachtelen met druk worden therapeutisch elastische kousen  aangem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  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Het eindresulta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2" name="Picture 5" descr="ineke3"/>
          <p:cNvPicPr/>
          <p:nvPr/>
        </p:nvPicPr>
        <p:blipFill>
          <a:blip r:embed="rId1"/>
          <a:stretch/>
        </p:blipFill>
        <p:spPr>
          <a:xfrm>
            <a:off x="2514600" y="175248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En nu………</a:t>
            </a:r>
            <a:br>
              <a:rPr sz="4000"/>
            </a:b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              … zelf oefe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Picture 3" descr="zwachtel"/>
          <p:cNvPicPr/>
          <p:nvPr/>
        </p:nvPicPr>
        <p:blipFill>
          <a:blip r:embed="rId1"/>
          <a:stretch/>
        </p:blipFill>
        <p:spPr>
          <a:xfrm>
            <a:off x="1371600" y="1981080"/>
            <a:ext cx="6629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Hoe het niet moe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1" name="Picture 7" descr="fotoAZG"/>
          <p:cNvPicPr/>
          <p:nvPr/>
        </p:nvPicPr>
        <p:blipFill>
          <a:blip r:embed="rId1"/>
          <a:stretch/>
        </p:blipFill>
        <p:spPr>
          <a:xfrm>
            <a:off x="2514600" y="1905120"/>
            <a:ext cx="335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Een mogelijk gevol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Picture 4" descr="ineke1"/>
          <p:cNvPicPr/>
          <p:nvPr/>
        </p:nvPicPr>
        <p:blipFill>
          <a:blip r:embed="rId1"/>
          <a:stretch/>
        </p:blipFill>
        <p:spPr>
          <a:xfrm>
            <a:off x="2765520" y="1600200"/>
            <a:ext cx="3787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Definitie AC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en combinatie van bewegen van het (onder)been en het uitoefenen van druk van buitenaf op dat (onder)be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Doelstell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rugdringen en voorkomen van voc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eteren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orstroming in 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beteren van de spierpomp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vorderen van de wondgene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Indicaties voor AC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lecht werkende bloedv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Ulcus cru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tstoken 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pat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Contra-indicat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lechte werking slag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sluiting in een bloedvat door tromb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uidaando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llergie voor ‘iets’ dat in zwachtel of kous verwerk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4617b"/>
                </a:solidFill>
                <a:latin typeface="Calibri"/>
                <a:ea typeface="Calibri"/>
              </a:rPr>
              <a:t>Algemene principe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2 zwachtels per onderbeen, waarbij 1 rechtsom en 1 linksom wordt aangeb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In de rol 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Beginnen bij voet/t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Zwachtel volgt vorm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Gelijkmati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Afbeelding 4" descr="Afbeelding met tekst&#10;&#10;Beschrijving is gegenereerd met hoge betrouwbaarheid"/>
          <p:cNvPicPr/>
          <p:nvPr/>
        </p:nvPicPr>
        <p:blipFill>
          <a:blip r:embed="rId1"/>
          <a:stretch/>
        </p:blipFill>
        <p:spPr>
          <a:xfrm>
            <a:off x="223920" y="2127240"/>
            <a:ext cx="879624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4:08:08Z</dcterms:created>
  <dc:creator>Consulenten</dc:creator>
  <dc:description/>
  <dc:language>en-US</dc:language>
  <cp:lastModifiedBy>Ilse Mellema - Peper</cp:lastModifiedBy>
  <cp:lastPrinted>2004-03-10T10:22:56Z</cp:lastPrinted>
  <dcterms:modified xsi:type="dcterms:W3CDTF">2019-05-11T19:31:03Z</dcterms:modified>
  <cp:revision>53</cp:revision>
  <dc:subject/>
  <dc:title>Ambulante Compressietherapie</dc:title>
</cp:coreProperties>
</file>