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60E-B0D1-49D9-89EB-37082F92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DE5-949C-4351-B497-29189B3D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128-3E9C-4EF0-AEF8-6B1A62FA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8DD-BB06-45CF-9357-812AB563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5129-1A41-4F61-AD60-A7265010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0F9D-89F6-40D1-9A85-B4BD678A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20FD-6C66-4352-9289-B6336C2D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4BA5-852B-4272-BE1E-158E39CF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0664-73EE-4814-A609-D1D5A126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4B99-F4D7-45C4-A97A-ECC22B98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32E3-A746-43DE-9045-183B55D7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E5A-D7D3-4299-8000-2EF27608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F110-50E2-4890-8B66-5C23798B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7942-7B3B-4852-AF02-72A7C2B4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B441-ECE5-48A4-A90C-30D1AF76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3DB1-7957-4523-B711-8EC6E9EC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FC22-911B-41C9-88B0-09214A76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C86-D29F-42C7-BB76-EEC00B72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99A-6E82-4B40-BC32-A664CEDF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2E3-72D9-4C90-ADD4-2C3D9211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386-07B5-4749-B156-55F6E873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759-C179-412C-8564-5B9E8392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E9B-F8E2-424D-A688-FBEBD2DB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320-66C9-4C2F-A051-ACA2C048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4DB5-3312-415D-8BD7-F52A25DA72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461D-FEEC-4990-AD1A-47C28FCAB0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Ambulante Compressietherapi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Problemen/gevaren van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nsteroed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ijn bij het zwach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 van de 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zakken van zwach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rritatie van de h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Leefrege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afhangende b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wisselend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oede vo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komen van nieuwe wondjes  (veilighe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Nazor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 het zwachtelen met druk worden therapeutisch elastische kousen  aangem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et eindresulta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Picture 5" descr="ineke3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n nu………</a:t>
            </a:r>
            <a:br>
              <a:rPr sz="4000"/>
            </a:b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           … zelf oefe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Picture 3" descr="zwachtel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Hoe het niet moe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7" descr="fotoAZG"/>
          <p:cNvPicPr/>
          <p:nvPr/>
        </p:nvPicPr>
        <p:blipFill>
          <a:blip r:embed="rId1"/>
          <a:stretch/>
        </p:blipFill>
        <p:spPr>
          <a:xfrm>
            <a:off x="2514600" y="190512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Een mogelijk gevol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4" descr="ineke1"/>
          <p:cNvPicPr/>
          <p:nvPr/>
        </p:nvPicPr>
        <p:blipFill>
          <a:blip r:embed="rId1"/>
          <a:stretch/>
        </p:blipFill>
        <p:spPr>
          <a:xfrm>
            <a:off x="2765520" y="1600200"/>
            <a:ext cx="3787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efinitie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en combinatie van bewegen van het (onder)been en het uitoefenen van druk van buitenaf op dat (onder)be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Doelstell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dringen en voorkomen van vo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eter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orstroming i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beteren van de spierpomp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vorderen van de wondgene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Indicaties voor AC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 werkende bloedv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lcus cru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token 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pat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nl-NL" sz="4000" spc="-1" strike="noStrike">
                <a:solidFill>
                  <a:srgbClr val="003366"/>
                </a:solidFill>
                <a:latin typeface="Tahoma"/>
              </a:rPr>
              <a:t>Contra-indicat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lechte werking 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sluiting in een bloedvat door tromb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uidaando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rgie voor ‘iets’ dat in zwachtel of kous verwerk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4617b"/>
                </a:solidFill>
                <a:latin typeface="Calibri"/>
                <a:ea typeface="Calibri"/>
              </a:rPr>
              <a:t>Algemene princip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2 zwachtels per onderbeen, waarbij 1 rechtsom en 1 linksom wordt aangeb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In de rol 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Beginnen bij voet/t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Zwachtel volgt vorm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- Gelijkmati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Afbeelding 4" descr="Afbeelding met tekst&#10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223920" y="2127240"/>
            <a:ext cx="87962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4:08:08Z</dcterms:created>
  <dc:creator>Consulenten</dc:creator>
  <dc:description/>
  <dc:language>en-US</dc:language>
  <cp:lastModifiedBy>Ilse Mellema - Peper</cp:lastModifiedBy>
  <cp:lastPrinted>2004-03-10T10:22:56Z</cp:lastPrinted>
  <dcterms:modified xsi:type="dcterms:W3CDTF">2019-05-11T19:31:03Z</dcterms:modified>
  <cp:revision>53</cp:revision>
  <dc:subject/>
  <dc:title>Ambulante Compressietherapie</dc:title>
</cp:coreProperties>
</file>