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034-B4C9-4456-BE02-2296B77F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FC7-62C3-443F-AE81-610F9AC3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49D-7545-4D5E-9CFB-8052066B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E7D-FFF3-4052-8225-9627813C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D0B4-AA3E-4121-B059-24D2C091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EBBE-516E-4876-971B-5697DF9B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400D-FD7F-448E-9D64-10AD2293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EFB2-0B71-4C78-800A-E17F8E28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FCFB-114C-4813-9186-C380FA1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1213-FA0C-4DC7-ABA5-4202826F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9FD5-E8B8-4F58-89C4-F4760E15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08F-46A1-4999-86A2-A0EA455C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5CCF-23F0-4666-B2C7-4980617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F8AF-F807-4C58-896A-AF91DD6D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A61A-7B4A-4281-AA4F-C167B10F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16F2-005C-41B6-86D7-96699AC7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2E26-453D-459B-8E12-962382E2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C5696-B4EB-40C0-BD53-D0BA5C8C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7FCF-E817-4B95-85FD-E0C04956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8D46-A46F-4497-AC0B-B5CD5F64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EA3A-969A-4914-9367-7F688C1A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DFBD-1AE7-4831-82E3-0CC42CE7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4E0-CA0B-4192-B9A1-5B21DF1A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868B-68DD-47E4-AAC1-FC942440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96BE-E867-46CE-B028-02680F2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53B9-23CF-49D2-8CE0-46C5A898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9D49-EC24-457C-AE0D-D14106E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714A-C360-43B6-97CD-35F6DEE7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52AF-606C-4505-82FC-4C37673B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0474-8926-49EA-B116-9D9ACC1A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A23E3-3EE5-4CF6-B405-C71E43BF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8C3C9-5FCA-45A8-B9C2-6F313527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5BFC-0219-4C16-8B62-072C3601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092-6E00-4409-910E-2A34667E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B64A-7478-4425-A98E-51AAEAA0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ED3E-DA74-472B-B33B-18044ECE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AEAD5-99B5-4D9C-84BF-1B838C05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FCEB4-2FEA-4FEC-AF13-2394008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04CE-1E54-4898-87CE-D5342E1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6396-C85E-43BE-818E-6126341D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8A93-E23D-422F-B3B8-5CD3D6C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CB9DB-A98F-4306-A383-A6CA15AA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0F3C-A891-44A5-ABDB-56C888C8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21CA2-3AF5-4EA6-9D77-0F6717C5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C67-4F32-43DF-8D89-46BF3978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B9D36-8F72-4830-8E9F-BD6ECC69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27AD-9510-4197-80CC-EE118345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CD8E9-CB11-4599-A22B-1B67CF59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B9F33-8A83-442D-BFB8-BA6303A4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8DC87-B4E2-478B-A305-E9E9D331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1A7F1-059F-4CDD-86EF-D3E5949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2D6DA-BA95-4D8F-9711-061BA7E8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E823C-F2F0-412D-9738-952FC772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B87F-C016-4019-B4F8-8F7AC464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5CEC0-1210-4B5F-94C0-0859C189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F5F-6D64-483E-8868-5A04D695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2931D-43C7-47A5-AFE4-D612070D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8F1-D76F-4864-B93D-685E9BD2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00B-E270-437A-8261-BE4E6D8A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787-ED88-4226-872C-F584DC98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6846-8BAF-44F5-A93E-CE0E5E0EA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0316-012F-4F89-AB10-2D496A383A6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A6CF-D06A-4C5F-8E57-858E35BE5AF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83DE-8555-4653-83FF-12F437E02CE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34F-BBC6-4B06-ABF1-EFAF2F1DCE7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en stoma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Picture 5" descr="Stoma"/>
          <p:cNvPicPr/>
          <p:nvPr/>
        </p:nvPicPr>
        <p:blipFill>
          <a:blip r:embed="rId1"/>
          <a:stretch/>
        </p:blipFill>
        <p:spPr>
          <a:xfrm>
            <a:off x="5580000" y="2060640"/>
            <a:ext cx="2808360" cy="352908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 1" descr=""/>
          <p:cNvPicPr/>
          <p:nvPr/>
        </p:nvPicPr>
        <p:blipFill>
          <a:blip r:embed="rId2"/>
          <a:stretch/>
        </p:blipFill>
        <p:spPr>
          <a:xfrm>
            <a:off x="987480" y="1146240"/>
            <a:ext cx="40291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uidproble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720"/>
            <a:ext cx="76345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Droog en geïrriteerd: huid vuurrood, jeukt en pijnlij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ochtig en geïrriteerd: huid vuurrood, jeukt, pijnlijk en na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wassen met lauw wat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vochtopnemendpoeder aanbre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Tweedelig systee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- Bij hevige pijn of jeuk alles verva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et?         N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leostoma: moeite met opname voedingsstoff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aker kleine maal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lostoma: moeite om water en zout uit de darm te onttrekke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vt zouttabletten en minstens 2,5 l/d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r door ervaring uitvinden welk eten wel en niet 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ts waarschuwen 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het niet vertrou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ma onverklaarbaar blo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onverklaarbare ko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vrager aanhoudende pij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 stoelgangvermindering of –vermee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wone uitstulping naast de stoma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r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denen om een stoma aan te leg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480" y="1699920"/>
            <a:ext cx="770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chronische ontsteking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kwaadaardige tumor of kwaadaardige tumo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ongelu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geboren afwijkingen, bv. het ontbreken van een deel van de dar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stoma kan tijdelijk zij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emand die een stoma heeft, is in principe incontine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m ontlasting of urine op te vangen, worden stomazakjes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oma kan aangelegd worden i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luchtpijp: trach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urinewegen: ureter praeternaturalis (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: ile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: colostoma (A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unn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929960"/>
            <a:ext cx="75628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nne darm: ilio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e dunne darm: ile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unne darm scheidt sappen af die een functie hebben bij het verteren en verwerken van voedsel. De inhoud is dun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tlasting is du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wat rechts van het midden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toma in de dikke dar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33720"/>
            <a:ext cx="727560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ikke darm: col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Stoma in dikke darm: colosto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dikke darm neemt het vocht weer op. De ontlasting wordt dikk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tlasting is wat dikker. Hoe verder de stoma aan het eind van de dikke darm zit hoe dikker de ontlast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oma bevindt zich vaak aan de linkerzijde van de bui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ciale aspect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7418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aanleggen van een stoma is een ingrijpende gebeurteni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et heeft invloed op het zelfbeeld en sociale relat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es je bewust van een juiste benadering, houdt rekening met de gevoelens van de clië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oorten materiaa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71312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delige: -&gt; zak en plak aan elkaar v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et vaker verwisseld word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delig: -&gt; Zak en plak los van elkaa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akjes kunnen verwisseld worden, plak blijft zit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zweetabsorberend laag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vt. koolstof luchtfil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andachtspunten verzorg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ygiëne, Tijd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orgvrager kan in bad of douch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auw water en evt. neutrale zeep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en ether of alcohol houd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d droog dep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raa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ndeling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2160360"/>
            <a:ext cx="74916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at in de plakplaat knippen (meetkaart)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lakplaat verwarmen tussen handen, kleding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ude zakje VOORZICHTIG verwijderen! (evt met koud water.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nspectie van de stoma en huid!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oonmaken met zacht papier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uid rondom stoma wassen en droog deppen, niet WRIJVEN!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erwisselen als zakje ¾ vol zit of als deze lek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5:11:59Z</dcterms:created>
  <dc:creator>Mellema, Ilse</dc:creator>
  <dc:description/>
  <dc:language>en-US</dc:language>
  <cp:lastModifiedBy>Ilse Mellema - Peper</cp:lastModifiedBy>
  <dcterms:modified xsi:type="dcterms:W3CDTF">2019-03-04T13:22:55Z</dcterms:modified>
  <cp:revision>9</cp:revision>
  <dc:subject/>
  <dc:title>Verzorging van een stoma</dc:title>
</cp:coreProperties>
</file>