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media/camera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4125-843A-482E-ADAA-9D9E52B4C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0609-29DE-4136-A46E-9609B6C49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8663-E9FE-4330-9C69-9D5A42E5F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3762-8F22-4BCC-A3D5-138807038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151E2-B5A2-4029-800F-E0399FCCF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7087A-C085-4AAC-A57A-5FACF1748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BF4F5-D350-48A1-B99C-A63C69FCA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23B95-30AB-4FC7-ACFD-870ED9C82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D6AF0-B6CA-497D-8805-7DBA14E89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EAAC9-84E1-4887-B50A-A9427905D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81A9A-0B3A-4BE3-A5B0-9510018AE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D4D0-BFEA-4800-B7A7-632CF8123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88A49-7057-45BE-8772-FA38DBEA1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3F4E2-820F-463E-AF28-1FF8AC7C1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6F86A-347E-4A48-AE67-5D25BD563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0D3F0-AD8D-4310-8A6F-5101ACB78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EBA92-D0CA-467C-9E1B-30350DA87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8078B5-B978-492C-829B-28D0F0667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C0F0A2-9EE1-4233-871B-23EE424BF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57B44E-0787-4389-BF13-355F35838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92D381-4197-47B1-988D-E71E2C94E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5455EF-0269-4DBD-B292-16E05F7F1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76DD-D20D-4A7D-BC5F-6C90A221B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3974A8-C8A8-4897-BB25-04F4CCB96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B8523B-97AD-41E3-B2E1-96EED944A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11169E-0804-4C1E-8347-D87D52C76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60E5E3-1E8D-48AB-AAD6-57B5E6DAC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9F3073-5B61-4B12-87B3-0078641E1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E832E7-FC38-48D9-9E7A-D3BD5E32B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1E4DDD-6384-4876-9D66-9FB3F2B90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08DD3C-672F-457A-8F9B-1E26311CF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579679-5246-45EE-BDE2-142EE3DF2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8224B5-0EC7-477C-B779-36AB843D0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A2AE-A388-418C-9853-BC5A6FD8C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F9BD77-91C1-4E44-9349-9BAE273DF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31F206-74AD-4578-B3C8-20BCE3608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B64009-D0F5-4F94-8619-5A08530B4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96D8E4-7836-4238-B070-D001DE0A1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80998A-454A-4AC5-924B-231F2D061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9E837B-94B0-4359-991B-31F736446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D035A2-624E-461B-802E-9C8EF648D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9BF58A-80E0-4930-8BE8-97FF0893E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5DC0CC-D23A-480E-A8C2-21B68D2AE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D2BA9F-3FD9-4CA6-8EA7-55405E2E2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C0F3-4BFB-4354-9D2D-9A85E77D8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545EF9-DA6E-4F66-A5EE-542401F06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3E4443-33FB-4215-ABC4-6AEB51D31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CD5626-FDC7-43CA-A437-C8884549C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539934-6088-40C3-9CFF-473DBF593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D5AC14-7E53-41BB-BE7B-AA3AF41BB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99CD3B-35A2-4F63-8640-D8D1EE30E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908F24-8FD1-4398-A167-C4810E582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0DEB5D-4535-44DA-8D49-F895672D3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8F0875-BFFC-428B-8860-4DD99F796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194EC0-ACA0-427F-A437-EA3104080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D597-F484-4AF3-8393-7B63EE051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F0AA2B-12F0-48D9-85C6-FF50DD8B2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B120-209E-4CC4-B850-4B9924FBA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ABE1-8398-4309-86C2-013D612BB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D0B2-CC11-495F-8A86-59D7FB8E3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522A4-07B4-415B-8710-25CC1F2BDA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42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4CEDE-B338-4733-B4F7-9BFB4B77F259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94" name="Straight Connector 1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Straight Connector 1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18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19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2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2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2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23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24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A53A1-6D76-4CE2-A772-EC15E370E9E9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46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0A796-53F0-4048-BBEB-A2FC6E053F4C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200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16A1A-5DFA-458C-BEC6-B707EBBDD69A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Een stoma: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54" name="Picture 5" descr="Stoma"/>
          <p:cNvPicPr/>
          <p:nvPr/>
        </p:nvPicPr>
        <p:blipFill>
          <a:blip r:embed="rId1"/>
          <a:stretch/>
        </p:blipFill>
        <p:spPr>
          <a:xfrm>
            <a:off x="5580000" y="2060640"/>
            <a:ext cx="2808360" cy="3529080"/>
          </a:xfrm>
          <a:prstGeom prst="rect">
            <a:avLst/>
          </a:prstGeom>
          <a:ln w="0">
            <a:noFill/>
          </a:ln>
        </p:spPr>
      </p:pic>
      <p:pic>
        <p:nvPicPr>
          <p:cNvPr id="255" name="Diagram 1" descr=""/>
          <p:cNvPicPr/>
          <p:nvPr/>
        </p:nvPicPr>
        <p:blipFill>
          <a:blip r:embed="rId2"/>
          <a:stretch/>
        </p:blipFill>
        <p:spPr>
          <a:xfrm>
            <a:off x="987480" y="1146240"/>
            <a:ext cx="4029120" cy="44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Huidproblem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09120" y="2160720"/>
            <a:ext cx="7634520" cy="45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Trebuchet MS"/>
              </a:rPr>
              <a:t>Droog en geïrriteerd: huid vuurrood, jeukt en pijnlijk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nl-NL" sz="2600" spc="-1" strike="noStrike">
                <a:solidFill>
                  <a:srgbClr val="404040"/>
                </a:solidFill>
                <a:latin typeface="Trebuchet MS"/>
              </a:rPr>
              <a:t>- Wassen met lauw water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nl-NL" sz="2600" spc="-1" strike="noStrike">
                <a:solidFill>
                  <a:srgbClr val="404040"/>
                </a:solidFill>
                <a:latin typeface="Trebuchet MS"/>
              </a:rPr>
              <a:t>- Tweedelig systeem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Trebuchet MS"/>
              </a:rPr>
              <a:t>Vochtig en geïrriteerd: huid vuurrood, jeukt, pijnlijk en nat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nl-NL" sz="2600" spc="-1" strike="noStrike">
                <a:solidFill>
                  <a:srgbClr val="404040"/>
                </a:solidFill>
                <a:latin typeface="Trebuchet MS"/>
              </a:rPr>
              <a:t>- wassen met lauw water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nl-NL" sz="2600" spc="-1" strike="noStrike">
                <a:solidFill>
                  <a:srgbClr val="404040"/>
                </a:solidFill>
                <a:latin typeface="Trebuchet MS"/>
              </a:rPr>
              <a:t>- vochtopnemendpoeder aanbrengen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nl-NL" sz="2600" spc="-1" strike="noStrike">
                <a:solidFill>
                  <a:srgbClr val="404040"/>
                </a:solidFill>
                <a:latin typeface="Trebuchet MS"/>
              </a:rPr>
              <a:t>- Tweedelig systeem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nl-NL" sz="2600" spc="-1" strike="noStrike">
                <a:solidFill>
                  <a:srgbClr val="404040"/>
                </a:solidFill>
                <a:latin typeface="Trebuchet MS"/>
              </a:rPr>
              <a:t>- Bij hevige pijn of jeuk alles vervangen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900" spc="-1" strike="noStrike">
                <a:solidFill>
                  <a:srgbClr val="404040"/>
                </a:solidFill>
                <a:latin typeface="Trebuchet MS"/>
              </a:rPr>
              <a:t>   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6" dur="5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1" dur="500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6" dur="500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1" dur="500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6" dur="500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1" dur="500"/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6" dur="500"/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1" dur="500"/>
                                        <p:tgtEl>
                                          <p:spTgt spid="2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6" dur="500"/>
                                        <p:tgtEl>
                                          <p:spTgt spid="2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ieet?         Ne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leostoma: moeite met opname voedingsstoffen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vaker kleine maaltij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olostoma: moeite om water en zout uit de darm te onttrekken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evt zouttabletten en minstens 2,5 l/d drin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der door ervaring uitvinden welk eten wel en niet k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3" dur="5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8" dur="500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3" dur="500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rts waarschuwen al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Je het niet vertrouw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stoma onverklaarbaar bloe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rgvrager onverklaarbare ko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rgvrager aanhoudende pijn hee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terke stoelgangvermindering of –vermeerd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gewone uitstulping naast de stoma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breu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Redenen om een stoma aan te legg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09480" y="1699920"/>
            <a:ext cx="7707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Een chronische ontsteking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Een kwaadaardige tumor of kwaadaardige tumore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Een ongeluk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Aangeboren afwijkingen, bv. het ontbreken van een deel van de darm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Een stoma kan tijdelijk zijn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Iemand die een stoma heeft, is in principe incontinent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Om ontlasting of urine op te vangen, worden stomazakjes gebruikt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Stoma kan aangelegd worden in: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609480" y="2160360"/>
            <a:ext cx="677088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De luchtpijp: tracheostoma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De urinewegen: ureter praeternaturalis (UP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De dunne darm: ileostoma (AP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De dikke darm: colostoma (AP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Stoma in de dunne darm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929960"/>
            <a:ext cx="7562880" cy="41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Dunne darm: ilio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400" spc="-1" strike="noStrike">
                <a:solidFill>
                  <a:srgbClr val="404040"/>
                </a:solidFill>
                <a:latin typeface="Trebuchet MS"/>
              </a:rPr>
              <a:t>Stoma in de dunne darm: ileostoma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De dunne darm scheidt sappen af die een functie hebben bij het verteren en verwerken van voedsel. De inhoud is dun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De ontlasting is dun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Stoma bevindt zich wat rechts van het midden van de buik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Stoma in de dikke darm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609480" y="2133720"/>
            <a:ext cx="7275600" cy="390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Dikke darm: colo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400" spc="-1" strike="noStrike">
                <a:solidFill>
                  <a:srgbClr val="404040"/>
                </a:solidFill>
                <a:latin typeface="Trebuchet MS"/>
              </a:rPr>
              <a:t>Stoma in dikke darm: colostoma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De dikke darm neemt het vocht weer op. De ontlasting wordt dikker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Ontlasting is wat dikker. Hoe verder de stoma aan het eind van de dikke darm zit hoe dikker de ontlasting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Stoma bevindt zich vaak aan de linkerzijde van de buik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Sociale aspecten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09120" y="2160360"/>
            <a:ext cx="741852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Het aanleggen van een stoma is een ingrijpende gebeurtenis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Het heeft invloed op het zelfbeeld en sociale relaties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Wees je bewust van een juiste benadering, houdt rekening met de gevoelens van de cliënt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Soorten materiaal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09120" y="2160360"/>
            <a:ext cx="7131240" cy="45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Eendelige: -&gt; zak en plak aan elkaar vast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   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Moet vaker verwisseld worden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Tweedelig: -&gt; Zak en plak los van elkaar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   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Zakjes kunnen verwisseld worden, plak blijft zitte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Evt. zweetabsorberend laagj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Evt. koolstof luchtfilter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5" dur="5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0" dur="500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5" dur="500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0" dur="500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5" dur="500"/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0" dur="500"/>
                                        <p:tgtEl>
                                          <p:spTgt spid="2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Aandachtspunten verzorging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Hygiëne, Tijd,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Zorgvrager kan in bad of douchen,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Lauw water en evt. neutrale zeep,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Geen ether of alcohol houdende middele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Huid droog deppe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Voorraad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7" dur="5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2" dur="500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7" dur="500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2" dur="500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7" dur="500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2" dur="500"/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Handeling: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609480" y="2160360"/>
            <a:ext cx="7491600" cy="45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Trebuchet MS"/>
              </a:rPr>
              <a:t>Gat in de plakplaat knippen (meetkaart),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Trebuchet MS"/>
              </a:rPr>
              <a:t>Plakplaat verwarmen tussen handen, kleding,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Trebuchet MS"/>
              </a:rPr>
              <a:t>Oude zakje VOORZICHTIG verwijderen! (evt met koud water.)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Trebuchet MS"/>
              </a:rPr>
              <a:t>Inspectie van de stoma en huid!,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Trebuchet MS"/>
              </a:rPr>
              <a:t>Schoonmaken met zacht papier,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Trebuchet MS"/>
              </a:rPr>
              <a:t>Huid rondom stoma wassen en droog deppen, niet WRIJVEN!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Trebuchet MS"/>
              </a:rPr>
              <a:t>Verwisselen als zakje ¾ vol zit of als deze lekt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9" dur="5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4" dur="500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9" dur="500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4" dur="500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9" dur="500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4" dur="500"/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9" dur="500"/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9T15:11:59Z</dcterms:created>
  <dc:creator>Mellema, Ilse</dc:creator>
  <dc:description/>
  <dc:language>en-US</dc:language>
  <cp:lastModifiedBy>Ilse Mellema - Peper</cp:lastModifiedBy>
  <dcterms:modified xsi:type="dcterms:W3CDTF">2019-03-04T13:22:55Z</dcterms:modified>
  <cp:revision>9</cp:revision>
  <dc:subject/>
  <dc:title>Verzorging van een stoma</dc:title>
</cp:coreProperties>
</file>