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A2F58-25EE-4AC1-84A2-025CA14951E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762360" y="9408960"/>
            <a:ext cx="28782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DD8DF-42C2-4F94-B470-A799FDA56D85}" type="slidenum">
              <a:rPr b="0" lang="nl-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844560" y="743040"/>
            <a:ext cx="4952880" cy="3714840"/>
          </a:xfrm>
          <a:prstGeom prst="rect">
            <a:avLst/>
          </a:prstGeom>
          <a:ln w="0">
            <a:noFill/>
          </a:ln>
        </p:spPr>
      </p:sp>
      <p:sp>
        <p:nvSpPr>
          <p:cNvPr id="126" name="PlaceHolder 2"/>
          <p:cNvSpPr>
            <a:spLocks noGrp="1"/>
          </p:cNvSpPr>
          <p:nvPr>
            <p:ph type="body"/>
          </p:nvPr>
        </p:nvSpPr>
        <p:spPr>
          <a:xfrm>
            <a:off x="885960" y="4704840"/>
            <a:ext cx="486864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dio 1965 is de wet BIG in werking getreden om cliënten die risicovolle handelingen moeten ondergaan beschermd worden tegen ondeskundig hande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wet BIG is een kaderwet. Dat betekend dat de wet bepaald dat alleen medewerkers die deskundig zijn om handelingen uit te voeren bevoegd zijn dit te doen. Hoe een organisatie zorgt dat medewerkers deskundig zijn en om welke handelingen het gaat mag een organisatie zelf bepal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5833A-CEA2-4679-BA9E-81733C782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66C8A-8988-453D-B6AC-66F0CC489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229F1-B4F2-4786-BC95-A418A01C3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E0461-7083-4F32-B593-7E4344618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1D6582-573E-401B-A9D0-5D791015F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49789-46BB-476A-AF93-0AF637F09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9380B-DBBC-4512-B85E-00013CCB5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DC46B-2356-443E-B4CB-D67117E6B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8AB83-FD5F-4780-B5AE-FC70AA505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CF6F0-1496-4B3C-BFB1-5CE03073D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AEBEA-E4AD-4339-9026-CE428E6CC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55E10-B521-418F-A0B4-8578F2CF4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FFA78-E8D1-44C4-BBB6-E1518A20C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19F1E-2F8F-4DF0-A220-956191A82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AF7CC-28E6-4CB3-A9A7-DA12278EC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9268D-DCB1-42EE-A6E9-55AF485559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5D05C-8B68-430C-93CA-879CEBD781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30BE9-2CF0-424B-9C8A-CD6E34684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D37D4-AA21-4162-AE23-A86F217EE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1553A-0FE8-4C48-BA40-79D448A6C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A17CA-2C22-4FA0-A3AD-39EF8EE32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85B6D-803A-4C55-A676-37AF18F36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BF316-BA22-4D4D-B4E2-359EFB081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35C5B-D99F-475C-9BE7-2F9F34D42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A87D-DBBC-426E-B879-AEC0F8FC7C66}" type="datetime">
              <a:rPr b="0" lang="nl-N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9447-EC71-43FB-BCB0-5CDFF56BFB8C}"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3104-2EC6-46C4-AB44-B432443AB084}" type="datetime">
              <a:rPr b="0" lang="nl-N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0FB7-5E9E-4DFE-8C88-460F907D39A3}"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PH</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1599840"/>
            <a:ext cx="8229600" cy="4530600"/>
          </a:xfrm>
          <a:prstGeom prst="rect">
            <a:avLst/>
          </a:prstGeom>
          <a:noFill/>
          <a:ln w="0">
            <a:noFill/>
          </a:ln>
        </p:spPr>
        <p:txBody>
          <a:bodyPr anchor="t">
            <a:normAutofit/>
          </a:bodyPr>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erk veilig, efficiënt en met oog voor de cliënt.</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Onderscheid: voor de handeling, tijdens de handeling en na de handeling. </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Schema doornemen</a:t>
            </a:r>
            <a:endParaRPr b="0" lang="en-US" sz="2700" spc="-1" strike="noStrike">
              <a:solidFill>
                <a:srgbClr val="000000"/>
              </a:solidFill>
              <a:latin typeface="Arial"/>
            </a:endParaRPr>
          </a:p>
          <a:p>
            <a:pPr marL="514440" indent="-343080">
              <a:lnSpc>
                <a:spcPct val="115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Calibri"/>
              </a:rPr>
              <a:t> </a:t>
            </a:r>
            <a:endParaRPr b="0" lang="en-US" sz="3200" spc="-1" strike="noStrike">
              <a:solidFill>
                <a:srgbClr val="000000"/>
              </a:solidFill>
              <a:latin typeface="Arial"/>
            </a:endParaRPr>
          </a:p>
          <a:p>
            <a:pPr marL="51444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Methodisch werken</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Introductie</a:t>
            </a:r>
            <a:br>
              <a:rPr sz="3800"/>
            </a:br>
            <a:endParaRPr b="0" lang="en-US" sz="3800" spc="-1" strike="noStrike">
              <a:solidFill>
                <a:srgbClr val="000000"/>
              </a:solidFill>
              <a:latin typeface="Arial"/>
            </a:endParaRPr>
          </a:p>
        </p:txBody>
      </p:sp>
      <p:sp>
        <p:nvSpPr>
          <p:cNvPr id="105" name=""/>
          <p:cNvSpPr txBox="1"/>
          <p:nvPr/>
        </p:nvSpPr>
        <p:spPr>
          <a:xfrm>
            <a:off x="456840" y="1599840"/>
            <a:ext cx="8435880" cy="4853160"/>
          </a:xfrm>
          <a:prstGeom prst="rect">
            <a:avLst/>
          </a:prstGeom>
          <a:noFill/>
          <a:ln w="0">
            <a:noFill/>
          </a:ln>
        </p:spPr>
        <p:txBody>
          <a:bodyPr anchor="t">
            <a:normAutofit fontScale="99000"/>
          </a:bodyPr>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it vak bestaat uit:</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Theorie over verpleegtechnisch handelen.</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studeren van de leerstof.</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kills oefenen.</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toets bestaat uit 2 onderdelen. Skills toets, waarin je de geleerde handelingen laat zien en een theorie toets. Beiden moeten met een voldoende worden afgerond.</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Theorie</a:t>
            </a:r>
            <a:br>
              <a:rPr sz="3800"/>
            </a:br>
            <a:endParaRPr b="0" lang="en-US" sz="3800" spc="-1" strike="noStrike">
              <a:solidFill>
                <a:srgbClr val="000000"/>
              </a:solidFill>
              <a:latin typeface="Arial"/>
            </a:endParaRPr>
          </a:p>
        </p:txBody>
      </p:sp>
      <p:sp>
        <p:nvSpPr>
          <p:cNvPr id="10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volgende onderdelen worden behandel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t big, hygiëne, medicatie, injecteren, wonden, decubitus, stoma verzorging, EHB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Je beheerst de basiskennis van bovengenoemde Verpleegtechnische handelingen.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Je kunt de handelingen in simulatie uitvoere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ea typeface="Times New Roman"/>
              </a:rPr>
              <a:t>Doel</a:t>
            </a:r>
            <a:br>
              <a:rPr sz="41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BEB9-7790-47E5-872B-1EF95EAD1819}" type="slidenum">
              <a:rPr b="0"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et BIG</a:t>
            </a:r>
            <a:endParaRPr b="0" lang="en-US" sz="3800" spc="-1" strike="noStrike">
              <a:solidFill>
                <a:srgbClr val="000000"/>
              </a:solidFill>
              <a:latin typeface="Arial"/>
            </a:endParaRPr>
          </a:p>
        </p:txBody>
      </p:sp>
      <p:sp>
        <p:nvSpPr>
          <p:cNvPr id="112" name="PlaceHolder 2"/>
          <p:cNvSpPr>
            <a:spLocks noGrp="1"/>
          </p:cNvSpPr>
          <p:nvPr>
            <p:ph/>
          </p:nvPr>
        </p:nvSpPr>
        <p:spPr>
          <a:xfrm>
            <a:off x="611280" y="1915920"/>
            <a:ext cx="7772400" cy="41194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E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waliteit bevorderen en bewak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liënt beschermen tegen ondeskundig en onzorgvuldig handel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t BIG is een kader w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
          <p:cNvGraphicFramePr/>
          <p:nvPr/>
        </p:nvGraphicFramePr>
        <p:xfrm>
          <a:off x="606600" y="1420920"/>
          <a:ext cx="7930800" cy="5118120"/>
        </p:xfrm>
        <a:graphic>
          <a:graphicData uri="http://schemas.openxmlformats.org/drawingml/2006/table">
            <a:tbl>
              <a:tblPr/>
              <a:tblGrid>
                <a:gridCol w="3998880"/>
                <a:gridCol w="3931920"/>
              </a:tblGrid>
              <a:tr h="164772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ea typeface="Calibri"/>
                        </a:rPr>
                        <a:t>Voorbehouden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it zijn geneeskundige handelingen met een verhoogd risico, die alleen uitgevoerd mogen worden door daarvoor opgeleide personen, die bekwaam zij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ea typeface="Calibri"/>
                        </a:rPr>
                        <a:t>Risicovolle handel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it zijn geneeskundige en verzorgende handelingen met een risico op ongelukke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347040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Heelkundige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Verloskundige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Endoscopieë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Katheterisa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Injec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Punc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Narcose toepassen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Radioactieve stoffen gebruik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efibriller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eenvergruiz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roomstoot toediene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Zuurstof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ondevoeding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Bloeddruk opmet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Medicatie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Wondverzorg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omaverzorging</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1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Wet BIG</a:t>
            </a:r>
            <a:br>
              <a:rPr sz="3400"/>
            </a:br>
            <a:endParaRPr b="0" lang="en-US" sz="3400" spc="-1" strike="noStrike">
              <a:solidFill>
                <a:srgbClr val="000000"/>
              </a:solidFill>
              <a:latin typeface="Arial"/>
            </a:endParaRPr>
          </a:p>
        </p:txBody>
      </p:sp>
      <p:sp>
        <p:nvSpPr>
          <p:cNvPr id="115" name="Rectangle 1"/>
          <p:cNvSpPr/>
          <p:nvPr/>
        </p:nvSpPr>
        <p:spPr>
          <a:xfrm>
            <a:off x="2355840" y="2247840"/>
            <a:ext cx="138240" cy="345960"/>
          </a:xfrm>
          <a:prstGeom prst="rect">
            <a:avLst/>
          </a:prstGeom>
          <a:noFill/>
          <a:ln w="0">
            <a:noFill/>
          </a:ln>
        </p:spPr>
        <p:style>
          <a:lnRef idx="0"/>
          <a:fillRef idx="0"/>
          <a:effectRef idx="0"/>
          <a:fontRef idx="minor"/>
        </p:style>
        <p:txBody>
          <a:bodyPr wrap="none" lIns="68760" rIns="6876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599840"/>
            <a:ext cx="8229600" cy="4530600"/>
          </a:xfrm>
          <a:prstGeom prst="rect">
            <a:avLst/>
          </a:prstGeom>
          <a:noFill/>
          <a:ln w="0">
            <a:noFill/>
          </a:ln>
        </p:spPr>
        <p:txBody>
          <a:bodyPr anchor="t">
            <a:normAutofit/>
          </a:bodyPr>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Bevoegd ben je als je opgeleid bent om een voorbehouden of risicovolle handeling uit te voeren, mits je bekwaam bent.</a:t>
            </a: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 </a:t>
            </a:r>
            <a:r>
              <a:rPr b="0" lang="nl-NL" sz="3000" spc="-1" strike="noStrike">
                <a:solidFill>
                  <a:srgbClr val="000000"/>
                </a:solidFill>
                <a:latin typeface="Calibri"/>
                <a:ea typeface="Calibri"/>
              </a:rPr>
              <a:t>Dwz. dat je de handeling regelmatig uitvoert, op de hoogte bent van de protocollen.</a:t>
            </a: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Bekwaam ben je als in staat bent de handeling adequaat en volgens protocol kunt uitvoeren.</a:t>
            </a:r>
            <a:endParaRPr b="0" lang="en-US" sz="3000" spc="-1" strike="noStrike">
              <a:solidFill>
                <a:srgbClr val="000000"/>
              </a:solidFill>
              <a:latin typeface="Arial"/>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Bevoegd en Bekwaam</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2636640"/>
            <a:ext cx="8229600" cy="3887640"/>
          </a:xfrm>
          <a:prstGeom prst="rect">
            <a:avLst/>
          </a:prstGeom>
          <a:noFill/>
          <a:ln w="0">
            <a:noFill/>
          </a:ln>
        </p:spPr>
        <p:txBody>
          <a:bodyPr anchor="t">
            <a:normAutofit/>
          </a:bodyPr>
          <a:p>
            <a:pPr marL="343080" indent="-343080">
              <a:lnSpc>
                <a:spcPct val="95000"/>
              </a:lnSpc>
              <a:spcBef>
                <a:spcPts val="575"/>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Je mag alleen een handeling uitvoeren als je zeker bent van je bekwaamheid.MZ4:</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opdracht tot uitvoering moet door een zelfstandig beroepsbeoefenaar gegeven zijn. Dat kan volgens een standaardprocedure of in een individueel geval.</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PB-er acht zichzelf bekwaam om de handeling uit te voeren.</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PB-er controleert de aanwijzing van de beroepsbeoefenaar en volgt deze op.</a:t>
            </a:r>
            <a:endParaRPr b="0" lang="en-US" sz="2300" spc="-1" strike="noStrike">
              <a:solidFill>
                <a:srgbClr val="000000"/>
              </a:solidFill>
              <a:latin typeface="Arial"/>
            </a:endParaRPr>
          </a:p>
          <a:p>
            <a:pPr marL="343080" indent="-343080">
              <a:lnSpc>
                <a:spcPct val="95000"/>
              </a:lnSpc>
              <a:spcBef>
                <a:spcPts val="575"/>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9" name="PlaceHolder 1"/>
          <p:cNvSpPr>
            <a:spLocks noGrp="1"/>
          </p:cNvSpPr>
          <p:nvPr>
            <p:ph type="title"/>
          </p:nvPr>
        </p:nvSpPr>
        <p:spPr>
          <a:xfrm>
            <a:off x="1485720" y="1052640"/>
            <a:ext cx="6172200" cy="1296720"/>
          </a:xfrm>
          <a:prstGeom prst="rect">
            <a:avLst/>
          </a:prstGeom>
          <a:noFill/>
          <a:ln w="0">
            <a:noFill/>
          </a:ln>
        </p:spPr>
        <p:txBody>
          <a:bodyPr anchor="ctr">
            <a:noAutofit/>
          </a:bodyPr>
          <a:p>
            <a:pPr indent="0">
              <a:lnSpc>
                <a:spcPct val="11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Bevoegd onder voorbehoud;</a:t>
            </a:r>
            <a:br>
              <a:rPr sz="3400"/>
            </a:br>
            <a:r>
              <a:rPr b="0" lang="nl-NL" sz="2000" spc="-1" strike="noStrike">
                <a:solidFill>
                  <a:srgbClr val="000000"/>
                </a:solidFill>
                <a:latin typeface="Calibri"/>
                <a:ea typeface="Calibri"/>
              </a:rPr>
              <a:t>Bv. autorisaties binnen instellingen voor bepaalde handelingen die binnen je werkzetting voorkomen.</a:t>
            </a:r>
            <a:br>
              <a:rPr sz="12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599840"/>
            <a:ext cx="8229600" cy="4530600"/>
          </a:xfrm>
          <a:prstGeom prst="rect">
            <a:avLst/>
          </a:prstGeom>
          <a:noFill/>
          <a:ln w="0">
            <a:noFill/>
          </a:ln>
        </p:spPr>
        <p:txBody>
          <a:bodyPr anchor="t">
            <a:normAutofit/>
          </a:bodyPr>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erk schoon en veilig</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Voorkom besmetting</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Zog dat je jezelf beschermt</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IP methode voor handen wassen.</a:t>
            </a:r>
            <a:endParaRPr b="0" lang="en-US" sz="2700" spc="-1" strike="noStrike">
              <a:solidFill>
                <a:srgbClr val="000000"/>
              </a:solidFill>
              <a:latin typeface="Arial"/>
            </a:endParaRPr>
          </a:p>
          <a:p>
            <a:pPr marL="3222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Hygiëne</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07:03:32Z</dcterms:created>
  <dc:creator>Schadenberg, Boudy</dc:creator>
  <dc:description/>
  <dc:language>en-US</dc:language>
  <cp:lastModifiedBy>Ilse Mellema - Peper</cp:lastModifiedBy>
  <dcterms:modified xsi:type="dcterms:W3CDTF">2019-02-13T08:18:22Z</dcterms:modified>
  <cp:revision>35</cp:revision>
  <dc:subject/>
  <dc:title>Zorgregistratie thuiszorg</dc:title>
</cp:coreProperties>
</file>