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3DA2-3B7F-46EC-9063-CF48FF991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EE3E-232A-4544-8A38-4506A04F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2DCE-49C7-453C-8EFC-436E7A50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1CC5-7BE2-4D25-AC70-D9D2E0B6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39A5-6EFF-4419-A776-62293200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9328-7EB1-4C38-8C84-5BD12E5B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9AFE-8B31-49FA-9EC2-B120F5B5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F324-72C3-4E75-931E-C5AA44F7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7AE6-EE8D-4AA7-A56F-AD97589F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46FF-8E00-45A1-AEE6-951B8220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E51E-0797-4911-AB83-AD9E012D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E334-0E45-4BC4-8D19-08FA34C3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6F3D-F093-454F-B393-5A7D1063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0908-E5DA-425B-AE08-ED745691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F270-D9B9-44A1-8CB3-DCE0CA55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6347-69F2-4170-BA57-5063511C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6D24-8C77-49B8-AA29-47C6035E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4844-C50B-4F7C-9281-A88B226B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9710-B617-48C9-8F34-6DBA1F41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7A99-9B24-4863-9EA1-FFE53470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B993-7691-4033-AC55-607F1148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80C1-4705-4BC2-94C2-711AFF0B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D451-C536-4B69-A9A8-CFB20BAA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B8E1-6543-4983-BB3D-6F4AA42D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1D2C-78C9-457A-B8F1-4088B6DB060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2E26-2C44-4DAD-A984-B580A304A86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Ambulante Compressietherapi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193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Problemen/gevaren van AC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nsteroede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Pijn bij het zwacht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eur van de t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fzakken van zwacht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rritatie van de h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Leefregel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L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en afhangende b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ef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po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fwisselend bew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oede vo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oorkomen van nieuwe wondjes  (veilighe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Nazor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Na het zwachtelen met druk worden therapeutisch elastische kousen  aangem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    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Het eindresulta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2" name="Picture 5" descr="ineke3"/>
          <p:cNvPicPr/>
          <p:nvPr/>
        </p:nvPicPr>
        <p:blipFill>
          <a:blip r:embed="rId1"/>
          <a:stretch/>
        </p:blipFill>
        <p:spPr>
          <a:xfrm>
            <a:off x="2514600" y="1752480"/>
            <a:ext cx="4191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En nu………</a:t>
            </a:r>
            <a:br>
              <a:rPr sz="4000"/>
            </a:b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               … zelf oefene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4" name="Picture 3" descr="zwachtel"/>
          <p:cNvPicPr/>
          <p:nvPr/>
        </p:nvPicPr>
        <p:blipFill>
          <a:blip r:embed="rId1"/>
          <a:stretch/>
        </p:blipFill>
        <p:spPr>
          <a:xfrm>
            <a:off x="1371600" y="1981080"/>
            <a:ext cx="6629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ahoma"/>
              </a:rPr>
              <a:t>   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Hoe het niet moe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1" name="Picture 7" descr="fotoAZG"/>
          <p:cNvPicPr/>
          <p:nvPr/>
        </p:nvPicPr>
        <p:blipFill>
          <a:blip r:embed="rId1"/>
          <a:stretch/>
        </p:blipFill>
        <p:spPr>
          <a:xfrm>
            <a:off x="2514600" y="1905120"/>
            <a:ext cx="3352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  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Een mogelijk gevol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3" name="Picture 4" descr="ineke1"/>
          <p:cNvPicPr/>
          <p:nvPr/>
        </p:nvPicPr>
        <p:blipFill>
          <a:blip r:embed="rId1"/>
          <a:stretch/>
        </p:blipFill>
        <p:spPr>
          <a:xfrm>
            <a:off x="2765520" y="1600200"/>
            <a:ext cx="3787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Definitie AC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en combinatie van bewegen van het (onder)been en het uitoefenen van druk van buitenaf op dat (onder)be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Doelstellin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erugdringen en voorkomen van voc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eteren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oorstroming in 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beteren van de spierpompfun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vorderen van de wondgene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Indicaties voor AC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lecht werkende bloedv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Ulcus cru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ntstoken 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pat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Contra-indicati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lechte werking slag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fsluiting in een bloedvat door tromb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uidaando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llergie voor ‘iets’ dat in zwachtel of kous verwerk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4617b"/>
                </a:solidFill>
                <a:latin typeface="Calibri"/>
                <a:ea typeface="Calibri"/>
              </a:rPr>
              <a:t>Algemene principes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- 2 zwachtels per onderbeen, waarbij 1 rechtsom en 1 linksom wordt aangebr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- In de rol kij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- Beginnen bij voet/t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- Zwachtel volgt vorm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- Gelijkmatige dr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Afbeelding 4" descr="Afbeelding met tekst&#10;&#10;Beschrijving is gegenereerd met hoge betrouwbaarheid"/>
          <p:cNvPicPr/>
          <p:nvPr/>
        </p:nvPicPr>
        <p:blipFill>
          <a:blip r:embed="rId1"/>
          <a:stretch/>
        </p:blipFill>
        <p:spPr>
          <a:xfrm>
            <a:off x="223920" y="2127240"/>
            <a:ext cx="879624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4:08:08Z</dcterms:created>
  <dc:creator>Consulenten</dc:creator>
  <dc:description/>
  <dc:language>en-US</dc:language>
  <cp:lastModifiedBy>Ilse Mellema - Peper</cp:lastModifiedBy>
  <cp:lastPrinted>2004-03-10T10:22:56Z</cp:lastPrinted>
  <dcterms:modified xsi:type="dcterms:W3CDTF">2019-05-11T19:31:03Z</dcterms:modified>
  <cp:revision>53</cp:revision>
  <dc:subject/>
  <dc:title>Ambulante Compressietherapie</dc:title>
</cp:coreProperties>
</file>