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camer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4DD9-4B57-4E7D-B4BB-BB16EFC24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FB42-00EA-4896-8C06-34BA06F75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05BD-C943-4409-8D52-5E710EA23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B6EE-21C1-4C1E-83B6-DC361E0FB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13FEC-2307-4FF4-92DF-5962EF41C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C4071-53FF-4021-93DD-2A5AE2C55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5B3CD-D0B8-4D5C-94B6-2AC9E78AC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216B1-9445-42EA-A579-E039127AC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D78AE-FEA0-44A8-AA54-A527CF21F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2B73B-C439-410F-970E-DCA6031C4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B2E04-6178-49B4-8A50-771F266B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9E43-760C-48FD-9DAD-0577E7143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5BF55-B147-4532-8F04-7BDECE54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F2D11-3610-407E-A0C7-BC92250A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673F6-A1E6-40ED-8D2A-C14DA2B0E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74DC5-3378-47D9-A1CC-DAB8B776E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8CDE9-A519-46AC-83BD-D95E9166F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BD6BB-A6A8-4DD8-9C9F-0EB69CD8E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5D589-3407-4293-8018-DB64D8D66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79F74-A6E9-4833-B9F0-5AD11788E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D1EDA-90B2-4E7B-85CE-9BE709DF7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85D1E-144C-4009-85F9-AFCA68A86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1D7E-7F21-4191-9FBB-19DEB5A94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95DE5-6096-4184-A343-9F61BCC58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9A145-7058-4653-9AB4-9BB49CA0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1C42A-FE72-41A6-B83A-8F55045B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70735-CBD3-46B4-A70B-5F5CEE86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9C143-29C0-4A7B-8CF1-898A0FF93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0716F-66CE-4366-8964-9A277BDAE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925DD-BF40-4B95-9B29-B01609063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B02D7-700C-415B-B66F-F86F1E3A9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272FE-9FBC-43ED-A699-180BA308A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F53E6-0E6A-4431-862D-1DC6E4158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5754-D194-4593-822F-A217D7E70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0A345-E093-4D54-A6A6-A1D0FA71C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07ACB-99F3-4256-A7E6-F9DB9A882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394F0-033B-4C63-B764-3FC774A1E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B67CD-D8A0-4540-B17F-B4CE5B3A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0F3F1-BDF0-4F61-B9BF-3EC919AC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B83A2-DE6A-4F46-B7D2-4D3A5123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27F08-7091-4562-99BA-E73319FBD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1B880-7325-4D00-A6BE-8D7CFB353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22085-DCAC-4BAC-8C37-B4681782C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66DFC-0936-45E2-91CA-18C862B0D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C22E-6C77-4622-A564-FB4FED0AD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A8739-5845-4711-9F33-FA9BDCE54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26288-9D6E-4C6D-A03D-218A9D451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8B171-073E-4954-8B9D-1DBCDD839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B8D0B-A659-4282-B7F8-E698C8EB7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25E52-F274-48D0-9DDA-CC9495CFC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6E0EA-9797-4CD9-97D9-D83F2F2A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D5CFA-D573-4BC5-87F7-E4C5F269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C7099-37B3-449D-8979-72DA1FDE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7CF47-0069-41FB-B456-DC3B28371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BDD97-F7E1-4015-9448-4A0E3877D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CD27-5F6B-4261-85C4-1D6738A31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97B11-3521-4DEF-B87C-610D22CDC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A74E-3B53-447D-B4E6-B48465B3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D538-78FD-4AA4-AF7F-4B765E26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A0E0-CE3A-4164-B095-A12B6A9B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301F7-1FA6-45CD-84C3-D58C5EB85D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42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A059F-20AA-4E47-B822-473A7CDDFB9A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94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ED888-D362-47FD-AA6E-86B10E9B14BE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46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FE5FF-6A3B-4D3A-B45A-070FC548AB3C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00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95571-BA28-4896-A0B5-CBF2EF681BE5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Een stoma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54" name="Picture 5" descr="Stoma"/>
          <p:cNvPicPr/>
          <p:nvPr/>
        </p:nvPicPr>
        <p:blipFill>
          <a:blip r:embed="rId1"/>
          <a:stretch/>
        </p:blipFill>
        <p:spPr>
          <a:xfrm>
            <a:off x="5580000" y="2060640"/>
            <a:ext cx="2808360" cy="3529080"/>
          </a:xfrm>
          <a:prstGeom prst="rect">
            <a:avLst/>
          </a:prstGeom>
          <a:ln w="0">
            <a:noFill/>
          </a:ln>
        </p:spPr>
      </p:pic>
      <p:pic>
        <p:nvPicPr>
          <p:cNvPr id="255" name="Diagram 1" descr=""/>
          <p:cNvPicPr/>
          <p:nvPr/>
        </p:nvPicPr>
        <p:blipFill>
          <a:blip r:embed="rId2"/>
          <a:stretch/>
        </p:blipFill>
        <p:spPr>
          <a:xfrm>
            <a:off x="987480" y="1146240"/>
            <a:ext cx="402912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Huidproblem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09120" y="2160720"/>
            <a:ext cx="763452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Droog en geïrriteerd: huid vuurrood, jeukt en pijnlijk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- Wassen met lauw water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- Tweedelig systee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Vochtig en geïrriteerd: huid vuurrood, jeukt, pijnlijk en nat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- wassen met lauw water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- vochtopnemendpoeder aanbrengen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- Tweedelig systee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- Bij hevige pijn of jeuk alles vervangen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900" spc="-1" strike="noStrike">
                <a:solidFill>
                  <a:srgbClr val="404040"/>
                </a:solidFill>
                <a:latin typeface="Trebuchet MS"/>
              </a:rPr>
              <a:t>  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1" dur="5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500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6" dur="500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1" dur="500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6" dur="500"/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ieet?         Ne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leostoma: moeite met opname voedingsstoffen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vaker kleine maaltij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lostoma: moeite om water en zout uit de darm te onttrekken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evt zouttabletten en minstens 2,5 l/d drin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der door ervaring uitvinden welk eten wel en niet k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3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8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3" dur="5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rts waarschuwen al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e het niet vertrouw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stoma onverklaarbaar bloe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vrager onverklaarbare ko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vrager aanhoudende pijn he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erke stoelgangvermindering of –vermeerd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gewone uitstulping naast de stoma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bre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Redenen om een stoma aan te legg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09480" y="1699920"/>
            <a:ext cx="7707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Een chronische ontsteking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Een kwaadaardige tumor of kwaadaardige tumor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Een ongeluk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angeboren afwijkingen, bv. het ontbreken van een deel van de darm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Een stoma kan tijdelijk zij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Iemand die een stoma heeft, is in principe incontinent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Om ontlasting of urine op te vangen, worden stomazakjes gebruik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Stoma kan aangelegd worden in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09480" y="2160360"/>
            <a:ext cx="677088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e luchtpijp: tracheostom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e urinewegen: ureter praeternaturalis (UP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e dunne darm: ileostoma (AP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e dikke darm: colostoma (AP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Stoma in de dunne darm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929960"/>
            <a:ext cx="756288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unne darm: ilio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Stoma in de dunne darm: ileostom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e dunne darm scheidt sappen af die een functie hebben bij het verteren en verwerken van voedsel. De inhoud is dun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e ontlasting is du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toma bevindt zich wat rechts van het midden van de buik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Stoma in de dikke darm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09480" y="2133720"/>
            <a:ext cx="7275600" cy="39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ikke darm: colo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Stoma in dikke darm: colostom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e dikke darm neemt het vocht weer op. De ontlasting wordt dikker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Ontlasting is wat dikker. Hoe verder de stoma aan het eind van de dikke darm zit hoe dikker de ontlasting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toma bevindt zich vaak aan de linkerzijde van de buik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Sociale aspecte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09120" y="2160360"/>
            <a:ext cx="74185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et aanleggen van een stoma is een ingrijpende gebeurteni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et heeft invloed op het zelfbeeld en sociale relatie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Wees je bewust van een juiste benadering, houdt rekening met de gevoelens van de cliënt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Soorten materiaal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09120" y="2160360"/>
            <a:ext cx="7131240" cy="45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Eendelige: -&gt; zak en plak aan elkaar vas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Moet vaker verwisseld worde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Tweedelig: -&gt; Zak en plak los van elkaa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Zakjes kunnen verwisseld worden, plak blijft zitt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Evt. zweetabsorberend laagj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Evt. koolstof luchtfilte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5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5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" dur="500"/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Aandachtspunten verzorg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ygiëne, Tijd,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Zorgvrager kan in bad of douchen,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Lauw water en evt. neutrale zeep,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Geen ether of alcohol houdende middel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uid droog depp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oorraad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5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50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Handeling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09480" y="2160360"/>
            <a:ext cx="7491600" cy="45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Gat in de plakplaat knippen (meetkaart),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Plakplaat verwarmen tussen handen, kleding,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Oude zakje VOORZICHTIG verwijderen! (evt met koud water.)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Inspectie van de stoma en huid!,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Schoonmaken met zacht papier,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Huid rondom stoma wassen en droog deppen, niet WRIJVEN!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Verwisselen als zakje ¾ vol zit of als deze lekt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5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500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500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15:11:59Z</dcterms:created>
  <dc:creator>Mellema, Ilse</dc:creator>
  <dc:description/>
  <dc:language>en-US</dc:language>
  <cp:lastModifiedBy>Ilse Mellema - Peper</cp:lastModifiedBy>
  <dcterms:modified xsi:type="dcterms:W3CDTF">2019-03-04T13:22:55Z</dcterms:modified>
  <cp:revision>9</cp:revision>
  <dc:subject/>
  <dc:title>Verzorging van een stoma</dc:title>
</cp:coreProperties>
</file>