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23B5-EA77-45C4-B446-132B112D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D6E7-AC34-482A-BEA6-02494D34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3EF-5351-41AD-9819-2099D3A5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1A7E-410E-4F37-B40C-417CC4FF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2328-E593-401E-95DB-5D041CDD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9503-689B-4513-9466-D4D756E1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EF0D-EA15-4D37-9A15-8773F35C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8DC9-8D86-46A4-9285-AE23503E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47A6-710B-4A35-909A-1C8E0404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9DF0-63DC-4DD8-A040-7CC86BC0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4095-AD74-4408-BFE5-14F45C90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4592-C5E4-45E6-9BD8-046C6FC8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2451-C290-49A3-88AF-97B4F046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604A-0CF7-4674-B371-DB9DB7AD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ABD9-2CBD-4E70-9768-7D2B82DC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5219-9448-4FE6-A437-833305F8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B3C4-DA6A-44D6-AD9A-CB8ECF70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1BFF2-AFA8-482D-8284-18D67761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4F1F2-CA73-4192-9662-1D13D03E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00F42-E084-457F-961A-605FC7CD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0E155-E3E8-4D10-BEF6-D3972817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8DC20-E723-4ACE-A258-67CFA232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9801-C6E1-4BA5-BF58-BA889064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50947-2B76-4F14-B713-B05583B5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6D178-AA23-4A7D-BFF0-323A410D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84DA2-8C38-4719-8C9F-71D10E77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E69F3-C388-4777-949A-AC4E9CF3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CC4B3-9130-4014-A826-FB46863B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A1D17-150E-4732-B642-45CB2055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F2882-9F63-48B6-9713-1BC2D0C3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BDDC8-E735-4956-BBCE-166E754C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63B9E-6139-4717-95C6-F2D8ACE7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A94AE-EB61-45BF-8CBF-1C801B17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B49A-A9E4-4A81-B819-29B40905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B08BA-6B6F-429E-AB20-132B13CE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10967-8887-407F-854B-97F6E7E4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6771F-9E63-4E58-B89D-427BFB2B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D546E-D414-4BE4-8836-2376910E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8C70B-15CF-489D-AD0A-53DE1A1D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9AFE2-AA44-4062-9279-75A35D86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5F766-E729-4EC1-8496-D1F8D365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A944F-8066-4288-9134-586C7169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8716D-CBF6-4342-8BF7-ED5A6B85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FEC92-BCCD-4104-A4A3-F1CE2C77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6E31-AD92-492D-8C60-0721FC24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8881E-4DF4-43A0-8AA6-EDFE8EE2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D88B3-4CC8-4A8F-A39C-0587673B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7DA2B-8443-4D02-8282-92C09EEE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E65B6-85CC-45D0-AF6D-CA4929B0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0D2B7-F819-4A54-AE7D-73258A2D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0BA9A-A9D0-4540-A6D5-EA46C6CF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895AA-0F41-409F-924F-3A8CAEBF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ED3B7-84E1-4189-B14C-B1A95472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B9691-36B0-413E-A261-15720811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78ABE-619A-498D-9375-71BE76A8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A22F-4558-4D80-BB4D-5DAFAC98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C253A-A575-46EA-B87F-CCD23E5F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79F82-307F-437C-8C42-55B12836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C42F8-D6D7-4B28-B9A4-A80E7222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62F07-B916-406E-A643-6D6FD913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77A4F-04E7-4C08-8BCF-02ACE366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04120-7FFE-4DAB-ACA0-3397BD1C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31D1A-8699-4589-9872-6C758F08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9D85E-C4CA-4504-9890-CAF8A8D1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1ECB3-B794-47F1-80FF-1F399F40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AD591-9014-46E6-BC7F-875F6891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F3B2-CE23-4435-AFCB-A57ECC3C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374BD-55AF-430B-9C77-80F2DBD0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DC432-6957-4CFC-9BEA-35BF08DE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9C5D3-2DED-4F94-A461-A6D258E9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36E39-2C67-4465-B447-AA3E95A3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AC973-CB6B-4CD9-A277-575D23E3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11570-EE9D-49F9-98EC-637C4A31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59E36-26BB-4410-AFFB-A8102B08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B30BE-B6A4-42C3-B3A7-C93DBAD2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BCFC3-C95D-4BCF-A16D-C2DC8BB2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A7DA4-AAB2-492A-89B3-C1265425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F59E-41A5-4A44-8B1A-90D70041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B76A0-78A6-4570-AA8E-7205C154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C987C-8452-479B-A356-022453A9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9451E-BEEC-43A0-A4F5-2C7FC01C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BFAAB-9554-40C6-9EAE-B18B7AB9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40A79-6CDA-4763-8FB6-48B84555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6969C-5D16-4AA8-9ECA-BECDECB6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59E92-E574-450B-9216-8BF5FF3B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6E651-124B-429C-B35F-846AA6A0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2C031-1960-4F14-820E-D90BD7B3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F1674-E5F5-453B-BB05-571C280E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780E-C384-4D44-A5A4-838EFCD1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D7DE0-7B74-42E9-8951-076432F7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3771F-01C9-4A6D-9230-FE49DAEE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C0164-EACA-4C5C-955D-A1738499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274B0-22E6-475C-BB7A-298D75FE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0DE9D-608B-4BA2-ABB6-4D0A123F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C6F27-217C-4C15-B1D7-00F04AA6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FE08A-ACA0-4F4E-BBFE-5AA3462B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2457-27E0-44BD-961F-7F10A273930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D08E-9BD4-4B42-A795-0E893B9A4EAB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7449-D804-40A7-A1F2-9BC4A0D90F7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0942-AAA4-4552-861C-87B49882329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3B3A-AF32-4CC5-BA48-F6F3A8717DC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7CC6-92E1-472F-91DA-7DF867508A4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DB57-085C-413F-A565-6AE75D093D1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7E1E-184E-444B-A37D-CB6FD870DB5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Een eigen hui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s://www.onderhandelmakelaar.com/blog/wp-content/uploads/sites/2/2014/12/Huis-kopen.jpg"/>
          <p:cNvPicPr/>
          <p:nvPr/>
        </p:nvPicPr>
        <p:blipFill>
          <a:blip r:embed="rId2"/>
          <a:stretch/>
        </p:blipFill>
        <p:spPr>
          <a:xfrm>
            <a:off x="0" y="0"/>
            <a:ext cx="2916360" cy="2916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3" descr="http://www.duinstramakelaars.nl/wp-content/uploads/2015/05/Nu-een-huis-kopen-wel-of-niet-verstandig.jpg"/>
          <p:cNvPicPr/>
          <p:nvPr/>
        </p:nvPicPr>
        <p:blipFill>
          <a:blip r:embed="rId3"/>
          <a:stretch/>
        </p:blipFill>
        <p:spPr>
          <a:xfrm>
            <a:off x="6372360" y="0"/>
            <a:ext cx="277164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lf via het internet zoe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makelaar inschake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elke woningen er te koop zij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ook wat een redelijke prijs is voor de woning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over de prijs onderhandel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zorgen voor een rapport over de kwaliteit van de won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at er in de omgeving van de woning wel en niet gebouwd mag wor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https://www.makelaarsland.nl/Content/images/makelaarplaats-landingpage.jpg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120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s je een bestaande woning koopt, staat er achter de aankoopsom k.k. (kosten koper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 nieuwe eigenaar moet rekenen op ongeveer 6%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extra kosten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e hij zelf moet betale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Overdrachtsbelasting (2%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Kosten makela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Notariskost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Afsluiten hypotheek       enz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euwe woning kopen?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v.o.n (vrij op naam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inder extra kosten betalen! Rest wordt do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koper betaal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s://encrypted-tbn1.gstatic.com/images?q=tbn:ANd9GcSX3ginltl9DQXNYxJBgB419BT25sVNZ2Nknwu6YUdxAmwJanIv-A"/>
          <p:cNvPicPr/>
          <p:nvPr/>
        </p:nvPicPr>
        <p:blipFill>
          <a:blip r:embed="rId2"/>
          <a:stretch/>
        </p:blipFill>
        <p:spPr>
          <a:xfrm>
            <a:off x="7524720" y="5249880"/>
            <a:ext cx="1619280" cy="1608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ttp://i204.photobucket.com/albums/bb128/Binnetie/Knipsel_zps344d83ce.jpg"/>
          <p:cNvPicPr/>
          <p:nvPr/>
        </p:nvPicPr>
        <p:blipFill>
          <a:blip r:embed="rId3"/>
          <a:stretch/>
        </p:blipFill>
        <p:spPr>
          <a:xfrm>
            <a:off x="5602320" y="2637000"/>
            <a:ext cx="35416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Koper en verkoper eens over de verkoop??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voorlopig koopcontract afsluiten (meestal opgesteld door verkoper)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et klinkt een beetje gek, maar ‘voorlopig’ betekent dat je maar 3 dagen bedenktijd hebt om het contract te annuleren.  Houd dit in de gaten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a deze 3 dagen kun je niet meer zonder boete (10% van de aankoopsom) het contract opzegg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2"/>
          <p:cNvSpPr/>
          <p:nvPr/>
        </p:nvSpPr>
        <p:spPr>
          <a:xfrm>
            <a:off x="155520" y="-1881360"/>
            <a:ext cx="58863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Gerelateerde afbeelding"/>
          <p:cNvPicPr/>
          <p:nvPr/>
        </p:nvPicPr>
        <p:blipFill>
          <a:blip r:embed="rId2"/>
          <a:stretch/>
        </p:blipFill>
        <p:spPr>
          <a:xfrm>
            <a:off x="6948360" y="5397480"/>
            <a:ext cx="21956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kan ook van de koop af als je vantevore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Lucida Sans Unicode"/>
              </a:rPr>
              <a:t>ontbindende voorwaarden 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(meestal over financiering en bouwtechnische keuring) in het contract hebt opgenomen. Bijv. als je geen geld kan lenen, dat de koop niet doorgaat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definitieve koopovereenkomst wordt opgesteld door de notaris en door de koper en verkoper ondertekend. Deze overeenkomst heet de transportakt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201600" y="249120"/>
            <a:ext cx="8485200" cy="1158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http://www.beilen-notaris.nl/files/2012/07/testament.jpg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13795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http://www.groningennotaris.nl/files/2011/04/notaris.jpg"/>
          <p:cNvPicPr/>
          <p:nvPr/>
        </p:nvPicPr>
        <p:blipFill>
          <a:blip r:embed="rId3"/>
          <a:stretch/>
        </p:blipFill>
        <p:spPr>
          <a:xfrm>
            <a:off x="3203640" y="3284640"/>
            <a:ext cx="2663640" cy="9954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http://www.notarisrotterdam.com/images/transportakte.gif"/>
          <p:cNvPicPr/>
          <p:nvPr/>
        </p:nvPicPr>
        <p:blipFill>
          <a:blip r:embed="rId4"/>
          <a:stretch/>
        </p:blipFill>
        <p:spPr>
          <a:xfrm>
            <a:off x="7956720" y="5275440"/>
            <a:ext cx="118728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6" name="Picture 2" descr="http://www.wegwijs.nl/media/53832356/unnamed_558x558.jpg"/>
          <p:cNvPicPr/>
          <p:nvPr/>
        </p:nvPicPr>
        <p:blipFill>
          <a:blip r:embed="rId2"/>
          <a:stretch/>
        </p:blipFill>
        <p:spPr>
          <a:xfrm>
            <a:off x="1692360" y="0"/>
            <a:ext cx="61434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33336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eigendomsoverdracht van alle onroerende zaken vindt plaats bij de notar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notaris zorgt er vervolgens voor dat de transportakte in het kadaster wordt ingeschrev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roerende zaken = grond en alles wat daaraan vastzit (gebouwen, huizen, kantor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daster = instelling waar alle onroerende zaken in Nederland staan geregistreerd. (Hier is dus bekend van wie wat i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3:08Z</dcterms:modified>
  <cp:revision>68</cp:revision>
  <dc:subject/>
  <dc:title> </dc:title>
</cp:coreProperties>
</file>