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4EF4-3FE3-4404-994E-FEC0A10A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D2F-1ADF-40E3-A110-9B50D536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EBD1-6B84-4ADB-A40E-0D608045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1E27-011A-4FA9-9126-03C6506B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CC35-3955-47D9-897D-01E6CC9E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E1B5-32E8-4E42-830F-D0BDA6AD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B77A-E5BB-4C2A-ADD9-F3179104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AA17-BB02-4718-AA6A-01A1602C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A0EF-DFCC-4110-8D66-821BE5FA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4511-1C8C-4092-9905-7540AB14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FF8D-7C24-4FC1-91C9-85DC7AE4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0B7A-F0B7-47AB-8094-712E7010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FDEF-6A8C-4FCE-B383-1B7E3540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DED2-EBAB-4D24-8226-945E89F9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46AC-AEA7-47DB-A603-F7AAF44B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55A7-8903-44D0-9549-BD957F92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D51C-DB18-41B5-B1E2-0ACA44C3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15E8B-CAD6-4FF6-9462-C8DCCEAB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BAD33-207E-412B-83AC-17BBEFA2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B871E-00BF-4CE1-9918-9032B896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E5433-8FBE-4564-B31F-F7180CA2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A96C2-14C3-4CB2-A454-F9AC6748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7100-0327-4012-B5FE-916541AC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C707A-894D-4952-B5EB-E9CD6B7C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E08FA-E40A-467A-8CCC-3126278D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C7CB1-A9EF-4EF7-A4EA-592F56A7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5CEB6-5FC7-4D4D-842C-C8712FA4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785E3-E3D4-4863-8EFD-02D5D791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101CC-851D-4A1B-812C-FAB23E08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A6472-815E-4862-91BE-9A913512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67255-634E-461D-B55D-5264A028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9501A-AA3E-453C-9F1C-A42F48C7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75DE3-5491-4229-A13A-8E44EF4D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FA7E-EAD9-4948-BDCA-23C1881C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FB229-9970-44F4-8A16-1424A4AF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35246-4A31-4D96-B323-449E0870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9FCC3-8908-42C7-A46C-A83C764F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91AC3-3A37-4646-90A4-9D498770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9FAE3-C771-444A-9EFE-7FBD3BDF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9E94D-D61F-4498-8134-96E38D1A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FB89C-3DB5-44F3-A18E-48C50605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92B83-E5AE-4C22-8557-EC20783C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DEF60-C314-4B42-910A-019E4BEA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94D43-EA90-43C0-B30D-3B758E79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4DF-C60C-430C-9634-D6ED2896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CDA24-BF54-4C27-B3DF-B3B7B89F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6B223-6D16-41D0-8C20-E39C92F4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B9DD2-27D9-4212-8731-572027B5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25913-84D4-4982-8077-9EC91204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EB219-3D51-4ADA-8FFF-D90AF14A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2A84C-3B0F-4E8A-B608-AF9A00EA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1E2E0-8CBC-42B3-8D43-8F1CF78B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4CBB6-25DE-4989-A26B-A5CDAD68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3A9AC-6D88-4D7D-99EF-8B411AF7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88DAB-5493-4724-88CF-2A791FD7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35B8-41CC-4139-A04D-C0B46FCB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B6BDC-FABC-4C9B-BC34-7E50352C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93394-CD82-40C9-B917-9A537EE8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9A141-9E1D-4B3E-A317-430CA043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0C08B-6045-440F-BB09-0B426476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40B17-EC6C-4F91-BA07-E48A92FB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4CFA0-9302-4164-96C3-0FA5FE0E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BE363-A0FB-4FF3-88F2-CED211E6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38B0A-E986-43D2-B62A-F4741640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E52D3-D082-439A-A6EC-C2BED200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ED6EF-3FB9-4A23-BE7F-B09F552E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08D-AAF4-4EA0-8A12-3FEA9FD1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361C2-A51F-4698-BE73-95A5E541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4EE82-8A41-40EB-83F4-9887C015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D31D6-6FA7-4F8D-8FF0-8D06C051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34802-0DA2-439E-8F3A-2B9A5F85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A1CBE-03F5-45E5-9352-76CDA05F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B74F1-6034-48B3-B26C-BC383406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59859-9031-40FF-8C88-87D9956C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3CDE5-10B9-4CD8-9CD7-6CE6A3E3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95957-3C0C-4EB3-99E3-918EE87C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1AB60-E07B-4617-84F3-6A68E7C3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E84F-48B0-48E8-B9D1-672093AD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FAF3D-225D-4B79-B403-CB8C1C81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67D49-CF53-460B-8403-A8B71C1E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90076-75C2-433C-98C6-57191FF7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473F9-ABAB-41AE-9825-A3E7DE16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41806-6E35-4DEC-9478-8752E22F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2130D-943A-48D1-BC8A-E025FDDA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9DBE2-E085-4ABE-9F59-0A3F9218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8370D-B9EA-4CA8-B370-A87AC4BD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26349-DE69-4A14-8B84-6BF5DC81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42383-C7BE-42D5-A158-310C6C8A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D44-5B82-4261-8CF5-FD9C07B7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A9F11-71D2-4A1D-95E0-2AFEC4B8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89292-3F88-40BD-96E0-475255BE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D3DFB-E57F-486F-BF12-7D0F8549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1E28C-548B-4B6E-B058-FBE53C90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B3AF5-398E-4A54-ACB9-C99E2067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36A61-5209-4034-B364-D725FB29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8CF26-A0B3-4C2D-8EFD-A5C0AE90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683C-AB0D-4025-BC97-E1633BE3308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336E-AC68-4F09-BA4A-26693B2E642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2044-E030-45DC-B2D1-1E8B29F739C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9CA5-4EF2-454A-81E1-23FCE7235F1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381F-97DB-4A07-AEF1-DE6154AB0D8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5B19-1AED-44E3-9281-005C443AEE1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C0C6-92A8-409D-9B5D-613B971A71D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E0D1-42D8-4E66-9298-9DDA2230756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826920" y="103320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De woningfinancier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://www.eggebeenverzekeringen.nl/img/hypotheek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http://www.detijdnotariaat.nl/images/diensten-hypotheek.jpg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http://www.at5.nl/artikelen/163193/blindkopers_sophie_zag_haar_nieuwe_huis_pas_bij_de_sleuteloverdrach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ing voor de aankoop van een hu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eklasten: maandelijks aflossing en rent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huis geldt al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pa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e woning. Dit betekent dat wanneer de koper de hypotheeklasten niet kan betalen, dat de bank de woning verkoopt en met de opbrengst de hypotheek aflo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5"/>
          <p:cNvSpPr/>
          <p:nvPr/>
        </p:nvSpPr>
        <p:spPr>
          <a:xfrm>
            <a:off x="155520" y="-1600200"/>
            <a:ext cx="681048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6340320" y="5516640"/>
            <a:ext cx="2773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5280" y="18900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at de bank een lening verstrekt, laat de bank een deskundige de woning taxeren (= werkelijke waarde vaststell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ank wil namelijk niet meer dan de werkelijke waarde van de woning le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bank meer leent dan de woning waard is, loopt de bank het risico het geleende bedrag niet geheel terug te krijg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6" descr="Gerelateerde afbeelding"/>
          <p:cNvPicPr/>
          <p:nvPr/>
        </p:nvPicPr>
        <p:blipFill>
          <a:blip r:embed="rId1"/>
          <a:stretch/>
        </p:blipFill>
        <p:spPr>
          <a:xfrm>
            <a:off x="3348000" y="458136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het begin hebben veel mensen moeite om hun hypotheek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termijn is in het begin hoog in verhouding tot hun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ijg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makkelijker om de lasten d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l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oeilijker om de 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rkloos of arbeid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geschikt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ing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5248440" y="4149720"/>
            <a:ext cx="38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Afbeeldingsresultaat voor lineaire hypotheek"/>
          <p:cNvPicPr/>
          <p:nvPr/>
        </p:nvPicPr>
        <p:blipFill>
          <a:blip r:embed="rId3"/>
          <a:stretch/>
        </p:blipFill>
        <p:spPr>
          <a:xfrm>
            <a:off x="1403280" y="148428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abel; percentage kan op elk moment omhoog- of omlaaggaa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 jaar va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 jaar v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www.mondtadviesgroep.nl/wp-content/uploads/2013/11/belastingrente.jpg"/>
          <p:cNvPicPr/>
          <p:nvPr/>
        </p:nvPicPr>
        <p:blipFill>
          <a:blip r:embed="rId2"/>
          <a:stretch/>
        </p:blipFill>
        <p:spPr>
          <a:xfrm>
            <a:off x="4078440" y="4149720"/>
            <a:ext cx="50655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al betaalde aflossi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hogere marktwaarde van de won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oning is meer waard dan ervoor betaald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Afbeeldingsresultaat voor aflossingen"/>
          <p:cNvPicPr/>
          <p:nvPr/>
        </p:nvPicPr>
        <p:blipFill>
          <a:blip r:embed="rId2"/>
          <a:stretch/>
        </p:blipFill>
        <p:spPr>
          <a:xfrm>
            <a:off x="1979640" y="3500280"/>
            <a:ext cx="5991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4T10:14:05Z</dcterms:modified>
  <cp:revision>75</cp:revision>
  <dc:subject/>
  <dc:title> </dc:title>
</cp:coreProperties>
</file>