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C7A4-14CC-4930-9880-8B47C948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F6D3-BF20-4EE8-88D6-F3567FC9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0B33-ED83-4203-A978-FA2CD4DB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AF0A-566B-471C-B08E-6318A0C9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C1B8-9BCA-4F09-ADD7-5C94A292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5D4F-C0EC-4C2F-886B-3682969D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F969-9802-4CD8-91BF-B1DAB575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975E-05D7-4462-8657-179979BD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5203-F18C-46C4-BE3A-C98F02E9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DB59-59C9-4784-A618-27DA42B2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3313-241A-486E-9976-3C02B12A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BE74-93E5-4CC6-9041-6040998D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6B00-C77E-4B6E-A5C8-433CF4B0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CEA8-6441-46E2-A734-65402B22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A9A4-2653-4F7A-BE4B-2B764886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63E2-E8EE-4914-90A9-867B34EB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7D4B-59E7-4569-8FA0-A3A8F0A0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180C6-F31E-4721-B396-40E43A918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63409-63BF-4107-929F-709AAACD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398DF-7063-40F9-890F-14EA1AFF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5EB82-B2B3-4144-A04F-26E1DA1A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895F5-7E09-4C43-AE5C-284F2C4F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E7EF-9DF4-4E4C-8F97-8F7D8C84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BEE50-E6FB-4A6D-B808-C852A605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6F2C9-3674-45CC-BFC1-0A04D2B3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4BE42-0249-4A70-9148-B5E0165D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18208-0F95-46F6-AE32-CCA0BD9D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5CCCA-4045-472B-A509-9519A180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15BF8-9C78-4F5E-A9D9-9A179AFE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A1111-6C96-43E4-A4D4-015DAFAD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DFD6B-5997-4C6A-8F89-90AAAE29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CDAF1-E305-4997-9A66-5E0C2280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BBE82-4A5B-4915-BCB7-AFC3C52A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25A9-427C-4529-BA6F-B7A7DE8F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C27C9-53AD-453F-AACC-BC205E77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32BF0-D73A-432C-903B-5C550D11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A1DD7-3306-49E0-8060-1983F098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BAE69-C1A4-4CC2-A6CD-E5E34607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428EC-CF4E-4BD4-A131-AE054169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496CE-C5D9-443E-9A5D-5D9E9937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3DB43-52EC-4715-AAEB-C003E6F6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FDF0E-0A29-43A4-855A-56B76109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5F4C1-C754-412A-A681-8CD71490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8567A-B51F-4B47-ACE8-B900818E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11A1-1DCB-4953-A3FC-692F7C28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69805-AB6B-4FDD-9463-E9B5125F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89AD5-7CC1-4122-B0A9-CA663A62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BE37A-2CCA-43D9-82AA-E3E74418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A3EC1-CD5B-419C-BF1C-86F90BF4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9ED75-7FE5-483F-AB6E-B29AE4A2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9CF02-5768-47C2-91CF-A21D31B7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32D78-7F5C-4F2B-8324-2A94CCE6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EC1ED-A4B0-49B7-9635-00B10F3D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C45B5-BE3F-4F3B-A801-9A1AF3D8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6F33A-4D19-4F72-BC37-DFB4ACC7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B1BC-8C3B-4E9B-8577-DCC8858C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E55AC-4CC2-4E29-9576-26B2316D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A452A-1024-4B39-9ECE-BF52227D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A5AFB-03ED-4684-B546-26E9DA69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59AA8-37E2-47DC-85E0-6BABE484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850CD-5DAC-4648-A613-E903664C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A9D5E-32BC-4FE3-80F6-24623ADC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CB0B4-5CF7-4A94-A3D3-694A2265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6F333-C171-4AD1-9D87-C7FE6D7C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1B66E-A122-4D0A-97D3-DA997623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65965-AD72-42BC-9837-ED7ACD87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9653-841D-4F48-B80B-28B75B49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E7107-ADCB-4818-880E-9B89FC7D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ED9DB-6B93-4AF6-BCB8-C1BC2E43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D9592-14E8-4829-9B02-C682A507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907B4-6EAD-4FC4-97DE-611D470D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B2510-C8AC-484B-B46E-1D957E1E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D45F2-667A-4252-978C-C2900F14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A2989-D998-4C56-9F03-AD2E1DBD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08C8B-1801-4A3A-A3DD-2F17445F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A87B5-8B1E-4066-90A9-9CE240F6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9D9E5-0EBB-4627-88B1-869B7D71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64D-6534-4D92-A2DF-D7F9FE61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F75EA-FD80-42DE-9FF2-B1924093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6F18D-13D1-4447-AD79-A7A8FDEE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4331E-7E26-412A-960D-DA86D120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AA821-DDDC-4BCA-A8FD-AD89312E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89A7C-697B-4722-8123-937D43E8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6423E-6D9A-4CBC-BA7B-E417E278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1EE43-CF9E-405C-9492-E80B2774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31148-B067-40AF-B6B1-0928D886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15B92-85C4-4B2B-AA04-E3CABB38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44370-0507-41C4-99C5-0C584243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3D6D-F126-4D31-80E6-D4EB0BF4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04836-A112-4254-8AF7-D1C06E0D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539A7-12BA-404F-8FCF-07FFC9A9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137E4-7265-4724-9EAE-443C54EC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8CDF3-C5E6-4A05-987D-8EA54A64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82A98-8D87-4690-9460-2279EF79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8E0C2-B133-4325-AF10-FCA1DC88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E14A1-EB37-4141-A3D4-9ED34D35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AF3E-FAAA-42D1-8E09-E5417636BF0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39A0-5AAF-4798-9EA1-DF511FB6C703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3CCD-5DE1-481A-A654-696F5C80DB5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3647-813B-42E0-904D-403ACD85B68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3F4E-B7AB-4A96-9ECD-A1727098E03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12E3-C9D7-498D-B1E7-A942F24F2E8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D51F-A37A-48BF-8DC8-6C98AACE71F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BC91-30A3-4AF5-AABF-674ADC07AD9B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ren of kope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huren of kopen"/>
          <p:cNvPicPr/>
          <p:nvPr/>
        </p:nvPicPr>
        <p:blipFill>
          <a:blip r:embed="rId2"/>
          <a:stretch/>
        </p:blipFill>
        <p:spPr>
          <a:xfrm>
            <a:off x="-11160" y="-22320"/>
            <a:ext cx="31672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539640" y="1341360"/>
          <a:ext cx="7442280" cy="4343400"/>
        </p:xfrm>
        <a:graphic>
          <a:graphicData uri="http://schemas.openxmlformats.org/drawingml/2006/table">
            <a:tbl>
              <a:tblPr/>
              <a:tblGrid>
                <a:gridCol w="4057920"/>
                <a:gridCol w="3384360"/>
              </a:tblGrid>
              <a:tr h="57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ettelijke huurbescherming (verhuurder kan je niet zomaar op straat zet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het huis niet verbeteren zoals jij w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in aanmerking komen voor huurtoesl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aarlijkse huurverhoging (op 1 jul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urcontract kan binnen korte tijd opgezegd worden (gemakkelijker verhuiz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een opbouw eigen verm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14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iet verantwoordelijk voor groot onderhoud (verhuurder betaalt dit); voorbeelden zijn: rotte kozijnen, lekkende dakgoten, tochtende ramen en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611280" y="1268280"/>
          <a:ext cx="7705800" cy="4845240"/>
        </p:xfrm>
        <a:graphic>
          <a:graphicData uri="http://schemas.openxmlformats.org/drawingml/2006/table">
            <a:tbl>
              <a:tblPr/>
              <a:tblGrid>
                <a:gridCol w="4200480"/>
                <a:gridCol w="3505320"/>
              </a:tblGrid>
              <a:tr h="47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20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oning aanpassen aan eigen woonwen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erhuizen is lastiger (eerst huis verkopen tegen een goede prijs en dan een geschikte woning vinden voor een redelijke prij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s de rente niet omhoog gaat, zijn de hypotheeklasten stabiel (= gelij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et is niet van tevoren bekend of de rente omhoog gaat (en dus ook de hypotheeklas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oor af te lossen bouw je eigen vermogen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Zelf aansprakelijk voor groot onderho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is kan in waarde da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xtra belastingen en heffingen. Bijvoorbeeld onroerende zaakbelasting en opstalverzekering (= verzekering van het huis tegen storm- en brandscha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zelf het klein onderhou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inboedelverzekering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Afbeeldingsresultaat voor inboedelverzekering"/>
          <p:cNvPicPr/>
          <p:nvPr/>
        </p:nvPicPr>
        <p:blipFill>
          <a:blip r:embed="rId2"/>
          <a:stretch/>
        </p:blipFill>
        <p:spPr>
          <a:xfrm>
            <a:off x="3851280" y="4822920"/>
            <a:ext cx="5291280" cy="2035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Afbeeldingsresultaat voor klein onderhoud woning"/>
          <p:cNvPicPr/>
          <p:nvPr/>
        </p:nvPicPr>
        <p:blipFill>
          <a:blip r:embed="rId3"/>
          <a:stretch/>
        </p:blipFill>
        <p:spPr>
          <a:xfrm>
            <a:off x="6450120" y="2276640"/>
            <a:ext cx="26636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5T16:16:24Z</dcterms:modified>
  <cp:revision>69</cp:revision>
  <dc:subject/>
  <dc:title> </dc:title>
</cp:coreProperties>
</file>