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24.jpeg" ContentType="image/jpeg"/>
  <Override PartName="/ppt/media/image22.png" ContentType="image/png"/>
  <Override PartName="/ppt/media/image23.png" ContentType="image/png"/>
  <Override PartName="/ppt/media/image28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5.jpeg" ContentType="image/jpeg"/>
  <Override PartName="/ppt/media/image27.jpeg" ContentType="image/jpeg"/>
  <Override PartName="/ppt/media/image6.jpeg" ContentType="image/jpeg"/>
  <Override PartName="/ppt/media/image33.jpeg" ContentType="image/jpeg"/>
  <Override PartName="/ppt/media/image7.png" ContentType="image/png"/>
  <Override PartName="/ppt/media/image11.jpeg" ContentType="image/jpeg"/>
  <Override PartName="/ppt/media/image13.png" ContentType="image/png"/>
  <Override PartName="/ppt/media/image30.jpeg" ContentType="image/jpeg"/>
  <Override PartName="/ppt/media/image31.jpeg" ContentType="image/jpeg"/>
  <Override PartName="/ppt/media/image2.png" ContentType="image/png"/>
  <Override PartName="/ppt/media/image25.png" ContentType="image/png"/>
  <Override PartName="/ppt/media/image9.png" ContentType="image/png"/>
  <Override PartName="/ppt/media/image12.jpeg" ContentType="image/jpeg"/>
  <Override PartName="/ppt/media/image4.png" ContentType="image/png"/>
  <Override PartName="/ppt/media/image3.png" ContentType="image/png"/>
  <Override PartName="/ppt/media/image26.png" ContentType="image/png"/>
  <Override PartName="/ppt/media/image1.png" ContentType="image/png"/>
  <Override PartName="/ppt/media/image14.jpeg" ContentType="image/jpeg"/>
  <Override PartName="/ppt/media/image15.jpeg" ContentType="image/jpeg"/>
  <Override PartName="/ppt/media/image16.png" ContentType="image/png"/>
  <Override PartName="/ppt/media/image32.jpeg" ContentType="image/jpeg"/>
  <Override PartName="/ppt/media/image17.png" ContentType="image/png"/>
  <Override PartName="/ppt/media/image18.jpeg" ContentType="image/jpeg"/>
  <Override PartName="/ppt/media/image19.png" ContentType="image/png"/>
  <Override PartName="/ppt/media/image21.png" ContentType="image/png"/>
  <Override PartName="/ppt/media/image20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D0E92-92E9-410C-91D6-79912808B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75DDC-3A8B-4D16-8E8D-5DC1E51F4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C0E30-D7E9-41D8-85BF-33CEED278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6DBB1-7E62-4698-8DC5-A4002AC41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5C23F-1C9C-4495-9E0F-8B71A914B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0752C-7E68-4DBF-BEF3-4D16FAC02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D3A7A-05C9-4E42-BA02-5C6F61307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C148F-152D-406F-B896-E608E79BD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C2AF2-C0D9-4B17-872A-8CC634661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1181B-4E1C-459E-BC28-467140088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A9CD2-1E52-4C13-AECB-DF2B246DD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9C5B2-EDA4-43F1-BDC4-68A05E187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0F4E2-E2E0-4C02-8212-DE4B814AA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29E12-202E-447B-BF4A-CF94DB0D4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D2EA6-6D2F-4357-B4B5-F7F3F1DE7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5B63F-B54A-48C5-A66E-51E3C0ABD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80420-D74C-4164-B185-58218474C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24291F-8D59-4EBA-8608-A8B851598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60C70C-1736-4576-808F-89B6D0DDF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7961CC-7668-4497-A383-F8BAE579F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904D59-0CD4-4C4B-9D29-88421DDFA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0CEA70-13E2-4E0E-ADF4-8AF17016C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01731-ED19-4F76-8A09-D46452DE1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10F050-6BE7-4442-8B9E-AD7DFB873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D44333-86F9-465B-B04D-78709D107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F42E2D-3F88-4CA7-B189-51BDEFF74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7D0D07-EBA7-4E8B-93FA-BECB05221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372703-A4A3-48A7-B77F-BB80A4097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D0AF79-3063-4BF6-9A19-CD65B0C06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EEF3F7-3988-436D-A6F3-83A3CBBB7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559238-88AE-4125-834F-BF920D212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90BD5F-1167-44FF-854A-D0A8BACD1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DDBB88-2B51-487A-A69E-1FF7B36CF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A3DC3-A3DF-4B16-96F9-8D900B0C1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DA0779-6C2A-4AEC-8C31-14F8AD1A9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1F0AD3-0D46-49B6-8942-F8D8403B5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C3A121-29A7-481F-BAF2-C3B4E80BD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1CD538-08A0-4834-A4D9-43E6892B8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6354FF-27DC-4E09-B05D-1EB6E62D8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6E6A7D-9752-49C0-B455-953E0CEE9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8BFB15-55AC-4B12-BCB7-24D0D9673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D52491-0987-4BCE-A1A2-3D08143C3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D68247-F6C2-4121-8409-D908033E1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756E6C-E062-43F3-92A8-7D6CAF6B9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C77B6-7974-4640-A496-F0C32404D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C6920F-45DF-46BF-91E9-ADE78D581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C7902A-348D-47BF-8758-C2FB9B9F3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E7A7DD-B0FE-4C87-845C-1F342B57C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E97DEF-8238-449B-A577-47CEDDD52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002423-8D08-49A9-A76F-E1DF788AA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17EE25-246B-42F5-B9BC-E713A3AB1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F08D58-F9B6-4150-B651-FBD93C60F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6A605F-2F0B-4A39-8040-DDEADC3EC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32A500-9C67-43FE-A976-247130E62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87AF55-7BCB-4F8C-9B46-04585BF3D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1F866-69A2-4CF2-989A-D49A3EF17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A77939-519C-4CE1-845C-FA8CE9DD9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8789E7-6F21-46B2-B112-2AD902602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252A2E-D7CC-46DA-B890-A2FAB9CEB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D19C0C-E9CD-4A1A-AD32-7FD4E8F15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BB350A-CEB2-4890-9245-4C273E509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826944-3DA5-492B-B59A-DA1BAE002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5996BB-866C-426F-922A-CD5FB7924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EAF50C-C558-4D77-9A9C-D1DBCFDE6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185FBB-2ABC-447C-AFBE-6FB8E5C48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76D1DF-5988-436F-A8A9-5B39F32AA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A063B-B263-4684-89B8-09615B9AF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E574A3-9C0D-4246-A916-9394F0291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E0FE01-F2B1-4FF2-804C-30C0D9E0B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BEAD84-38EE-48BC-9F89-7D20F4A8C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BAF1EB-BBA6-43DC-AEE8-5273341E7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9BD0DF-5712-4E75-9EDB-C7CBBC17C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1E1194-83FE-41D8-A219-7414E7702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A6D2F4-8B44-48CD-B6F5-2FC637450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8052C2-9CAA-402F-A7D6-BC328DCA6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18748A-8759-469D-B2E6-8C65B92F8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3B14B8-CAD9-4E23-8B4A-0FC3FFBD3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694FB-2174-4113-828B-C2F8FC0B3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BA8DE4-873B-4F5D-98EB-D7643C7B3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B388D8-03ED-4160-AE34-34FEB9853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799268-D96B-4ABA-B483-65F9A0A53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1C2989-582E-4EBA-937B-905C562F9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18792A-6796-448A-AA50-988E97C22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2269C9-91F4-4110-9342-98F1A6091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57E116-B9E4-4D7A-8DA4-0D4F9631C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016810-59D3-4F82-95FC-12785F536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FBDA65-6A16-419B-B1A2-F7ED68660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EC2A86-D409-46C6-9E18-7DF5586B7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0E59F-0273-429E-AA5F-72524B85D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96C20D-EB17-4495-BF1C-230F2E8D1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9CE705-9A4B-4F02-B65C-43549FF54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F296BB-1FB0-430A-9789-C2B1B0649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20B038-BAEF-45A8-AA90-571CBDB47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398BF6-B1D5-47BB-B3A8-82DCB4558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BC2D0D-35FA-43A3-BFD4-5FD5942F8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B32485-DD98-4B3A-9D1A-99DD3089C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echthoekige driehoek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Rechte verbindingslijn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66C9A-46AF-49A0-BF92-A2DD643AEFAB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hthoekige driehoek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e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Vrije vorm 15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Vrije vorm 18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Vrije vorm 18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Vrije vorm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Rechte verbindingslijn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D41B9-49B4-4EDE-A152-896C362FE5F0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Punthaak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unthaak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4989F-ABAF-4EE1-A9CA-5AC00EC4FA41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6EC98-D4B1-4565-B1DE-FB5A0596DCBF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30132-3753-4288-AEC8-5DAD11C57809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FEA35-6715-44E6-BA3D-31B0FF71CDEE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ECD6E-B461-44EF-A109-CC056CEFAF4C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Vrije v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Vrije v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echthoekige driehoek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Rechthoekige driehoek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Rechte verbindingslijn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Punthaak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unthaak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FE144-A3CA-4804-BB9C-BAE128CBFEBB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woningnet.nl/" TargetMode="External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30.jpeg"/><Relationship Id="rId6" Type="http://schemas.openxmlformats.org/officeDocument/2006/relationships/image" Target="../media/image31.jpeg"/><Relationship Id="rId7" Type="http://schemas.openxmlformats.org/officeDocument/2006/relationships/image" Target="../media/image32.jpeg"/><Relationship Id="rId8" Type="http://schemas.openxmlformats.org/officeDocument/2006/relationships/image" Target="../media/image33.jpe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el 1" descr=""/>
          <p:cNvPicPr/>
          <p:nvPr/>
        </p:nvPicPr>
        <p:blipFill>
          <a:blip r:embed="rId1"/>
          <a:stretch/>
        </p:blipFill>
        <p:spPr>
          <a:xfrm>
            <a:off x="689040" y="1755720"/>
            <a:ext cx="7772400" cy="18288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755640" y="1125360"/>
            <a:ext cx="7772400" cy="3686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Lucida Sans Unicode"/>
              </a:rPr>
              <a:t>ECONOMIE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Paragraaf 4.1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Huur en verhuur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2" name="AutoShape 6"/>
          <p:cNvSpPr/>
          <p:nvPr/>
        </p:nvSpPr>
        <p:spPr>
          <a:xfrm>
            <a:off x="155520" y="-2095560"/>
            <a:ext cx="6991560" cy="43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AutoShape 8"/>
          <p:cNvSpPr/>
          <p:nvPr/>
        </p:nvSpPr>
        <p:spPr>
          <a:xfrm>
            <a:off x="307800" y="-1943280"/>
            <a:ext cx="6991560" cy="43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AutoShape 10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AutoShape 12"/>
          <p:cNvSpPr/>
          <p:nvPr/>
        </p:nvSpPr>
        <p:spPr>
          <a:xfrm>
            <a:off x="216000" y="1584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Picture 14" descr="http://www.cie.nl/media/W1siZiIsIjIwMTMvMDkvMDMvMDgvNDYvNTgvOTcyLzA1MDE2X1dhdGVybGFuZHBsZWluXzAxLmpwZyJdXQ/05016_Waterlandplein_01.jpg"/>
          <p:cNvPicPr/>
          <p:nvPr/>
        </p:nvPicPr>
        <p:blipFill>
          <a:blip r:embed="rId2"/>
          <a:stretch/>
        </p:blipFill>
        <p:spPr>
          <a:xfrm>
            <a:off x="0" y="0"/>
            <a:ext cx="3203640" cy="20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 txBox="1"/>
          <p:nvPr/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31920" indent="-2325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In de laatste jaren </a:t>
            </a:r>
            <a:r>
              <a:rPr b="0" lang="nl-NL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groot tekort aan huurkamers en betaalbare huurwoningen, omdat de vraag </a:t>
            </a:r>
            <a:r>
              <a:rPr b="1" lang="nl-NL" sz="2700" spc="-1" strike="noStrike">
                <a:solidFill>
                  <a:srgbClr val="000000"/>
                </a:solidFill>
                <a:latin typeface="Lucida Sans Unicode"/>
              </a:rPr>
              <a:t>groter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is dan het aanbod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31920" indent="-2325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31920" indent="-2325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31920" indent="-2325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Gevolg </a:t>
            </a:r>
            <a:r>
              <a:rPr b="0" lang="nl-NL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hoge prijzen!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31920" indent="-2325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31920" indent="-2325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700" spc="-1" strike="noStrike">
                <a:solidFill>
                  <a:srgbClr val="000000"/>
                </a:solidFill>
                <a:latin typeface="Lucida Sans Unicode"/>
              </a:rPr>
              <a:t>Sociale huurwoningen </a:t>
            </a:r>
            <a:r>
              <a:rPr b="0" lang="nl-NL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bedoeld voor mensen met een laag inkomen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31920" indent="-2325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700" spc="-1" strike="noStrike">
                <a:solidFill>
                  <a:srgbClr val="000000"/>
                </a:solidFill>
                <a:latin typeface="Lucida Sans Unicode"/>
              </a:rPr>
              <a:t>Vrije sector woningen </a:t>
            </a:r>
            <a:r>
              <a:rPr b="0" lang="nl-NL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bedoeld voor mensen met hogere inkomen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8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379" name="PIJL-OMLAAG 4"/>
          <p:cNvSpPr/>
          <p:nvPr/>
        </p:nvSpPr>
        <p:spPr>
          <a:xfrm>
            <a:off x="3924360" y="2455920"/>
            <a:ext cx="503280" cy="863640"/>
          </a:xfrm>
          <a:prstGeom prst="downArrow">
            <a:avLst>
              <a:gd name="adj1" fmla="val 50000"/>
              <a:gd name="adj2" fmla="val 49995"/>
            </a:avLst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AutoShape 2"/>
          <p:cNvSpPr/>
          <p:nvPr/>
        </p:nvSpPr>
        <p:spPr>
          <a:xfrm>
            <a:off x="63360" y="-136440"/>
            <a:ext cx="321012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Picture 4" descr="Gerelateerde afbeelding"/>
          <p:cNvPicPr/>
          <p:nvPr/>
        </p:nvPicPr>
        <p:blipFill>
          <a:blip r:embed="rId2"/>
          <a:stretch/>
        </p:blipFill>
        <p:spPr>
          <a:xfrm>
            <a:off x="7040520" y="0"/>
            <a:ext cx="2131920" cy="126828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6" descr="http://www.woonnieuws.nl/files/image/61"/>
          <p:cNvPicPr/>
          <p:nvPr/>
        </p:nvPicPr>
        <p:blipFill>
          <a:blip r:embed="rId3"/>
          <a:stretch/>
        </p:blipFill>
        <p:spPr>
          <a:xfrm>
            <a:off x="6156360" y="2637000"/>
            <a:ext cx="2482920" cy="171108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8" descr="http://www.wv.nl/typo3temp/pics/Label_vrije_sector_10_cm_RGB_1f993fb23a.jpg"/>
          <p:cNvPicPr/>
          <p:nvPr/>
        </p:nvPicPr>
        <p:blipFill>
          <a:blip r:embed="rId4"/>
          <a:stretch/>
        </p:blipFill>
        <p:spPr>
          <a:xfrm>
            <a:off x="7496280" y="5210280"/>
            <a:ext cx="1647720" cy="16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Ander woord </a:t>
            </a:r>
            <a:r>
              <a:rPr b="0" lang="nl-NL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huurovereenkomst. Hieruit vloeien rechten en plichte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700" spc="-1" strike="noStrike">
                <a:solidFill>
                  <a:srgbClr val="000000"/>
                </a:solidFill>
                <a:latin typeface="Lucida Sans Unicode"/>
              </a:rPr>
              <a:t>Recht verhuurder: 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huurbedrag op tijd krijge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700" spc="-1" strike="noStrike">
                <a:solidFill>
                  <a:srgbClr val="000000"/>
                </a:solidFill>
                <a:latin typeface="Lucida Sans Unicode"/>
              </a:rPr>
              <a:t>Plichten verhuurder: 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woning in goede staat opleveren en onderhoude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700" spc="-1" strike="noStrike">
                <a:solidFill>
                  <a:srgbClr val="000000"/>
                </a:solidFill>
                <a:latin typeface="Lucida Sans Unicode"/>
              </a:rPr>
              <a:t>Recht huurder: 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privacy en ongestoord woongeno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700" spc="-1" strike="noStrike">
                <a:solidFill>
                  <a:srgbClr val="000000"/>
                </a:solidFill>
                <a:latin typeface="Lucida Sans Unicode"/>
              </a:rPr>
              <a:t>Plicht huurder: 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de huur op tijd betale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5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386" name="AutoShape 2"/>
          <p:cNvSpPr/>
          <p:nvPr/>
        </p:nvSpPr>
        <p:spPr>
          <a:xfrm>
            <a:off x="155520" y="-2468520"/>
            <a:ext cx="6095880" cy="51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Picture 4" descr="Gerelateerde afbeelding"/>
          <p:cNvPicPr/>
          <p:nvPr/>
        </p:nvPicPr>
        <p:blipFill>
          <a:blip r:embed="rId2"/>
          <a:stretch/>
        </p:blipFill>
        <p:spPr>
          <a:xfrm>
            <a:off x="7308720" y="-54000"/>
            <a:ext cx="1835280" cy="154944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6" descr="http://www.psychologiepraktijkberingen.nl/images/praktijkregels.jpg"/>
          <p:cNvPicPr/>
          <p:nvPr/>
        </p:nvPicPr>
        <p:blipFill>
          <a:blip r:embed="rId3"/>
          <a:stretch/>
        </p:blipFill>
        <p:spPr>
          <a:xfrm>
            <a:off x="7385040" y="5229360"/>
            <a:ext cx="1735200" cy="162864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8" descr="http://www.watzijnkinderrechten.be/oorsprong/_img/oorsprongwat.gif"/>
          <p:cNvPicPr/>
          <p:nvPr/>
        </p:nvPicPr>
        <p:blipFill>
          <a:blip r:embed="rId4"/>
          <a:stretch/>
        </p:blipFill>
        <p:spPr>
          <a:xfrm>
            <a:off x="7554960" y="3662280"/>
            <a:ext cx="1539720" cy="12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Huurbedrag moet in verhouding zijn met de kwaliteit van de woning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Hoe meer luxe en hoe mooier de omgeving, hoe hoger de huur </a:t>
            </a:r>
            <a:r>
              <a:rPr b="1" lang="nl-NL" sz="2700" spc="-1" strike="noStrike">
                <a:solidFill>
                  <a:srgbClr val="000000"/>
                </a:solidFill>
                <a:latin typeface="Lucida Sans Unicode"/>
              </a:rPr>
              <a:t>mag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zijn!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Prijzen vaststellen </a:t>
            </a:r>
            <a:r>
              <a:rPr b="0" lang="nl-NL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gebruik maken van landelijk puntensysteem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1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392" name="AutoShape 2"/>
          <p:cNvSpPr/>
          <p:nvPr/>
        </p:nvSpPr>
        <p:spPr>
          <a:xfrm>
            <a:off x="63360" y="-136440"/>
            <a:ext cx="3695760" cy="23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3" name="Picture 4" descr="Gerelateerde afbeelding"/>
          <p:cNvPicPr/>
          <p:nvPr/>
        </p:nvPicPr>
        <p:blipFill>
          <a:blip r:embed="rId2"/>
          <a:stretch/>
        </p:blipFill>
        <p:spPr>
          <a:xfrm>
            <a:off x="5435640" y="4564080"/>
            <a:ext cx="3681360" cy="22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Houden aan opzegtermij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Huurder houdt zich niet aan huurcontrac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Woning in </a:t>
            </a:r>
            <a:r>
              <a:rPr b="0" lang="nl-NL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oorspronkelijke staat 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terugbrenge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Verkoop breekt geen huu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Dood breekt geen huu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5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2" descr=""/>
          <p:cNvPicPr/>
          <p:nvPr/>
        </p:nvPicPr>
        <p:blipFill>
          <a:blip r:embed="rId2"/>
          <a:stretch/>
        </p:blipFill>
        <p:spPr>
          <a:xfrm>
            <a:off x="5386320" y="4221000"/>
            <a:ext cx="3710160" cy="261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18 jaar geworden? </a:t>
            </a:r>
            <a:r>
              <a:rPr b="0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direct schrijven op </a:t>
            </a:r>
            <a:r>
              <a:rPr b="0" lang="en-US" sz="2700" spc="-1" strike="noStrike" u="sng">
                <a:solidFill>
                  <a:srgbClr val="ff8119"/>
                </a:solidFill>
                <a:uFillTx/>
                <a:latin typeface="Lucida Sans Unicode"/>
                <a:hlinkClick r:id="rId1"/>
              </a:rPr>
              <a:t>www.woningnet.nl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(eenmalig 50 euro betalen en daarna jaarlijks 10 euro verlengingskosten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achttijd voor betaalbare huurwoningen is lang, omdat de vraag naar deze huurwoningen groter is dan het aanbod hiervan. De prijzen liggen hierdoor ook hoog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8" name="Titel 2" descr=""/>
          <p:cNvPicPr/>
          <p:nvPr/>
        </p:nvPicPr>
        <p:blipFill>
          <a:blip r:embed="rId2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399" name="AutoShape 5"/>
          <p:cNvSpPr/>
          <p:nvPr/>
        </p:nvSpPr>
        <p:spPr>
          <a:xfrm>
            <a:off x="155520" y="-677880"/>
            <a:ext cx="184788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AutoShape 7"/>
          <p:cNvSpPr/>
          <p:nvPr/>
        </p:nvSpPr>
        <p:spPr>
          <a:xfrm>
            <a:off x="155520" y="-677880"/>
            <a:ext cx="184788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9" descr="Gerelateerde afbeelding"/>
          <p:cNvPicPr/>
          <p:nvPr/>
        </p:nvPicPr>
        <p:blipFill>
          <a:blip r:embed="rId3"/>
          <a:stretch/>
        </p:blipFill>
        <p:spPr>
          <a:xfrm>
            <a:off x="5867280" y="2421000"/>
            <a:ext cx="2160720" cy="16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ensen met een 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laag inkomen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en die in een huurwoning wonen met een 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huurbedrag dat ligt tussen de minimale en de maximale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huurgrens, krijgen huurtoeslag van de overheid, als hulp in de huurlaste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onen </a:t>
            </a:r>
            <a:r>
              <a:rPr b="0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basisbehoeft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3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2" descr="http://stuworld.nl/uploads/content/Wie%20krijgt%20huurtoeslag_600x266.jpg"/>
          <p:cNvPicPr/>
          <p:nvPr/>
        </p:nvPicPr>
        <p:blipFill>
          <a:blip r:embed="rId2"/>
          <a:stretch/>
        </p:blipFill>
        <p:spPr>
          <a:xfrm>
            <a:off x="1403280" y="4508640"/>
            <a:ext cx="3203640" cy="142056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3" descr=""/>
          <p:cNvPicPr/>
          <p:nvPr/>
        </p:nvPicPr>
        <p:blipFill>
          <a:blip r:embed="rId3"/>
          <a:stretch/>
        </p:blipFill>
        <p:spPr>
          <a:xfrm>
            <a:off x="5000760" y="3860640"/>
            <a:ext cx="4143240" cy="29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Klein onderhoud (wordt door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                             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huurder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betaald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Onderhoud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Groot onderhoud (wordt door              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                             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verhuurder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betaald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7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cxnSp>
        <p:nvCxnSpPr>
          <p:cNvPr id="408" name="Rechte verbindingslijn met pijl 4"/>
          <p:cNvCxnSpPr/>
          <p:nvPr/>
        </p:nvCxnSpPr>
        <p:spPr>
          <a:xfrm flipV="1">
            <a:off x="2987640" y="2275920"/>
            <a:ext cx="721440" cy="108180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cxnSp>
        <p:nvCxnSpPr>
          <p:cNvPr id="409" name="Rechte verbindingslijn met pijl 7"/>
          <p:cNvCxnSpPr/>
          <p:nvPr/>
        </p:nvCxnSpPr>
        <p:spPr>
          <a:xfrm>
            <a:off x="2987280" y="3357720"/>
            <a:ext cx="577080" cy="108000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pic>
        <p:nvPicPr>
          <p:cNvPr id="410" name="Picture 9" descr="http://www.derietdekker.nl/images/user/nieuw-rieten-dak/inspectie-rieten-dak.jpg"/>
          <p:cNvPicPr/>
          <p:nvPr/>
        </p:nvPicPr>
        <p:blipFill>
          <a:blip r:embed="rId2"/>
          <a:stretch/>
        </p:blipFill>
        <p:spPr>
          <a:xfrm>
            <a:off x="1042920" y="3716280"/>
            <a:ext cx="1513080" cy="169380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13" descr="http://ohsosteffi.files.wordpress.com/2014/04/dsc_0421.jpg"/>
          <p:cNvPicPr/>
          <p:nvPr/>
        </p:nvPicPr>
        <p:blipFill>
          <a:blip r:embed="rId3"/>
          <a:stretch/>
        </p:blipFill>
        <p:spPr>
          <a:xfrm>
            <a:off x="6593040" y="0"/>
            <a:ext cx="2550960" cy="170028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17" descr="http://www.vanloonschilderwerken.nl/wp-content/uploads/2013/03/Buitenschilderwerk-Halsteren.jpg"/>
          <p:cNvPicPr/>
          <p:nvPr/>
        </p:nvPicPr>
        <p:blipFill>
          <a:blip r:embed="rId4"/>
          <a:stretch/>
        </p:blipFill>
        <p:spPr>
          <a:xfrm>
            <a:off x="6873840" y="5157720"/>
            <a:ext cx="2270160" cy="170028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19" descr="http://www.klusidee.nl/Forum/userpix/91339_2vv2u7q_2.jpg"/>
          <p:cNvPicPr/>
          <p:nvPr/>
        </p:nvPicPr>
        <p:blipFill>
          <a:blip r:embed="rId5"/>
          <a:stretch/>
        </p:blipFill>
        <p:spPr>
          <a:xfrm>
            <a:off x="4716360" y="5183280"/>
            <a:ext cx="2232000" cy="167472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21" descr="https://static.karwei.nl/medias/sys_master/h39/h17/8796287827998.jpg"/>
          <p:cNvPicPr/>
          <p:nvPr/>
        </p:nvPicPr>
        <p:blipFill>
          <a:blip r:embed="rId6"/>
          <a:stretch/>
        </p:blipFill>
        <p:spPr>
          <a:xfrm>
            <a:off x="5126040" y="0"/>
            <a:ext cx="1444680" cy="170028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23" descr="http://www.fantv.nl/images/stories/klus/behangen.jpg"/>
          <p:cNvPicPr/>
          <p:nvPr/>
        </p:nvPicPr>
        <p:blipFill>
          <a:blip r:embed="rId7"/>
          <a:stretch/>
        </p:blipFill>
        <p:spPr>
          <a:xfrm>
            <a:off x="3492360" y="0"/>
            <a:ext cx="1659240" cy="170028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25" descr="http://www.zkkf.nl/foto/zelf-kozijnen-monteren/plaatsen_kunststof_kozijnen.jpg"/>
          <p:cNvPicPr/>
          <p:nvPr/>
        </p:nvPicPr>
        <p:blipFill>
          <a:blip r:embed="rId8"/>
          <a:stretch/>
        </p:blipFill>
        <p:spPr>
          <a:xfrm>
            <a:off x="2484360" y="5165640"/>
            <a:ext cx="2249640" cy="16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1T14:51:49Z</dcterms:created>
  <dc:creator>rachid</dc:creator>
  <dc:description/>
  <dc:language>en-US</dc:language>
  <cp:lastModifiedBy>Rachid Hamdi</cp:lastModifiedBy>
  <dcterms:modified xsi:type="dcterms:W3CDTF">2016-12-07T10:55:26Z</dcterms:modified>
  <cp:revision>61</cp:revision>
  <dc:subject/>
  <dc:title> </dc:title>
</cp:coreProperties>
</file>