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5A3E-D22F-4BD5-AC5E-552006AC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0850-BCA2-436C-B468-8794D5F6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388-BEDB-4F8F-8720-113473B5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FF95-FCDB-4116-BE2E-32935918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6745-BAEE-48FA-BE2F-98B22EA9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79FE-6780-4961-90F2-DF0DE4B3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B5AF-B34A-4924-9476-D3381681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52D2-47A6-4FEB-A55F-378C0F86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AF43-917F-481E-A8FE-C843E45C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1813-E2AB-494C-8B9F-B3C2E7F6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C660-4C99-494F-AA6C-C8D1D961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A481-F260-4BAE-973B-83778026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8223-7475-4ADA-BAAD-2EA953C6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D311-1C17-4422-BFAF-5967E6DC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19B5-3283-4702-AC8A-97592370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98DD-07F7-48AB-878F-84990D88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0F4C-1031-41F4-92CD-B3C7C3EA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F5056-291A-433C-914B-4AD1038F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564AC-1431-459C-909E-54C43759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5B8C3-DD73-4C4D-9F51-62F7354A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9C5B4-96CB-4D10-BB47-F5DDAE8E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C18C9-31A0-418E-B8A6-F88D6E03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5A52-C061-480B-A5DB-9CBE382C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549FF-EB24-45B3-BF43-C6EA4F47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0D19A-0741-4AA3-ABC6-6D4C77B3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14F93-AEEF-4CC2-AD14-7E97A2BF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D5B11-4510-4696-9112-B4E6CC94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2921F-53F7-49AA-B3F0-06261D69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EA96F-F822-49B7-AFEE-FB4EAEE0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07F69-A4BA-434D-B220-1D7BCDC4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F19FD-06FF-4D60-8D61-C2AF88AC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18DAB-631B-4C3E-849C-131BB093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93017-FC17-49A1-AA56-B60915BC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8040-CC7E-4B66-AB7F-B22653CD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3A057-C991-4D3E-8D22-756A8C82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910FE-E178-4B9E-BF72-6AC73960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87F60-944F-436F-AD8E-93DE6C66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E6327-A453-46E8-85B2-FF4CF5BB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BF6AE-B091-4DDF-8EEB-2AE266DE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7131A-2816-41D1-9852-2D6E819B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D0FBF-7852-4F69-BB9D-594D2CBA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DD860-9B56-49A5-847C-63EEDE47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4D277-3A8B-4D83-804D-D390313C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368A0-D3A5-4D94-BDCF-CFF17E9F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5626-415B-40D2-AC81-D9D8013D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00F6C-0B78-44AB-91A6-B5F747E6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2D85E-B185-4F43-8770-96B38C82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BE250-4E91-4789-8EF5-B9B319BA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DFDDD-99A5-4BC8-9F5C-FD6BEDFF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293E2-0D4B-4270-878F-CC634CC3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55DD1-E9A2-4B76-AE59-507AE9EF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BB26D-D8D0-46AA-B56C-A3C90905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D379D-85FD-4820-A5C9-1FE17301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453C7-D8E4-49AD-AB87-7B14CF9F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CA2D4-9078-4D92-876E-3E4B116D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8F8E-CBBE-4E4D-BD65-AD302312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72BE0-5BBD-47C4-BAA4-2A31BB05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96B8D-4850-466D-A3FA-9A194456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11DD1-D1F2-4FC0-9BC9-7B0D7C51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78E9A-2BE1-438F-9DFD-A0817B51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22B8E-F7F8-44D5-A59E-F0B29271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3DB09-DED0-4BD4-BB85-B413579E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E4339-1016-4124-AD83-45888E2D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F1565-2837-4620-8AA5-856E5B7A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2204C-31DD-43C9-A34B-B6C333A8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F3C87-7F4D-408F-A0EA-C49E1184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14BA-127A-4DCF-AA4A-F5DB8244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3F624-832A-4483-B911-98B69B5E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9AB84-B6AF-4DB6-BF8F-88E3FF13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0BBA8-EE86-4F4F-B5A9-0BD92210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AFB4B-C6FC-4CDA-9820-DCA37FFD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11128-99DE-4776-910D-36CCA1B4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F080B-6FE9-4BAB-8DB9-30FCA16D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5F42F-92F2-482D-9DE1-8E4BCEB7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778F5-BE3A-4131-90A5-171ED130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362AD-04E5-4D39-942E-1528866A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E55BC-8E84-4FE1-8D90-A0260F62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61E1-E0D4-4E8D-862B-96D513B4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7A5AB-6AA9-49C9-9997-9C080C14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E3374-B261-4192-82F1-EAD5EAA7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31A4F-C883-45FF-9BF1-B2191151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7A506-62D6-4186-80F3-39B12742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229B3-1209-4F4A-9C5A-536AC58D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617FB-7A88-4C7C-AA69-E206C5A0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F7842-A084-4987-89D3-BFD5DB58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357F6-18E2-4AE0-A2E6-AEA8D073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1D449-16F4-4EE8-AE59-B5763234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83E3A-5BA8-4F23-A2F0-40707640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3D73-234E-4861-8667-F38836E1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851B9-3207-4490-A560-F6513595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D2D0C-8069-4989-981E-71BA8AD3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6387A-85E8-4739-A13C-935392E3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A2C90-9B7C-4270-AE13-1B21D536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CB671-B2C0-45C3-AB76-354B3268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85050-90F1-4010-A8D6-3B9DEF4A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E6590-9AD2-4CE6-AF55-F1B06384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B133-4349-4F69-838D-563A4215FEA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9DFD-C462-4098-B602-DA9C3616FC1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495B-5EE7-4B9B-B9C8-188D3847538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AF40-8B49-48FE-9343-E6120F25E2C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C760-2F5B-40F0-8565-7E43F907C4B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E43B-CD68-4B00-8FC7-8E47C24D0D1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5BE6-0D5E-48AF-B547-8BDE030E577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E70F-0840-4B1E-ABEA-6AA1BFF03A1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826920" y="103320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De woningfinancier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://www.eggebeenverzekeringen.nl/img/hypotheek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http://www.detijdnotariaat.nl/images/diensten-hypotheek.jpg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http://www.at5.nl/artikelen/163193/blindkopers_sophie_zag_haar_nieuwe_huis_pas_bij_de_sleuteloverdrach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ing voor de aankoop van een hu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theeklasten: maandelijks aflossing en rent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huis geldt al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pa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e woning. Dit betekent dat wanneer de koper de hypotheeklasten niet kan betalen, dat de bank de woning verkoopt en met de opbrengst de hypotheek aflo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5"/>
          <p:cNvSpPr/>
          <p:nvPr/>
        </p:nvSpPr>
        <p:spPr>
          <a:xfrm>
            <a:off x="155520" y="-1600200"/>
            <a:ext cx="681048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6340320" y="5516640"/>
            <a:ext cx="2773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5280" y="18900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at de bank een lening verstrekt, laat de bank een deskundige de woning taxeren (= werkelijke waarde vaststell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ank wil namelijk niet meer dan de werkelijke waarde van de woning len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bank meer leent dan de woning waard is, loopt de bank het risico het geleende bedrag niet geheel terug te krijg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6" descr="Gerelateerde afbeelding"/>
          <p:cNvPicPr/>
          <p:nvPr/>
        </p:nvPicPr>
        <p:blipFill>
          <a:blip r:embed="rId1"/>
          <a:stretch/>
        </p:blipFill>
        <p:spPr>
          <a:xfrm>
            <a:off x="3348000" y="458136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het begin hebben veel mensen moeite om hun hypotheek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andelijkse termijn is in het begin hoog in verhouding tot hun inko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ijg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emakkelijker om de lasten d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l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oeilijker om de 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rkloos of arbeid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geschikt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ing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ble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5248440" y="4149720"/>
            <a:ext cx="3895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Afbeeldingsresultaat voor lineaire hypotheek"/>
          <p:cNvPicPr/>
          <p:nvPr/>
        </p:nvPicPr>
        <p:blipFill>
          <a:blip r:embed="rId3"/>
          <a:stretch/>
        </p:blipFill>
        <p:spPr>
          <a:xfrm>
            <a:off x="1403280" y="1484280"/>
            <a:ext cx="6624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iabel; percentage kan op elk moment omhoog- of omlaaggaa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 jaar vas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 jaar va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www.mondtadviesgroep.nl/wp-content/uploads/2013/11/belastingrente.jpg"/>
          <p:cNvPicPr/>
          <p:nvPr/>
        </p:nvPicPr>
        <p:blipFill>
          <a:blip r:embed="rId2"/>
          <a:stretch/>
        </p:blipFill>
        <p:spPr>
          <a:xfrm>
            <a:off x="4078440" y="4149720"/>
            <a:ext cx="50655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al betaalde aflossi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hogere marktwaarde van de woning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oning is meer waard dan ervoor betaald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Afbeeldingsresultaat voor aflossingen"/>
          <p:cNvPicPr/>
          <p:nvPr/>
        </p:nvPicPr>
        <p:blipFill>
          <a:blip r:embed="rId2"/>
          <a:stretch/>
        </p:blipFill>
        <p:spPr>
          <a:xfrm>
            <a:off x="1979640" y="3500280"/>
            <a:ext cx="5991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4T10:14:05Z</dcterms:modified>
  <cp:revision>75</cp:revision>
  <dc:subject/>
  <dc:title> </dc:title>
</cp:coreProperties>
</file>