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7.png" ContentType="image/png"/>
  <Override PartName="/ppt/media/image11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CA30-2506-4A37-BB65-E87D7707E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0069-635D-4CBB-8B5E-3A0EC1E8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6A2F-458C-4FAD-90F9-AF64644DC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D571-4521-4388-9BB2-9395859AE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9321-DED2-4ACD-AFEB-8C0638BC3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D21E-4634-4C16-80C0-E973D90B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E316-CE02-4E53-8CEA-C56FCF7C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8A29-B901-4C23-9BE7-05F9E69B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965F-B6DD-474F-9E83-BBA09D9F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E408-E393-4728-A9C8-BD9BA0C1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7A65D-C8D8-4E7A-BD43-98175157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B655-F147-442A-A5F0-CEB3851B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54CF-90C1-4115-A200-3EC65F22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2772-6446-4234-B6DE-5C0FC756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5B1A-9DFD-493A-8C08-C1E0E536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16A8-5063-4A00-B05D-A0EB4C44D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E67C0-135B-4809-9A7B-CA5916880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A2CF8-A2FF-4BBD-BBD0-5EFACCEE4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660AF-F1BF-4F83-A288-B2111FC0C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732D9-29FE-4B1E-9B7B-625B8ABA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01530-5168-42EA-94AB-B64871D6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23C7E-E224-491F-831E-E5132B85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A76A-2DB0-47ED-87C2-398DF3D3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27A71-47B6-417E-8E22-231BBF46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71A7B-31D3-434A-B7BA-17D16F40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D060C-4AD4-4271-A5BB-394F6869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A6877-6517-4908-9474-0ED4DB97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35F67-AE53-47FC-A425-62F1FE1A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FAD2F-A72B-46EB-8A42-DF13A77F9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EC040-A9EA-472B-AF33-FE663739E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E2290-5B00-4001-AEFE-403CCC0E8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7375A-7E08-4264-B68F-B8209932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3581B-4B8A-4F97-B00E-B06BDBD5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F359-2EAB-440E-BF5D-42143FBD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C9562-A6F8-4AEE-9332-48C5FB12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23AA3-0216-4CE2-90D7-F49B0ABC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168E5-E6E6-47A6-9965-0079971D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CE38C-91A1-47A8-87B5-6D2481FF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7BE19-77A9-4301-894C-67599B61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0FCF5-BFBE-4CD7-AD71-937DC16A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E5C3B-7C16-4759-9A93-F415C856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0EA4A-283A-4C65-BCFB-A6459D046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C5328-6140-46A0-BF19-D0DFE5E09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EDC05-3462-4487-BD27-1E2361101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5CF9-616A-4303-B06C-3C3539DF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E807E-B4FF-4E5B-A154-BB674A98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1315C-2814-48DC-A7A0-DAD09080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3BA2E-56B9-4686-B098-8CA83039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2E391-E62B-4164-81E5-FDC3ACA7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20107-5D42-4D8E-8224-FDF9B87D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0A47B-DD0D-48EA-9BA3-F7DD2D0A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1BDCF-3D5E-4937-AE86-E41D9809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BFBEE-09B2-49DB-A09D-13C87880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88098-A3C2-4008-A530-330BF1F0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B41D0-E414-4D11-B3E5-B9423286F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23E2-F764-4D8B-AE42-89AD6838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7B533-A228-4E47-8EC9-176065CA4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6BF94-F644-4E42-B6D9-FB83C956D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0405E-91D0-4B6B-8373-3280E42C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03AB6-B49C-451B-8E7F-E8464821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9F05F-4E0D-46B5-87F3-681AE853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F7B71-38EF-48D2-9B66-554A170A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85C62-1E23-4742-8233-E79F7CAD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23FD1-6DF0-43D6-B77C-64F06DF9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13173-FA4B-4AEA-8DC3-080B13C6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F7202-9A31-412E-AA5A-4DC55E04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DE2F-F96A-4601-829B-9E94A201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60BFE-D512-4D48-A956-6251BADF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75B4E-0418-46A1-91B7-86888E3B2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7C662-320B-47D7-AB79-D3C0415F9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36F09-7F0C-4181-AA82-07F63BF3C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771F3-3CDA-45D0-A787-393ADFBE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35840-22A2-481D-B8C0-4A0B92CD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1E4F7-395C-4F62-AAA3-23189060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4D54F-4E2A-49EB-9A9A-AB4E6F67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58327-EF47-4598-87C7-B62974FB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71409-98A7-4A33-BB57-6FFBB2C2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A59D-FD5A-48E8-A2E7-C18E982C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866C3-8461-474A-9F7B-EEBC946A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0970B-45C5-48CA-B739-ABB97FCB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60C67-DEEE-45B4-AD5A-03F91145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520B3-2943-4A88-90C3-516C1CB4D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94E52-A3F7-4FFC-91B0-9F593FD7D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31646-4554-4D35-9BB3-E063D89A4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98608-3853-4E03-BC96-F0258881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0D1B5-AC28-46B6-A45D-AD67A259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77F1A-E15B-4C75-8BEA-ACD0AB2D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7EDEA-AF4C-4B61-97CD-6497F402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AAB7-C5BA-4D60-8441-D4DFCC0D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36096-1AE4-48CE-8E74-79F96EDC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573D6-2F9E-4692-9428-4583A589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041E2-87A0-426B-AC95-0324A99C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75A55-BDFC-4E15-86E3-1E485356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50B73-BDE8-4A42-A3BD-883A237E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633D3-860F-4597-905C-0E60AB289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ACDC0-5BFF-42C6-ABA7-2BDDD3D57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6BF1-9E98-4A99-AFC1-4478305F4D9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888C-ACE4-47C1-AF24-1053576E527A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5CF0-3194-4413-ADC3-D0D95B5C6C2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62F3-3885-4DF3-A769-E8AD3DD25F8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53D5-4D6C-4F6F-9C26-9E7DF1A82EB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03E9-EDBA-4E5D-B5FE-3C0C2252DFC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3699-8F45-46B2-9617-AB29CDBB9F1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0906-357E-4EE5-BFF5-E4B3696002E6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6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Goed verzekerd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Afbeeldingsresultaat voor goed verzekerd"/>
          <p:cNvPicPr/>
          <p:nvPr/>
        </p:nvPicPr>
        <p:blipFill>
          <a:blip r:embed="rId2"/>
          <a:stretch/>
        </p:blipFill>
        <p:spPr>
          <a:xfrm>
            <a:off x="0" y="17640"/>
            <a:ext cx="3132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836640"/>
            <a:ext cx="868680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pstalverzekering; schade aan huis/kanto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boedelverzekering; schade aan spullen in huis/kanto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ansprakelijkheidsverzekering particulieren (AVP); schade aan de and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ettelijke aansprakelijkheidsverzekering (WA); voor bestuurders motorvoertuigen (verplicht!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-cascoverzekering (all riskverzekering); schade van tegenpartij en eigen voertui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orgverzekering; voor ziektekosten (verplicht!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12760" y="0"/>
            <a:ext cx="8705880" cy="12430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Afbeeldingsresultaat voor WA verzekering"/>
          <p:cNvPicPr/>
          <p:nvPr/>
        </p:nvPicPr>
        <p:blipFill>
          <a:blip r:embed="rId2"/>
          <a:stretch/>
        </p:blipFill>
        <p:spPr>
          <a:xfrm>
            <a:off x="6858000" y="5367240"/>
            <a:ext cx="2286000" cy="1486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Afbeeldingsresultaat voor opstalverzekering"/>
          <p:cNvPicPr/>
          <p:nvPr/>
        </p:nvPicPr>
        <p:blipFill>
          <a:blip r:embed="rId3"/>
          <a:stretch/>
        </p:blipFill>
        <p:spPr>
          <a:xfrm>
            <a:off x="4586400" y="5392800"/>
            <a:ext cx="2271600" cy="14922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6" descr="Afbeeldingsresultaat voor inboedelverzekering"/>
          <p:cNvPicPr/>
          <p:nvPr/>
        </p:nvPicPr>
        <p:blipFill>
          <a:blip r:embed="rId4"/>
          <a:stretch/>
        </p:blipFill>
        <p:spPr>
          <a:xfrm>
            <a:off x="2706840" y="545616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" descr="Afbeeldingsresultaat voor aansprakelijkheidsverzekering particulieren"/>
          <p:cNvPicPr/>
          <p:nvPr/>
        </p:nvPicPr>
        <p:blipFill>
          <a:blip r:embed="rId5"/>
          <a:stretch/>
        </p:blipFill>
        <p:spPr>
          <a:xfrm>
            <a:off x="306360" y="5486400"/>
            <a:ext cx="239400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9806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Oververzekerin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hogere verzekerde waarde dan juiste of getaxeerde waarde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Zonde van de hogere premie die betaalt, want bij schade krijg je niet meer vergoed dan de werkelijke schad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Onderverzekerin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lagere verzekerde waarde dan juiste of getaxeerde waard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ij schade krijg je minder vergoed dan de werkelijke schade, omdat je maar voor een deel bent verzekerd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Hierbij geldt de onderverzekeringsbreuk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el 2" descr=""/>
          <p:cNvPicPr/>
          <p:nvPr/>
        </p:nvPicPr>
        <p:blipFill>
          <a:blip r:embed="rId1"/>
          <a:stretch/>
        </p:blipFill>
        <p:spPr>
          <a:xfrm>
            <a:off x="268200" y="0"/>
            <a:ext cx="8454960" cy="1189080"/>
          </a:xfrm>
          <a:prstGeom prst="rect">
            <a:avLst/>
          </a:prstGeom>
          <a:ln w="0">
            <a:noFill/>
          </a:ln>
        </p:spPr>
      </p:pic>
      <p:sp>
        <p:nvSpPr>
          <p:cNvPr id="385" name="PIJL-RECHTS 3"/>
          <p:cNvSpPr/>
          <p:nvPr/>
        </p:nvSpPr>
        <p:spPr>
          <a:xfrm>
            <a:off x="6516720" y="6165720"/>
            <a:ext cx="2232000" cy="432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2" descr="Afbeeldingsresultaat voor oververzekering"/>
          <p:cNvPicPr/>
          <p:nvPr/>
        </p:nvPicPr>
        <p:blipFill>
          <a:blip r:embed="rId2"/>
          <a:stretch/>
        </p:blipFill>
        <p:spPr>
          <a:xfrm>
            <a:off x="6684840" y="2565360"/>
            <a:ext cx="2482920" cy="12175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Afbeeldingsresultaat voor onderverzekering"/>
          <p:cNvPicPr/>
          <p:nvPr/>
        </p:nvPicPr>
        <p:blipFill>
          <a:blip r:embed="rId3"/>
          <a:stretch/>
        </p:blipFill>
        <p:spPr>
          <a:xfrm>
            <a:off x="2336760" y="2565360"/>
            <a:ext cx="173376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Lucida Sans Unicode"/>
              </a:rPr>
              <a:t>(Verzekerd bedrag : getaxeerde waarde) x schade = schade uitkerin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7-01-11T09:15:51Z</dcterms:modified>
  <cp:revision>80</cp:revision>
  <dc:subject/>
  <dc:title> </dc:title>
</cp:coreProperties>
</file>