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5F36-7D22-48E3-A87F-B0F9ECDC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A115-57A5-45A6-A1C7-CE5A7029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7B4-3402-4CBE-930A-ABD498BD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0EAF-491F-4D65-A992-F288AEDE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1EEA-17B2-4A31-937F-48CA20F6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F0BB-7A05-4DE5-95AE-D10A8C81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6251-BA63-4A6B-AD38-68F5F159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B6CA-DCCD-4517-8251-688C3328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9DDC-C622-413D-9710-D09F29E0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DC29-B597-4F4A-9AEA-E3F64403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1584-EBF2-42C2-9EFF-8C9CF8CF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2BE-2808-44A4-8D45-F7BDCB42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8856-D1D7-4927-BE99-812E7A9B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695F-7921-4EA6-8DB7-8E10E536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2128-858E-41AB-A5B8-E2531DDB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1DEC-7E65-4B03-A2A5-C34DED8C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7852-15A1-42C2-A6B0-136B9294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F858E-C707-48D8-98A7-2C7F4A2F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3B533-C08D-44B2-80F6-B1CFE4BC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421E5-28E2-4547-9576-C47F25B7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19EBB-4661-43D7-BE70-E43EC476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5E450-AAD3-46C8-A31D-51B46A4B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6C0-B144-4D91-9F9E-5036669A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66E0E-8BE9-4F05-BD51-525D1E26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454FA-1A5C-4CD3-A8F5-A19012D7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4D7BE-48BE-4985-83C4-934B1617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C1BD6-4F3B-4AF6-ADA8-862D5D85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B0017-079B-4CCC-AE93-95B49FEE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DAC1E-6DBE-4416-9205-BF8A1B9A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0ED71-E0A4-495E-8DF7-9ADC1563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8326D-8573-4855-8D68-820FAF7C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09049-0FF9-4F6B-9B12-8B661A3B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8CE46-C7B6-4677-B2C1-3BAD3799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9C4A-7777-4E30-BECF-1AC70E7F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6597F-7E88-4AB4-A320-0A704DB4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1E891-C033-4D11-AC9B-EF9DA8CF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42778-C557-440B-8CFA-9725C63C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F137F-4ED8-445E-9693-7A221913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10971-F25D-45EE-88A1-D73DAE29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CEF08-9786-4ABD-AC38-1AD807F0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56923-7166-42F3-88CD-C2539C63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CC728-9CFE-4409-B583-564B6A0E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12023-686F-4562-A52D-8EB1AA0E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35BD9-358B-4930-B734-3B43C153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556-57CF-4374-98F7-3EEB9676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C8FF1-2B54-40E8-B537-55ADCF30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74EB3-A58E-4AB0-BF88-6A41BF72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505DA-9092-4C06-B9D0-B2A0E751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5D1AF-8A47-48AB-BE59-96018853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17A2C-3D49-45EE-9296-A4796699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98840-312A-4AEC-97B7-9B603C62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4C7BE-052E-4E5F-858D-7FD21F84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FE6FE-0F42-4525-A605-E6A701A0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730D1-A145-4E15-B9CC-F7C34347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55CF4-890E-4567-AA59-82660FDC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F43A-458F-4CF2-A920-406D8927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6CE97-52AC-4887-B8BD-69300949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9664A-80FA-4B17-9A1C-4D4F6C7C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92B8B-2569-4F71-B9C0-EA683E55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1BB17-0DAB-4A4E-8C3E-CAA9C60A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857E1-E1D0-4948-878C-5EBC2748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721C2-FF44-4773-9758-06F34AB8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B1572-5B65-408B-A77C-17CA78F0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09C3D-8530-4EA8-97AC-7498CBD9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C3970-9B95-4281-A6E0-8AF5A837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7E7D1-149D-40B3-A31F-EC861EA6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599E-C915-4055-A346-F4623C63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30E18-4D35-430A-9EC8-E0DF12B6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44E61-8FF6-43E6-A402-B991BB7D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7B75E-FEB3-4C94-A489-F0CB122A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F0A89-767B-4D37-9761-BF061683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E6B20-D460-4B98-AE6F-D44DDA4F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82591-C0BA-49AC-ADE8-8848EB4B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48183-629C-4588-B29D-99770E9C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B6365-B476-4D75-9692-43448478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E13D2-4350-4BCB-B3C2-94C618E0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7F0A1-1D90-448E-99E8-4DFD03A0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35D-9392-4508-A446-3B36E8AA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76F08-D6F2-4453-88AA-B558A228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3D93F-1EC2-418F-BC27-38434123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D6F50-BF53-42F5-8BA2-4DCBEC91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B638A-9078-4ACB-A139-73EE57F0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9F0B3-EBB1-4ED9-A889-8217D800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66FC6-08A5-4545-98FC-DFFDB150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31181-8671-41D8-ADF6-D996548C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DAE70-9227-4E50-BD42-E38C040F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2CAB1-3C08-48FA-AC30-3980EE54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D80BC-4861-4602-8162-5F2FB927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121-6440-46E3-8BAB-02C640B1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0F399-8925-49DA-9DB8-00CAFB98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A2262-C3F9-4934-95CF-78D9730D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C2A54-5C15-4CE8-9B85-E63AF9AD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E50FE-FA88-4F97-9954-CB131F2A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86EBD-C059-4D23-B56C-53F9560E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41DCC-F6A1-468F-A7AB-5D86374A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E4801-A6E5-4FE0-8E9E-C19C54C8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60B7-CC54-4297-8787-72309AF662C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F326-7CAC-4E7C-A4DE-86928830FD7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F2CF-6943-420D-93A7-6726994CD97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CC4D-D809-4568-B1CE-057D97C80F2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173E-D3DE-475B-A0DD-32F07E638FE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F356-717D-4AD8-82A5-F9D589C198E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A601-E8E3-410C-AA7C-1939689D66F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A9A1-9D0C-45E0-8BC2-408D057B896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ren of kope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huren of kopen"/>
          <p:cNvPicPr/>
          <p:nvPr/>
        </p:nvPicPr>
        <p:blipFill>
          <a:blip r:embed="rId2"/>
          <a:stretch/>
        </p:blipFill>
        <p:spPr>
          <a:xfrm>
            <a:off x="-11160" y="-22320"/>
            <a:ext cx="31672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539640" y="1341360"/>
          <a:ext cx="7442280" cy="4343400"/>
        </p:xfrm>
        <a:graphic>
          <a:graphicData uri="http://schemas.openxmlformats.org/drawingml/2006/table">
            <a:tbl>
              <a:tblPr/>
              <a:tblGrid>
                <a:gridCol w="4057920"/>
                <a:gridCol w="3384360"/>
              </a:tblGrid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ettelijke huurbescherming (verhuurder kan je niet zomaar op straat zet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het huis niet verbeteren zoals jij w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in aanmerking komen voor huurtoes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arlijkse huurverhoging (op 1 jul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urcontract kan binnen korte tijd opgezegd worden (gemakkelijker verhuiz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en opbouw eigen verm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4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et verantwoordelijk voor groot onderhoud (verhuurder betaalt dit); voorbeelden zijn: rotte kozijnen, lekkende dakgoten, tochtende ramen en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611280" y="1268280"/>
          <a:ext cx="7705800" cy="4845240"/>
        </p:xfrm>
        <a:graphic>
          <a:graphicData uri="http://schemas.openxmlformats.org/drawingml/2006/table">
            <a:tbl>
              <a:tblPr/>
              <a:tblGrid>
                <a:gridCol w="4200480"/>
                <a:gridCol w="3505320"/>
              </a:tblGrid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oning aanpassen aan eigen woonwen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erhuizen is lastiger (eerst huis verkopen tegen een goede prijs en dan een geschikte woning vinden voor een redelijke prij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s de rente niet omhoog gaat, zijn de hypotheeklasten stabiel (= gelij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t is niet van tevoren bekend of de rente omhoog gaat (en dus ook de hypotheeklas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or af te lossen bouw je eigen vermogen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Zelf aansprakelijk voor groot onderh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is kan in waarde da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tra belastingen en heffingen. Bijvoorbeeld onroerende zaakbelasting en opstalverzekering (= verzekering van het huis tegen storm- en brandscha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zelf het klein onderhou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inboedelverzekering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fbeeldingsresultaat voor inboedelverzekering"/>
          <p:cNvPicPr/>
          <p:nvPr/>
        </p:nvPicPr>
        <p:blipFill>
          <a:blip r:embed="rId2"/>
          <a:stretch/>
        </p:blipFill>
        <p:spPr>
          <a:xfrm>
            <a:off x="3851280" y="4822920"/>
            <a:ext cx="5291280" cy="2035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Afbeeldingsresultaat voor klein onderhoud woning"/>
          <p:cNvPicPr/>
          <p:nvPr/>
        </p:nvPicPr>
        <p:blipFill>
          <a:blip r:embed="rId3"/>
          <a:stretch/>
        </p:blipFill>
        <p:spPr>
          <a:xfrm>
            <a:off x="6450120" y="2276640"/>
            <a:ext cx="2663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5T16:16:24Z</dcterms:modified>
  <cp:revision>69</cp:revision>
  <dc:subject/>
  <dc:title> </dc:title>
</cp:coreProperties>
</file>