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915-8938-4377-BA6A-BA4F55AE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540A-295B-4D86-97F4-ED7D2FB6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6C3-3908-4824-8AEB-463C4C42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13A-3DCB-4763-AEDB-ECB19F78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364B-3119-4AB0-95D2-BCEE2D08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8796-13B9-4975-9F4F-21C407B0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CC20-25CF-451A-B6B5-3DAFB5FF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79BB-D325-4209-B9FA-8C09370A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00A7-AE84-4E82-B58A-EA53CE1D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923F-7381-43DD-9611-CAAB25AA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C827-0548-44BA-A148-6999D396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D257-DE2F-4373-A4ED-1C57EBC2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7042-71F2-47A3-9544-34EAADA0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0945-CA1F-498A-85E7-AD34DDC9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C9D8-4D81-440F-A55E-F021B7EB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1757-390E-42D1-9D30-31F13CFF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7037-CEFB-4367-A307-9808F89E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989EB-5401-4083-A93E-07310BA6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39146-9A82-4EA8-8006-422C6145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2FB89-D0DE-463D-BC54-83FBEF94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53169-F31C-474F-A200-F96FFDBA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9393F-8EFB-446E-9F4F-7D9988C3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2763-1945-4D83-A23C-7BAA5684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B058B-96DD-4D8E-8795-FF65DD38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931F2-6A7D-4466-9614-5DB389F6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28910-06BA-4415-A444-A68ED6BC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784FD-53D6-49F3-A237-BB7C0755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15EF3-3EB6-40CD-9DA9-4F1FABC3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9082C-07EC-429B-BA1B-E2A93ED3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F8B3F-6142-4E60-A003-DB2B3939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25438-207F-45B8-B297-399E5653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BB22B-7AC1-43E9-B3B9-E810BCFB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397A8-A114-4425-BF7D-9FD59B09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9DAF-2852-47E0-B6D4-C1D05EA8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A2B22-661F-4D87-8617-C59BB51A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3FEF8-38DF-4A33-A87B-A2CF5C75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82178-F7C0-40FE-8D70-400CF365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02288-AB7E-4C42-B59D-9D31EA4C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2956A-080E-4C45-B85C-580649DB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E9C14-E321-41FF-8590-51EC7BB3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FC94C-C736-4BBD-9981-BB6E27A0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55CD5-B388-4585-992E-FEEBEF5D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FE31E-1F30-45F6-AF85-8F58136A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5067E-7126-4227-B064-75BAEDD8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15B8-9EB5-4B01-9EC0-37A0D3DF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F3AFB-3D60-4C24-83ED-728D0FC1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E4024-4142-4FBF-A0B8-8C0C177A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AAB02-A93D-4A93-B90B-2100FCDB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77515-E73E-44A9-B71C-63D014B0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CE763-7F19-49EE-BF0A-7324843E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45D93-CFB0-4CC5-9768-4201CF67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993A6-7C25-4FF9-8BCC-DE20AA38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64C9D-0D0A-4C18-B285-391A2E6B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6912F-A991-4A68-87F5-42226857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7D64B-AD4D-4AC5-9F29-13775B5C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A4C-CDF2-4A0B-BB2A-BD90D07A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4CD91-00C4-4BAE-AC5A-FB231415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4AF0C-B981-4C2B-97AB-556BE1A9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7603B-86B5-4383-89CE-65735C3B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59920-41C7-4224-B2FF-7EC0FB53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1EC42-3E5C-41EC-BA65-5E3320F2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08856-C8AE-4CD5-B4E1-69888582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DF9BB-2B5D-4FAC-873F-C5C073DF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686C7-7303-41EA-82E1-FE44B2F1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34E78-3A5C-4A5F-8AFD-70F3259D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7A7C4-BB3B-4755-80DE-14361AE7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1C50-C3F0-4FB9-A8FC-39D6FA83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4D316-F7A1-4A73-86E2-10CEF5A7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0FCDD-4C2A-468E-9D92-7646E613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13F69-B28B-45CF-9CD2-9B1ED95A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03DF6-1632-426B-A0B9-A07C802C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3710B-B498-4FBE-85E6-3A53CA60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00AC4-3AC2-4738-921A-B0B368C4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FEBEB-2201-4897-8AB3-1C4A8FF9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0D6AF-7AEE-4909-B6CE-5BE97108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19459-FC40-4D69-A81E-835A78C2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99391-5E77-4F84-8E74-45C6DC36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27C4-D102-4D53-9EB9-2AE50458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0121A-5378-42B3-9B74-98C07183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6E910-B322-4426-BFDF-01EC8191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4D682-F127-413B-BFB4-8DFF9DEA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44801-8583-4491-A95D-2CF2B6F9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4A43C-BBD9-4FBE-8AC9-DF4623E6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C9EE6-CF15-4B7C-8BFB-06CBAD49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6DD97-B707-4534-8210-020AAA16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E69BB-CFB0-49EA-8ABA-4E6C78CA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44794-8A49-43E1-A59A-2190F235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30693-D921-48B8-A5BD-9D152E36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56B-A3A3-4AA0-ACA3-5A1CF7EB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3E36E-7A7C-40A1-AF82-32405015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57040-3A42-4623-95F7-C31B2067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E62C0-D226-4247-AC0D-8D337108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893BE-3ACA-4CCE-A266-6890C445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3AFB9-219A-4775-A7BB-A45D0AC5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8C981-2774-4FB7-BBD2-6471C4A4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BABF5-9D07-41B6-BC11-57513AE3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807D-7301-4909-8300-90678F93FF1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49CF-DFE9-4D73-80CA-9BACEBDA19F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84B8-86B1-42E8-AD59-968D845C60C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6BD6-FA17-448E-9329-07ED9E353C3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F522-375D-4155-BF5F-5D14308CE8B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74C0-C1C4-458E-B2FC-1974EC2F072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9003-5F69-4048-8AE1-09278A483A1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D856-CAEE-4D33-8C20-9334E6B9256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oed verzeker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goed verzekerd"/>
          <p:cNvPicPr/>
          <p:nvPr/>
        </p:nvPicPr>
        <p:blipFill>
          <a:blip r:embed="rId2"/>
          <a:stretch/>
        </p:blipFill>
        <p:spPr>
          <a:xfrm>
            <a:off x="0" y="17640"/>
            <a:ext cx="313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83664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stalverzekering; schade aa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boedelverzekering; schade aan spullen i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sprakelijkheidsverzekering particulieren (AVP); schade aan de an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ttelijke aansprakelijkheidsverzekering (WA); voor bestuurders motorvoertuig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-cascoverzekering (all riskverzekering); schade van tegenpartij en eigen voertu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rgverzekering; voor ziektekost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70588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Afbeeldingsresultaat voor WA verzekering"/>
          <p:cNvPicPr/>
          <p:nvPr/>
        </p:nvPicPr>
        <p:blipFill>
          <a:blip r:embed="rId2"/>
          <a:stretch/>
        </p:blipFill>
        <p:spPr>
          <a:xfrm>
            <a:off x="6858000" y="536724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Afbeeldingsresultaat voor opstalverzekering"/>
          <p:cNvPicPr/>
          <p:nvPr/>
        </p:nvPicPr>
        <p:blipFill>
          <a:blip r:embed="rId3"/>
          <a:stretch/>
        </p:blipFill>
        <p:spPr>
          <a:xfrm>
            <a:off x="4586400" y="5392800"/>
            <a:ext cx="2271600" cy="1492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Afbeeldingsresultaat voor inboedelverzekering"/>
          <p:cNvPicPr/>
          <p:nvPr/>
        </p:nvPicPr>
        <p:blipFill>
          <a:blip r:embed="rId4"/>
          <a:stretch/>
        </p:blipFill>
        <p:spPr>
          <a:xfrm>
            <a:off x="2706840" y="545616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Afbeeldingsresultaat voor aansprakelijkheidsverzekering particulieren"/>
          <p:cNvPicPr/>
          <p:nvPr/>
        </p:nvPicPr>
        <p:blipFill>
          <a:blip r:embed="rId5"/>
          <a:stretch/>
        </p:blipFill>
        <p:spPr>
          <a:xfrm>
            <a:off x="306360" y="5486400"/>
            <a:ext cx="2394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v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re verzekerde waarde dan juiste of getaxeerde waard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nde van de hogere premie die betaalt, want bij schade krijg je niet meer vergoed dan de werkelijke scha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nd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agere verzekerde waarde dan juiste of getaxeerde 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 schade krijg je minder vergoed dan de werkelijke schade, omdat je maar voor een deel bent verzeker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ierbij geldt de onderverzekeringsbreu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68200" y="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385" name="PIJL-RECHTS 3"/>
          <p:cNvSpPr/>
          <p:nvPr/>
        </p:nvSpPr>
        <p:spPr>
          <a:xfrm>
            <a:off x="6516720" y="6165720"/>
            <a:ext cx="2232000" cy="432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Afbeeldingsresultaat voor oververzekering"/>
          <p:cNvPicPr/>
          <p:nvPr/>
        </p:nvPicPr>
        <p:blipFill>
          <a:blip r:embed="rId2"/>
          <a:stretch/>
        </p:blipFill>
        <p:spPr>
          <a:xfrm>
            <a:off x="6684840" y="2565360"/>
            <a:ext cx="2482920" cy="1217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onderverzekering"/>
          <p:cNvPicPr/>
          <p:nvPr/>
        </p:nvPicPr>
        <p:blipFill>
          <a:blip r:embed="rId3"/>
          <a:stretch/>
        </p:blipFill>
        <p:spPr>
          <a:xfrm>
            <a:off x="2336760" y="2565360"/>
            <a:ext cx="17337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(Verzekerd bedrag : getaxeerde waarde) x schade = schade uit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1-11T09:15:51Z</dcterms:modified>
  <cp:revision>80</cp:revision>
  <dc:subject/>
  <dc:title> </dc:title>
</cp:coreProperties>
</file>