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1B1F-6010-4AC9-91DE-097FC8AA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6B38-59A7-475A-8834-69B6FE8E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E441-3B98-4112-A64A-54A4DFF8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0CD7-F3F2-4032-AA45-34ED3A75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FA50-C8CA-4280-ADE9-E31D8FB0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4E18-BDDD-447F-993C-7B41163D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3F6C-F321-4173-B934-2DB05ECA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F40A-F874-4532-8633-38AD6BD2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6579-55F2-4D26-936C-DA9448E2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3C04-D967-458A-86D5-F6D7F092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B047-C6AC-47C4-ABA9-953028BA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DA4D-4778-4406-BA58-349B0925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84CC-DCFB-4264-9BFD-5B37A593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7200-323F-49FB-BE32-673E6B8E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06EB-88B9-47D6-BF5A-8500D918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8AB2-0351-4CE7-92AE-2FBC7EFB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2916-72FB-485F-81EA-39B9726D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9E68A-10F0-43A2-A5B8-BAEB13BC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32F52-F12A-4E81-A10A-1151AF53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A2544-AB21-4C78-8879-44E439B4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6A2FA-985B-4B02-84EB-0DD0E969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36617-9C7E-4918-A86A-8F599E58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9437-D747-4F54-A2DE-E486BF91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AE371-C619-4901-A38F-2750EBC9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C63CD-2D02-45AF-B2C2-53827C07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2C4A7-212D-45AE-ADCD-842018C6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5D7F6-D6D6-4757-88A4-0D111529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E2B76-9742-4DA5-8643-DBD415AE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34CEB-E64F-4B64-B850-E6CA7D6B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40C94-6F49-4F60-8701-54AFA78F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E6471-B500-4BF2-9A59-E79F5CD7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307E1-DEBC-4AE4-8C99-D26D39FD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8C91B-0ACF-46B6-AC61-FBF973BE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EAF5-C88A-45EA-9F4B-93C4D197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C0F1C-3CF8-4D9A-AA9B-70E6FDD3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D3B9B-0FEE-4871-8E2D-A3077220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9D9ED-5A6C-40DB-8DA9-A45EA858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7D657-7E72-4E67-9F25-9A9DD218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8A74A-3928-4AEC-9600-665F3180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82EB1-7229-4CD7-B9BE-BF29C3B0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8F949-F65E-4657-881F-ADB0DE87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E5766-A809-4BDC-AC60-E86C2EA6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148E9-4957-4E93-972B-267DAF35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1501D-E7D8-4E8B-BCF0-C315FF1C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642B-4E27-4E87-B02B-6A82B1C3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CAC64-F8BB-4F7A-8E2B-19797046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FD63B-2845-4DA7-A1CF-68425D01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23906-A460-4B76-ADCB-3CDC8F53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B06EB-7C24-4F96-9816-BB8E00C5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DC4AF-2549-40E3-9E5F-1BDAAC48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B9821-6B8D-483B-8654-485D92D7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AB87E-ECDF-4FC6-8860-15D719F7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52D3E-FAF0-4AE2-8D8C-9F0A4385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4AFC1-A5A6-4080-8858-68696269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A152E-1D35-4289-ADCC-62819308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9A3-AE69-421C-8D58-18F8C1F6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03619-472B-4F3E-8F4E-A8873236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84BF2-B1B1-415A-91BF-ACAA1573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98FE8-EF90-44D9-AFDD-2EBCC5A4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EDDE5-315C-4FA6-8129-83AA6B95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69CD4-B314-426F-93C2-EADDB03E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B258F-EAB9-437D-9DDE-037C0163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D5FA1-F103-4E83-90F4-29AB6F55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B63EE-513A-413F-B32A-E8205F06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C5A2E-3B08-4FC0-989E-D417B9E8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74048-D42D-47EC-B9EB-C61D0688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2B4F-A931-4625-A0AB-61ED7B2B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228A2-BA4C-4A5E-BF1A-2ECFFC9E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71DF1-8FC7-4235-9821-CCB766C8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86F74-4274-487C-B6A5-C2EDE3F1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CEB2C-2A6B-4062-8E1B-0F49974C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B6399-0027-4B2D-96CE-F9FD6676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88508-3F22-4935-A630-C6969278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89811-03D4-411B-8833-F6E8BC54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61C9B-716E-4F89-8637-D6100A93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7B540-3A07-4616-A1F2-7AA5F484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0A065-8F3A-4E87-BD03-31D2BB0C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CE9B-2A1A-4708-9CC3-6310AB31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1841A-D0B3-40C4-A38E-E8DCB9E6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25689-5B64-4EBF-B50B-BE58E22E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F9306-55F2-4BDC-ABC3-C8B468F9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8F086-227C-4CFD-AD49-ABD3DCA7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8AAE0-1391-4272-852D-DA629CE9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68B7D-136A-4FDB-B59B-2849EE63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317C0-1E6F-4A3A-B6FD-CBD9BF1A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33C1E-654E-47F7-8DCF-F78A1A8F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E4145-D619-40DA-B4C1-9FC372FF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0C0F7-695D-42D5-A9A1-B365BA7C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7B94-6259-410A-8CC3-C12E61AE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B0FE6-5115-4929-979F-0A051D64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46279-9626-4861-8D1E-49423549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6918C-288B-428C-967F-68E62F89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AEC32-8C04-4D70-AC73-52C6DA88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640BC-ABC0-40FF-AA84-9A6BBD11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212B2-7F58-452D-9C45-E75489D8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75B24-15A4-457A-B1ED-D3B0C998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430B-73C4-48D2-973B-D83CD32EE64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CD5B-DBB1-474F-91AB-03CC6F01DE1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7CDA-2624-4DFA-814B-C4BAB84A126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BD7C-48D6-45E5-A7E8-C39EAF150A2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D75B-6F68-4504-B5A5-E733F3ABD09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4B61-BE86-456C-8177-20450042CAE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8F26-B882-4BD7-B5CC-EF8BA80AE6A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14D7-57D7-407C-8349-01AA9F19BEF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ren of kope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huren of kopen"/>
          <p:cNvPicPr/>
          <p:nvPr/>
        </p:nvPicPr>
        <p:blipFill>
          <a:blip r:embed="rId2"/>
          <a:stretch/>
        </p:blipFill>
        <p:spPr>
          <a:xfrm>
            <a:off x="-11160" y="-22320"/>
            <a:ext cx="31672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539640" y="1341360"/>
          <a:ext cx="7442280" cy="4343400"/>
        </p:xfrm>
        <a:graphic>
          <a:graphicData uri="http://schemas.openxmlformats.org/drawingml/2006/table">
            <a:tbl>
              <a:tblPr/>
              <a:tblGrid>
                <a:gridCol w="4057920"/>
                <a:gridCol w="3384360"/>
              </a:tblGrid>
              <a:tr h="57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ettelijke huurbescherming (verhuurder kan je niet zomaar op straat zet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het huis niet verbeteren zoals jij w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in aanmerking komen voor huurtoes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aarlijkse huurverhoging (op 1 jul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urcontract kan binnen korte tijd opgezegd worden (gemakkelijker verhuiz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en opbouw eigen verm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14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iet verantwoordelijk voor groot onderhoud (verhuurder betaalt dit); voorbeelden zijn: rotte kozijnen, lekkende dakgoten, tochtende ramen en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611280" y="1268280"/>
          <a:ext cx="7705800" cy="4845240"/>
        </p:xfrm>
        <a:graphic>
          <a:graphicData uri="http://schemas.openxmlformats.org/drawingml/2006/table">
            <a:tbl>
              <a:tblPr/>
              <a:tblGrid>
                <a:gridCol w="4200480"/>
                <a:gridCol w="3505320"/>
              </a:tblGrid>
              <a:tr h="47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oning aanpassen aan eigen woonwen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erhuizen is lastiger (eerst huis verkopen tegen een goede prijs en dan een geschikte woning vinden voor een redelijke prij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s de rente niet omhoog gaat, zijn de hypotheeklasten stabiel (= gelij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t is niet van tevoren bekend of de rente omhoog gaat (en dus ook de hypotheeklas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or af te lossen bouw je eigen vermogen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Zelf aansprakelijk voor groot onderho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is kan in waarde da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tra belastingen en heffingen. Bijvoorbeeld onroerende zaakbelasting en opstalverzekering (= verzekering van het huis tegen storm- en brandscha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zelf het klein onderhou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inboedelverzekering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fbeeldingsresultaat voor inboedelverzekering"/>
          <p:cNvPicPr/>
          <p:nvPr/>
        </p:nvPicPr>
        <p:blipFill>
          <a:blip r:embed="rId2"/>
          <a:stretch/>
        </p:blipFill>
        <p:spPr>
          <a:xfrm>
            <a:off x="3851280" y="4822920"/>
            <a:ext cx="5291280" cy="2035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Afbeeldingsresultaat voor klein onderhoud woning"/>
          <p:cNvPicPr/>
          <p:nvPr/>
        </p:nvPicPr>
        <p:blipFill>
          <a:blip r:embed="rId3"/>
          <a:stretch/>
        </p:blipFill>
        <p:spPr>
          <a:xfrm>
            <a:off x="6450120" y="2276640"/>
            <a:ext cx="26636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5T16:16:24Z</dcterms:modified>
  <cp:revision>69</cp:revision>
  <dc:subject/>
  <dc:title> </dc:title>
</cp:coreProperties>
</file>