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2.png" ContentType="image/png"/>
  <Override PartName="/ppt/media/image7.png" ContentType="image/png"/>
  <Override PartName="/ppt/media/image13.png" ContentType="image/png"/>
  <Override PartName="/ppt/media/image11.jpeg" ContentType="image/jpeg"/>
  <Override PartName="/ppt/media/image9.jpeg" ContentType="image/jpeg"/>
  <Override PartName="/ppt/media/image5.jpeg" ContentType="image/jpeg"/>
  <Override PartName="/ppt/media/image8.jpeg" ContentType="image/jpeg"/>
  <Override PartName="/ppt/media/image22.png" ContentType="image/png"/>
  <Override PartName="/ppt/media/image19.jpeg" ContentType="image/jpeg"/>
  <Override PartName="/ppt/media/image21.png" ContentType="image/png"/>
  <Override PartName="/ppt/media/image4.png" ContentType="image/png"/>
  <Override PartName="/ppt/media/image20.png" ContentType="image/png"/>
  <Override PartName="/ppt/media/image3.png" ContentType="image/png"/>
  <Override PartName="/ppt/media/image18.jpeg" ContentType="image/jpeg"/>
  <Override PartName="/ppt/media/image17.png" ContentType="image/png"/>
  <Override PartName="/ppt/media/image16.jpeg" ContentType="image/jpeg"/>
  <Override PartName="/ppt/media/image15.png" ContentType="image/png"/>
  <Override PartName="/ppt/media/image14.jpeg" ContentType="image/jpeg"/>
  <Override PartName="/ppt/media/image2.png" ContentType="image/png"/>
  <Override PartName="/ppt/media/image1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D1139-4BC5-4C83-8600-48E97B51E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38906-44B5-4F60-92BA-9E49AC596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6F1AA-BD1E-418F-8887-A1A34509B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319C1-889F-4EC1-B1BF-C9D51934D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95631-4B42-44C1-99BF-1DAA69DFF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1C2BD-1AEB-45FB-83EE-AD3462D52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8926B-7C1A-4461-89C0-6FEE44B42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85BBC-D758-4333-99DE-958D97706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D6C1F-A1D5-469D-8285-73026EA10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EA283-3337-4645-AFE1-EAC683397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2DEA7-A2DE-4B8D-8785-AFECBE05C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711D6-60B9-4497-B3E7-CD51B10CE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15FFF-B836-49EA-8D65-A29BFE517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D35E8-00C7-41F6-A620-BD4AA2AFE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8E6AB-A56A-4572-A2E7-99A7CAEDB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15009-FF7B-4964-B54B-FE6840DDC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264DA-1A91-4743-AF97-BD33440E3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7AD8FA-2C64-4CA1-95C2-9B585B1D7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27DC94-020A-47D8-AC8C-7580E80CB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2E9469-A501-40B1-854B-D6821B309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240EAD-96A6-4F29-8A14-3F6505A63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39325F-9A9F-4217-89C2-F00849DAB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7A75D-DBEA-474C-ABC2-58EDB72FC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00A48D-5588-4D49-851C-04F2775E0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421289-A3E1-4C10-B7C6-FE1B7EFCE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AB7CEF-DFD1-4285-BF5C-A4BA2AD7D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305A9C-C7C3-4277-BB69-674C06E9D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9868ED-B413-480B-8155-C4201D7E5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5C42DA-F516-4D01-BB76-D417EFB32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A56D72-0770-4A5A-AA05-22E7281A5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36D481-EE7F-4904-ADCA-9E8EE3C68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DF28EE-E276-4F7E-ABA9-28874233E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7E2F84-E566-4F8A-BCCB-61549C506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2A000-E1ED-4EB0-86A6-FC7F83E7A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0C23FB-7C64-486F-9E18-C31D1FF3F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7C2914-F89D-4ED4-A8BC-5FD67A953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015452-A996-4363-8F4F-124A41CDB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28CE40-5718-4DF1-8E3A-F9E1B3BB8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05B517-B772-442E-92E6-57778656F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94FBD2-231B-4F08-9AA4-A63ED00E4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7FDB7F-0032-4DE7-980F-772F2C6CD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B56BA4-CB14-4C30-9A5D-80FF11BF4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08F4A7-3C90-4A87-B3C4-8AB7614E4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274C91-B9E0-4726-B8CD-86ED9ED31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DD655-7D68-4D87-97DE-D9176D20E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5E5B04-53DA-48EB-932D-0D1C76F48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A3E357-B5B0-4D49-9D4F-B64495741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8FF845-8DF9-48D9-A182-7DAB27988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01A614-C830-4FDC-933F-2A5FF3E06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CC9419-4097-4E3F-865D-3FBEECA9B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9F3FA9-58AE-46A2-90D4-6BC145DDF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46B320-EABF-4EA8-AC8E-9D7EC49B0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223C1D-CD13-4ABE-B188-A48BC78B7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ED5150-B7CB-4E05-AA9A-B59C1332A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D74801-30A7-4080-B5B8-766774A2E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077E7-9DB4-4D96-B3D5-153D36B34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1DAA06-E914-4CD4-8CA3-9576213F0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D5D0DE-481F-4B7B-B2B6-419A8D2C1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608CD7-D03A-4822-9CCF-5205F33E1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2E6587-E18E-4FA2-92DB-F64BEA3F9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D39CE7-4656-418D-958D-DFD9BB641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197957-6673-497B-A1B7-E7B9E28C0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7DBE43-44AD-4AE2-AAAF-DD018F357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E8BD42-17D0-460A-A6E2-AD0D88158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86C6CB-9CC2-4EE8-AD89-96ABFD912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EC3C9C-7A5C-4AE9-895F-12E8809B2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FEAE7-8DB9-49A1-B5A7-B06B31C69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C9B29A-43AF-4C32-9AA7-A2AEDF2A0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E7C477-7A8F-45A7-A25A-41496940A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C27F35-130D-43A7-AD7B-2D05254E1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6ABA1D-FAF7-48EF-8009-03DDF7593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53FDB8-46F2-4B93-9557-69117D91F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063406-10A8-4CF8-A653-3F337C10F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AB0231-C5B1-4BCE-8727-48A976962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5BF64B-4EAF-4992-A1FB-D98E8CC39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678F5E-44EE-4ADC-BDFC-737CCD899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8E9BEB-0A70-4F96-B7B0-510E5C320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B4B4B-1686-478E-B1C8-63EED94A2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605B14-D468-481D-BA09-A97C38199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DCD2B9-D49A-4D65-B772-AC5B37391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375060-DE15-45F5-B16B-9FD4DBF9E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132F95-9EE2-4CCC-8123-E747AC190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9C77B8-252C-4D41-85B0-7BF28CF1E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8685CE-931D-4D4A-8A50-A95B18C20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869BC5-4BFD-476B-95EA-A89D34B9F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982B2E-5F5E-491E-AE8C-B2D27065E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37FF9B-F34F-439F-8245-55A9219AF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C0D9ED-D6B8-4E2A-B61D-AA159C3C8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2F2AD-F307-45B1-8DA1-510CBFBF1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6063CB-B396-4853-B363-78471FC9E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A7EE93-3F86-4A88-8BE1-EF6FFA385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AFF674-A8AD-4E58-B69E-CDB5F29F9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06A2CC-EC4C-4ED2-A009-4F3ED007C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329DF0-13A6-4690-B378-E67560458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967CB0-6E69-49BC-B853-B7D086704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87600B-0F6E-46EE-A18D-091914BA1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echthoekige driehoek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Rechte verbindingslijn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5EFF3-3664-48AA-8AA1-6C4467BDDFB2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hthoekige driehoek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e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Vrije vorm 15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Vrije vorm 18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Vrije vorm 18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Vrije vorm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Rechte verbindingslijn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D263D-82C3-4E9D-B234-7584B4AF6F6D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Punthaak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unthaak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4A470-88A1-46B9-9910-D20D9F34F6DA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8FC64-0301-4452-8B6D-4A66B0200374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55CBF-277E-4EBC-89E3-95B5BE7289C4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44944-7414-4F03-812C-7D97A8CD9CB4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701C3-8B65-47D0-945F-A9F834CE7A33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Vrije v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Vrije v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echthoekige driehoek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Rechthoekige driehoek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Rechte verbindingslijn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Punthaak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unthaak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26D50-BCA7-4FCC-94ED-2222BAF6901C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el 1" descr=""/>
          <p:cNvPicPr/>
          <p:nvPr/>
        </p:nvPicPr>
        <p:blipFill>
          <a:blip r:embed="rId1"/>
          <a:stretch/>
        </p:blipFill>
        <p:spPr>
          <a:xfrm>
            <a:off x="689040" y="1755720"/>
            <a:ext cx="7772400" cy="18288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755640" y="1125360"/>
            <a:ext cx="7772400" cy="3686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Lucida Sans Unicode"/>
              </a:rPr>
              <a:t>ECONOMIE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Paragraaf 4.2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Een eigen huis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2" name="AutoShape 6"/>
          <p:cNvSpPr/>
          <p:nvPr/>
        </p:nvSpPr>
        <p:spPr>
          <a:xfrm>
            <a:off x="155520" y="-2095560"/>
            <a:ext cx="6991560" cy="43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AutoShape 8"/>
          <p:cNvSpPr/>
          <p:nvPr/>
        </p:nvSpPr>
        <p:spPr>
          <a:xfrm>
            <a:off x="307800" y="-1943280"/>
            <a:ext cx="6991560" cy="43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AutoShape 10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AutoShape 12"/>
          <p:cNvSpPr/>
          <p:nvPr/>
        </p:nvSpPr>
        <p:spPr>
          <a:xfrm>
            <a:off x="216000" y="1584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Picture 11" descr="https://www.onderhandelmakelaar.com/blog/wp-content/uploads/sites/2/2014/12/Huis-kopen.jpg"/>
          <p:cNvPicPr/>
          <p:nvPr/>
        </p:nvPicPr>
        <p:blipFill>
          <a:blip r:embed="rId2"/>
          <a:stretch/>
        </p:blipFill>
        <p:spPr>
          <a:xfrm>
            <a:off x="0" y="0"/>
            <a:ext cx="2916360" cy="291636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13" descr="http://www.duinstramakelaars.nl/wp-content/uploads/2015/05/Nu-een-huis-kopen-wel-of-niet-verstandig.jpg"/>
          <p:cNvPicPr/>
          <p:nvPr/>
        </p:nvPicPr>
        <p:blipFill>
          <a:blip r:embed="rId3"/>
          <a:stretch/>
        </p:blipFill>
        <p:spPr>
          <a:xfrm>
            <a:off x="6372360" y="0"/>
            <a:ext cx="2771640" cy="23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Zelf via het internet zoeke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Een makelaar inschakele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Hij weet welke woningen er te koop zijn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Hij weet ook wat een redelijke prijs is voor de woningen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Hij kan over de prijs onderhandelen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Hij kan zorgen voor een rapport over de kwaliteit van de woning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Hij weet wat er in de omgeving van de woning wel en niet gebouwd mag worden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9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5" descr="https://www.makelaarsland.nl/Content/images/makelaarplaats-landingpage.jpg"/>
          <p:cNvPicPr/>
          <p:nvPr/>
        </p:nvPicPr>
        <p:blipFill>
          <a:blip r:embed="rId2"/>
          <a:stretch/>
        </p:blipFill>
        <p:spPr>
          <a:xfrm>
            <a:off x="5076720" y="0"/>
            <a:ext cx="4067280" cy="160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539640" y="90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302760" indent="-21204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Als je een bestaande woning koopt, staat er achter de aankoopsom k.k. (kosten koper)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02760" indent="-2120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De nieuwe eigenaar moet rekenen op ongeveer 6%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extra kosten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die hij zelf moet betalen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02760" indent="-2120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- Overdrachtsbelasting (2%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02760" indent="-2120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- Kosten makelaar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02760" indent="-2120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- Notariskosten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02760" indent="-2120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- Afsluiten hypotheek       enz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02760" indent="-2120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02760" indent="-2120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Nieuwe woning kopen??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v.o.n (vrij op naam)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02760" indent="-2120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Minder extra kosten betalen! Rest wordt door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02760" indent="-2120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verkoper betaald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02760" indent="-2120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02760" indent="-2120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2" name="Titel 2" descr=""/>
          <p:cNvPicPr/>
          <p:nvPr/>
        </p:nvPicPr>
        <p:blipFill>
          <a:blip r:embed="rId1"/>
          <a:stretch/>
        </p:blipFill>
        <p:spPr>
          <a:xfrm>
            <a:off x="212760" y="0"/>
            <a:ext cx="8486640" cy="124308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2" descr="https://encrypted-tbn1.gstatic.com/images?q=tbn:ANd9GcSX3ginltl9DQXNYxJBgB419BT25sVNZ2Nknwu6YUdxAmwJanIv-A"/>
          <p:cNvPicPr/>
          <p:nvPr/>
        </p:nvPicPr>
        <p:blipFill>
          <a:blip r:embed="rId2"/>
          <a:stretch/>
        </p:blipFill>
        <p:spPr>
          <a:xfrm>
            <a:off x="7524720" y="5249880"/>
            <a:ext cx="1619280" cy="160812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4" descr="http://i204.photobucket.com/albums/bb128/Binnetie/Knipsel_zps344d83ce.jpg"/>
          <p:cNvPicPr/>
          <p:nvPr/>
        </p:nvPicPr>
        <p:blipFill>
          <a:blip r:embed="rId3"/>
          <a:stretch/>
        </p:blipFill>
        <p:spPr>
          <a:xfrm>
            <a:off x="5602320" y="2637000"/>
            <a:ext cx="354168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Koper en verkoper eens over de verkoop?? </a:t>
            </a:r>
            <a:r>
              <a:rPr b="0" lang="en-US" sz="25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 voorlopig koopcontract afsluiten (meestal opgesteld door verkoper). 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Het klinkt een beetje gek, maar ‘voorlopig’ betekent dat je maar 3 dagen bedenktijd hebt om het contract te annuleren.  Houd dit in de gaten!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Na deze 3 dagen kun je niet meer zonder boete (10% van de aankoopsom) het contract opzeggen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6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387" name="AutoShape 2"/>
          <p:cNvSpPr/>
          <p:nvPr/>
        </p:nvSpPr>
        <p:spPr>
          <a:xfrm>
            <a:off x="155520" y="-1881360"/>
            <a:ext cx="5886360" cy="39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Picture 4" descr="Gerelateerde afbeelding"/>
          <p:cNvPicPr/>
          <p:nvPr/>
        </p:nvPicPr>
        <p:blipFill>
          <a:blip r:embed="rId2"/>
          <a:stretch/>
        </p:blipFill>
        <p:spPr>
          <a:xfrm>
            <a:off x="6948360" y="5397480"/>
            <a:ext cx="2195640" cy="146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 txBox="1"/>
          <p:nvPr/>
        </p:nvSpPr>
        <p:spPr>
          <a:xfrm>
            <a:off x="457200" y="1267920"/>
            <a:ext cx="8229600" cy="47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Je kan ook van de koop af als je vantevoren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Lucida Sans Unicode"/>
              </a:rPr>
              <a:t>ontbindende voorwaarden  </a:t>
            </a: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(meestal over financiering en bouwtechnische keuring) in het contract hebt opgenomen. Bijv. als je geen geld kan lenen, dat de koop niet doorgaat.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De definitieve koopovereenkomst wordt opgesteld door de notaris en door de koper en verkoper ondertekend. Deze overeenkomst heet de transportakte.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0" name="Titel 2" descr=""/>
          <p:cNvPicPr/>
          <p:nvPr/>
        </p:nvPicPr>
        <p:blipFill>
          <a:blip r:embed="rId1"/>
          <a:stretch/>
        </p:blipFill>
        <p:spPr>
          <a:xfrm>
            <a:off x="201600" y="249120"/>
            <a:ext cx="8485200" cy="115884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2" descr="http://www.beilen-notaris.nl/files/2012/07/testament.jpg"/>
          <p:cNvPicPr/>
          <p:nvPr/>
        </p:nvPicPr>
        <p:blipFill>
          <a:blip r:embed="rId2"/>
          <a:stretch/>
        </p:blipFill>
        <p:spPr>
          <a:xfrm>
            <a:off x="6516720" y="0"/>
            <a:ext cx="2627280" cy="137952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4" descr="http://www.groningennotaris.nl/files/2011/04/notaris.jpg"/>
          <p:cNvPicPr/>
          <p:nvPr/>
        </p:nvPicPr>
        <p:blipFill>
          <a:blip r:embed="rId3"/>
          <a:stretch/>
        </p:blipFill>
        <p:spPr>
          <a:xfrm>
            <a:off x="3203640" y="3284640"/>
            <a:ext cx="2663640" cy="99540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6" descr="http://www.notarisrotterdam.com/images/transportakte.gif"/>
          <p:cNvPicPr/>
          <p:nvPr/>
        </p:nvPicPr>
        <p:blipFill>
          <a:blip r:embed="rId4"/>
          <a:stretch/>
        </p:blipFill>
        <p:spPr>
          <a:xfrm>
            <a:off x="7956720" y="5275440"/>
            <a:ext cx="1187280" cy="158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" descr=""/>
          <p:cNvPicPr/>
          <p:nvPr/>
        </p:nvPicPr>
        <p:blipFill>
          <a:blip r:embed="rId1"/>
          <a:stretch/>
        </p:blipFill>
        <p:spPr>
          <a:xfrm>
            <a:off x="457200" y="148104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396" name="Picture 2" descr="http://www.wegwijs.nl/media/53832356/unnamed_558x558.jpg"/>
          <p:cNvPicPr/>
          <p:nvPr/>
        </p:nvPicPr>
        <p:blipFill>
          <a:blip r:embed="rId2"/>
          <a:stretch/>
        </p:blipFill>
        <p:spPr>
          <a:xfrm>
            <a:off x="1692360" y="0"/>
            <a:ext cx="6143400" cy="614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 txBox="1"/>
          <p:nvPr/>
        </p:nvSpPr>
        <p:spPr>
          <a:xfrm>
            <a:off x="457200" y="333360"/>
            <a:ext cx="8229600" cy="567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502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e eigendomsoverdracht van alle onroerende zaken vindt plaats bij de notaris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e notaris zorgt er vervolgens voor dat de transportakte in het kadaster wordt ingeschreve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Onroerende zaken = grond en alles wat daaraan vastzit (gebouwen, huizen, kantoren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Kadaster = instelling waar alle onroerende zaken in Nederland staan geregistreerd. (Hier is dus bekend van wie wat is)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1T14:51:49Z</dcterms:created>
  <dc:creator>rachid</dc:creator>
  <dc:description/>
  <dc:language>en-US</dc:language>
  <cp:lastModifiedBy>Rachid Hamdi</cp:lastModifiedBy>
  <dcterms:modified xsi:type="dcterms:W3CDTF">2016-12-07T10:53:08Z</dcterms:modified>
  <cp:revision>68</cp:revision>
  <dc:subject/>
  <dc:title> </dc:title>
</cp:coreProperties>
</file>