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7.png" ContentType="image/png"/>
  <Override PartName="/ppt/media/image11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E946-3645-4520-82C0-9542E053C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B879-7F06-45CF-8827-168F01DA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85E4-C3A5-4CE7-A055-548B2834A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7A4E-ACC5-4D6C-B557-D7CA8CA62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5829-E0C8-4513-823A-9E103A2C0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A8029-B366-4643-9468-8E5FE83C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B082-03EA-424E-B31F-2C0DACCB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964B-A285-41A7-A559-1D9B83C3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0B7D-9260-42F7-B55B-227756BB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9DE50-6A59-45AA-B847-767057BE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BFEE-C6ED-4E45-A639-3560F6C3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BA35-49F1-47B1-94AB-2D102188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2251C-FC72-4888-8DBD-2261810D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0D10E-1870-4926-BAF2-2887A30D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A77D-2710-4972-89DC-7D006392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D80D-78B4-42EB-B11A-4A701C101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529D-5A5E-410F-9F84-629BE95C8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4B21A-719F-4756-8217-583111208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2CC15-95BB-4676-9CF4-A5F0106F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887A3-58D9-4256-BAE3-295567F8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AE2A2-CD08-45C5-A938-68FAD78D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3638E-4716-47FB-B8BA-C9CB88FD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7833-4263-4F70-8E73-50A551DC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BFF32-0A7B-44A3-B637-4743E093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1024C-F33D-4A46-A3F0-92075CF8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82E26-71DB-41E9-98A5-7C3BBE30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F7FF0-E738-422E-85B3-D35D3ACA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4152E-50E3-4349-B970-8B8C5584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9D595-47E3-4979-9F2F-289B18BD7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2637E-A689-4C9F-B02E-50405B192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D4E0E-0B32-457F-9DA4-361C97CDD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4749F-EE33-42AB-8D72-CC2511C8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4F7E2-268F-4EBC-AA17-8312118D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C1E8-35ED-4670-92A3-6C18CFE0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77D0A-EE17-43E0-B938-742026FD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5EB62-BDEF-4C75-BB06-026FEC33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6910C-BB93-44C7-BC62-0269B569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01370-DA5D-41C2-86C4-E88FF0D3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6C751-9C91-4A54-B54F-31F1A3C7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24406-922E-4536-9F96-9CF4BED7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4C90B-2ADB-4493-AF34-5C6C5F69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1A91B-807C-46AD-900E-175A39972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88EA8-4F5B-482A-8BD9-02DC1EE18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A33EE-9FE6-420D-A935-DDE89E503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10C8-B55A-403A-A7A6-5114D9A0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7EB55-C72F-4061-9856-1C12D0F5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22A1A-D726-4776-9C7B-CC838D24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3CC07-971A-4B5A-88F7-C83AF69F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D83BE-11B5-408B-BCC1-CE26D44A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5E052-A663-457D-99FC-BF82D8C6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5BAA7-8158-432D-977A-E68976D5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CD9AA-FA76-4536-BF38-A81F9C68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6E577-8BD8-49A5-B6C2-2931E353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08A7D-BEF2-4160-AE05-F29AD34B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BC2A6-EF22-416E-B001-516DE37BE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FD11-5BE4-4BCB-B97C-51CA2ECD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71006-9475-4305-ACEB-4F044888B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BA4DF-6F7A-46C0-A749-1104F118C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55A05-3423-492D-B7D2-DFD5BEAA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56184-1F57-44F0-9D01-EF4E5889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E4995-C29E-453E-9FBA-2E99BDD1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474C1-78B0-4C10-8E0A-8E0F3CA8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EEDBC-DC0D-4413-B3D0-26D075F0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2C95E-497C-4266-88A0-0CFE5D9B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19D13-88E0-4D59-8A3E-C92489E7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C11D9-5155-42BE-B7E5-32D32985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7182-3302-4A60-854D-5D10F43F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B2AB3-4CD0-4483-9980-4689F852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94DBE-FA3B-41F7-BB00-A3F0EA7FD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26681-8740-48B9-AD17-8B62A8AE3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C7EAF-EB70-4FB0-895E-617541256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37173-9231-4903-BCB3-3CB66C85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4FA69-9210-4EBB-B0E1-6CD9D6D3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2396F-3A69-4262-A362-50212C25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EA4BF-7966-4A3B-91CA-0D16A0F0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E44FC-1ABB-4171-BA98-66E46C53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87BF5-B6A7-4EC7-A013-9F5C60A6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7DA2-63D4-480C-AD54-2494B9F8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DED22-D839-4F24-8B1A-69E87F14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2CA1C-58FC-436D-B2A7-E8F1DE14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CD338-D4AE-4F67-8301-0C407B88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02AF7-D64B-4606-B0C7-2E97F1861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104A1-6475-44BB-84A2-863AA0519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711DD-B005-4FA0-B72E-87FE2E53E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4E262-107C-41F4-9F29-5BD2D1B3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2F318-2AD8-41B0-AB25-1890666D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9D54E-AB67-4825-9311-6808DF46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D7800-700E-4AE5-9F8F-C1F28D5F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0BD2-A7BA-4385-BDA6-B1FA703C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0FF5A-C080-48DF-8E50-5440277C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AB19A-8F5E-40A3-B016-F3B314A7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25956-899C-4AB1-8117-34E06673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EEB26-0696-401A-85BE-D3BE766E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A96BA-64B3-4E38-89B7-D5BA47AF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DA441-1F01-4380-9FBF-086E101F1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EDD93-F544-4F73-AA19-81C1487FE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AE1F-C42D-4848-9D81-B05B4DE5824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F9CD-7EE0-4910-942B-8D2749D0A257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B057-22A0-4AC4-B61D-54C4D6B5078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3B23-B5E8-4507-AE33-E52B9497BF5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9236-4865-4FEC-8800-4CD1E53518B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973C-3004-4BA2-98A2-4264FDFBB4B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05AA-3C45-4B7C-8E9B-C78124FC66F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8162-71F6-492A-A7D6-885F2495DA39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6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Goed verzekerd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Afbeeldingsresultaat voor goed verzekerd"/>
          <p:cNvPicPr/>
          <p:nvPr/>
        </p:nvPicPr>
        <p:blipFill>
          <a:blip r:embed="rId2"/>
          <a:stretch/>
        </p:blipFill>
        <p:spPr>
          <a:xfrm>
            <a:off x="0" y="17640"/>
            <a:ext cx="3132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836640"/>
            <a:ext cx="868680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pstalverzekering; schade aan huis/kanto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boedelverzekering; schade aan spullen in huis/kanto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ansprakelijkheidsverzekering particulieren (AVP); schade aan de and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ettelijke aansprakelijkheidsverzekering (WA); voor bestuurders motorvoertuigen (verplicht!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-cascoverzekering (all riskverzekering); schade van tegenpartij en eigen voertui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orgverzekering; voor ziektekosten (verplicht!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12760" y="0"/>
            <a:ext cx="8705880" cy="12430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Afbeeldingsresultaat voor WA verzekering"/>
          <p:cNvPicPr/>
          <p:nvPr/>
        </p:nvPicPr>
        <p:blipFill>
          <a:blip r:embed="rId2"/>
          <a:stretch/>
        </p:blipFill>
        <p:spPr>
          <a:xfrm>
            <a:off x="6858000" y="5367240"/>
            <a:ext cx="2286000" cy="1486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Afbeeldingsresultaat voor opstalverzekering"/>
          <p:cNvPicPr/>
          <p:nvPr/>
        </p:nvPicPr>
        <p:blipFill>
          <a:blip r:embed="rId3"/>
          <a:stretch/>
        </p:blipFill>
        <p:spPr>
          <a:xfrm>
            <a:off x="4586400" y="5392800"/>
            <a:ext cx="2271600" cy="14922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6" descr="Afbeeldingsresultaat voor inboedelverzekering"/>
          <p:cNvPicPr/>
          <p:nvPr/>
        </p:nvPicPr>
        <p:blipFill>
          <a:blip r:embed="rId4"/>
          <a:stretch/>
        </p:blipFill>
        <p:spPr>
          <a:xfrm>
            <a:off x="2706840" y="545616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" descr="Afbeeldingsresultaat voor aansprakelijkheidsverzekering particulieren"/>
          <p:cNvPicPr/>
          <p:nvPr/>
        </p:nvPicPr>
        <p:blipFill>
          <a:blip r:embed="rId5"/>
          <a:stretch/>
        </p:blipFill>
        <p:spPr>
          <a:xfrm>
            <a:off x="306360" y="5486400"/>
            <a:ext cx="239400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9806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Oververzekerin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hogere verzekerde waarde dan juiste of getaxeerde waarde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Zonde van de hogere premie die betaalt, want bij schade krijg je niet meer vergoed dan de werkelijke schad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Onderverzekerin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lagere verzekerde waarde dan juiste of getaxeerde waard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ij schade krijg je minder vergoed dan de werkelijke schade, omdat je maar voor een deel bent verzekerd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Hierbij geldt de onderverzekeringsbreuk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el 2" descr=""/>
          <p:cNvPicPr/>
          <p:nvPr/>
        </p:nvPicPr>
        <p:blipFill>
          <a:blip r:embed="rId1"/>
          <a:stretch/>
        </p:blipFill>
        <p:spPr>
          <a:xfrm>
            <a:off x="268200" y="0"/>
            <a:ext cx="8454960" cy="1189080"/>
          </a:xfrm>
          <a:prstGeom prst="rect">
            <a:avLst/>
          </a:prstGeom>
          <a:ln w="0">
            <a:noFill/>
          </a:ln>
        </p:spPr>
      </p:pic>
      <p:sp>
        <p:nvSpPr>
          <p:cNvPr id="385" name="PIJL-RECHTS 3"/>
          <p:cNvSpPr/>
          <p:nvPr/>
        </p:nvSpPr>
        <p:spPr>
          <a:xfrm>
            <a:off x="6516720" y="6165720"/>
            <a:ext cx="2232000" cy="432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2" descr="Afbeeldingsresultaat voor oververzekering"/>
          <p:cNvPicPr/>
          <p:nvPr/>
        </p:nvPicPr>
        <p:blipFill>
          <a:blip r:embed="rId2"/>
          <a:stretch/>
        </p:blipFill>
        <p:spPr>
          <a:xfrm>
            <a:off x="6684840" y="2565360"/>
            <a:ext cx="2482920" cy="12175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Afbeeldingsresultaat voor onderverzekering"/>
          <p:cNvPicPr/>
          <p:nvPr/>
        </p:nvPicPr>
        <p:blipFill>
          <a:blip r:embed="rId3"/>
          <a:stretch/>
        </p:blipFill>
        <p:spPr>
          <a:xfrm>
            <a:off x="2336760" y="2565360"/>
            <a:ext cx="173376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Lucida Sans Unicode"/>
              </a:rPr>
              <a:t>(Verzekerd bedrag : getaxeerde waarde) x schade = schade uitkerin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7-01-11T09:15:51Z</dcterms:modified>
  <cp:revision>80</cp:revision>
  <dc:subject/>
  <dc:title> </dc:title>
</cp:coreProperties>
</file>