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D7AC-8600-401D-84E4-64007872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47CC-777C-4BCD-A1F6-0DE556B2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888-78DF-4392-8E30-27E35328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895-6A9D-4953-809C-DEED4923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C742-9426-4D97-890E-A911F13E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409E-84F3-47AF-B8CD-3088C786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886D-EFD8-4461-A0C8-EA2EC582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57EE-A3E6-4D7F-9556-3C088A4A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AD0D-69E6-496D-AB2D-AE20C6BC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F721-1720-46B8-85C4-3E2B140C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8104-8641-4308-BEAE-1ADBA73B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895-F642-40A7-BA00-B3C11238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B015-9A2F-4CC6-A670-1E7DEF0E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3D24-FD17-4F45-80AB-051F7FF6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4E03-9AFC-4949-8B70-80CA8D14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B3CA-7F4C-4DC3-92D5-79EC663C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D41B-BCB7-4CB9-B6AF-63002DF2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004B7-1CB8-4D7C-84D7-EDC87B11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D8681-CB80-4D33-9FF3-15E84EC0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F1CFB-A668-4994-91AA-D7EC8B70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9F948-37B3-46FC-8B4D-55DBA812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7573E-36F4-4ED0-BBC2-C2AC62F9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3F0-CA77-49F7-881C-2992D233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AE113-F5E4-47FB-9BBA-76965013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87331-3008-4D9A-97ED-4CE823C1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9E174-42BB-4564-8F90-7707854A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57981-07FB-4430-8AF2-78F4EA6E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96550-773A-4ACB-8B57-82F20D4A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09218-37DA-45B6-9419-FA29401B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EFBA8-693C-4502-801D-C12955EE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52B8E-661D-4EAA-9E95-43D27906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14268-F54E-491A-A977-7A3387AE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BB216-9FED-4DB1-9205-25D3D6E7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D22-AC17-44FE-81E1-7E720207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126D2-12B4-4A6E-AB7F-002BC365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D5A4B-37BD-48C1-A579-BC4DFC76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BEA7E-B7B8-492E-81AE-82619FA3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E3D8C-E598-45F2-9A20-773D6323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50D2C-1867-4450-94D3-BBF055C6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76AAD-1A55-4996-B46D-A50B4468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95CDA-B784-4C19-B8C5-7A844988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2F8CB-508F-455E-81CA-E3D14AC3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6DF0C-6673-4768-B50C-35364A15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4AC91-966A-43BF-9459-F8E77FE6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9D8-F13D-4717-B902-8B07C859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2B714-BDC6-4CC2-8E7B-87FB3C7D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1CD89-D521-4221-A517-A74E38FD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3C37E-CAB5-4C89-92B4-4F7D3F9F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BE1B2-4110-40DA-9FC4-2774AADE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D605A-29D0-426A-BAED-CB4C85CB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BB8AE-D7A0-47E2-8B40-DE272B63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BAD23-075A-480A-B3CB-B85785C5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F9157-58F3-4703-8A2D-957B41F8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C70A5-CEBB-4B23-9609-772F8B43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33EDF-4D8A-4816-8131-4822DC16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948-7CBE-4F79-A117-77F79994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84D37-CC02-4EB2-9347-D097E48C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94E2B-D817-4152-BCBA-E76AEE67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9EE30-85D3-44CD-868A-C07A17CF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704EC-3FF7-4738-BB9B-4CB990F2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683EC-8CAA-4461-8387-A56AEA8C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DF9C0-CD70-41F2-96F5-BD505FAC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E6F2F-798B-4442-942E-D0158F2F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61CC5-8AE6-4EA8-B88B-76CF4D53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EC39D-5CB7-487E-8B5A-83ACE95B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31E37-D760-4CD5-AFC1-C40CA9A6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16AC-0554-4B5F-81D6-C62FF0BD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772BA-BBF5-4655-B27E-4BB860EB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2A4BD-8094-429C-838D-8071F327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4A423-5230-4BA4-BB0E-B8DF81CD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DBCFC-95D3-4FF9-81AB-884E0B3E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EF202-F15E-4ADE-AB91-57C647C8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B9CC7-1069-4716-A9D1-9433D17F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5E79E-7FFB-4302-94CA-2CDAF8E4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DB06C-0081-4054-9126-B4515D55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E1735-BD12-4533-BE04-2D683DF4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9C869-F194-40EC-9D0E-251EBF4C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4AB-5A58-4E2A-A313-B9D302BD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33E16-2D5A-4D68-BA6C-1B193205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DBE18-062F-40E4-8DCA-88E725F3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16064-4E70-4342-9EB4-203655DF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7A3B0-3CAB-4EB5-A816-492315A6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036BE-CD50-4BCA-B542-3A4BEBDE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5A752-D247-43C1-9374-1771CFFD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BB851-5FC8-422B-B13D-405761D2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AD40A-2EF6-4E2E-930B-348BFE58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72ED0-0138-44D1-8442-B9D5E303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CBA27-A39D-4486-AF15-CEA810CE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5F9-C818-42DA-B1A6-8778AF7C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23F08-7CAC-47B3-A57D-8EF655D9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768C7-AFB3-45D3-BE2D-5DB6785D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D912B-7095-4FA3-AFA8-CDD2A421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7138C-DCFA-4FEB-B1C1-D5F34AB1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67AC7-82B1-4D35-8394-D4482ED4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7E8B2-9DCF-4145-A1DC-003C16F3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BCB8D-B90C-4547-A43E-EEFFD73F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0504-DBB7-4ED2-A121-75B65F0478B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E37D-1954-4D14-9C19-55B52C93562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EC03-2E0A-479C-AF91-3D46D49AD8D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E66C-F3B5-452C-BF5A-CA1A59EC445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4548-0990-405F-B784-531CA811E3F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4028-C65B-49B2-A515-F2DD2A07263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5E7C-50C1-486A-A6AB-238737B251B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126D-6FE2-4861-8178-ECCBFC675F3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ren of kope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huren of kopen"/>
          <p:cNvPicPr/>
          <p:nvPr/>
        </p:nvPicPr>
        <p:blipFill>
          <a:blip r:embed="rId2"/>
          <a:stretch/>
        </p:blipFill>
        <p:spPr>
          <a:xfrm>
            <a:off x="-11160" y="-22320"/>
            <a:ext cx="31672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539640" y="1341360"/>
          <a:ext cx="7442280" cy="4343400"/>
        </p:xfrm>
        <a:graphic>
          <a:graphicData uri="http://schemas.openxmlformats.org/drawingml/2006/table">
            <a:tbl>
              <a:tblPr/>
              <a:tblGrid>
                <a:gridCol w="4057920"/>
                <a:gridCol w="3384360"/>
              </a:tblGrid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ettelijke huurbescherming (verhuurder kan je niet zomaar op straat zet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het huis niet verbeteren zoals jij w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in aanmerking komen voor huurtoes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arlijkse huurverhoging (op 1 jul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urcontract kan binnen korte tijd opgezegd worden (gemakkelijker verhuiz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en opbouw eigen verm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4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et verantwoordelijk voor groot onderhoud (verhuurder betaalt dit); voorbeelden zijn: rotte kozijnen, lekkende dakgoten, tochtende ramen en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611280" y="1268280"/>
          <a:ext cx="7705800" cy="4845240"/>
        </p:xfrm>
        <a:graphic>
          <a:graphicData uri="http://schemas.openxmlformats.org/drawingml/2006/table">
            <a:tbl>
              <a:tblPr/>
              <a:tblGrid>
                <a:gridCol w="4200480"/>
                <a:gridCol w="3505320"/>
              </a:tblGrid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oning aanpassen aan eigen woonwen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erhuizen is lastiger (eerst huis verkopen tegen een goede prijs en dan een geschikte woning vinden voor een redelijke prij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s de rente niet omhoog gaat, zijn de hypotheeklasten stabiel (= gelij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t is niet van tevoren bekend of de rente omhoog gaat (en dus ook de hypotheeklas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or af te lossen bouw je eigen vermogen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Zelf aansprakelijk voor groot onderh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is kan in waarde da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tra belastingen en heffingen. Bijvoorbeeld onroerende zaakbelasting en opstalverzekering (= verzekering van het huis tegen storm- en brandscha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zelf het klein onderhou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inboedelverzekering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fbeeldingsresultaat voor inboedelverzekering"/>
          <p:cNvPicPr/>
          <p:nvPr/>
        </p:nvPicPr>
        <p:blipFill>
          <a:blip r:embed="rId2"/>
          <a:stretch/>
        </p:blipFill>
        <p:spPr>
          <a:xfrm>
            <a:off x="3851280" y="4822920"/>
            <a:ext cx="5291280" cy="2035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Afbeeldingsresultaat voor klein onderhoud woning"/>
          <p:cNvPicPr/>
          <p:nvPr/>
        </p:nvPicPr>
        <p:blipFill>
          <a:blip r:embed="rId3"/>
          <a:stretch/>
        </p:blipFill>
        <p:spPr>
          <a:xfrm>
            <a:off x="6450120" y="2276640"/>
            <a:ext cx="2663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5T16:16:24Z</dcterms:modified>
  <cp:revision>69</cp:revision>
  <dc:subject/>
  <dc:title> </dc:title>
</cp:coreProperties>
</file>