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2.png" ContentType="image/png"/>
  <Override PartName="/ppt/media/image7.png" ContentType="image/png"/>
  <Override PartName="/ppt/media/image13.png" ContentType="image/png"/>
  <Override PartName="/ppt/media/image11.jpeg" ContentType="image/jpeg"/>
  <Override PartName="/ppt/media/image9.jpeg" ContentType="image/jpeg"/>
  <Override PartName="/ppt/media/image5.jpeg" ContentType="image/jpeg"/>
  <Override PartName="/ppt/media/image8.jpeg" ContentType="image/jpeg"/>
  <Override PartName="/ppt/media/image22.png" ContentType="image/png"/>
  <Override PartName="/ppt/media/image19.jpeg" ContentType="image/jpeg"/>
  <Override PartName="/ppt/media/image21.png" ContentType="image/png"/>
  <Override PartName="/ppt/media/image4.png" ContentType="image/png"/>
  <Override PartName="/ppt/media/image20.png" ContentType="image/png"/>
  <Override PartName="/ppt/media/image3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5.png" ContentType="image/png"/>
  <Override PartName="/ppt/media/image14.jpeg" ContentType="image/jpeg"/>
  <Override PartName="/ppt/media/image2.png" ContentType="image/png"/>
  <Override PartName="/ppt/media/image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90F2-BA17-4DD8-B4F2-5E3D0C4BD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854B-AF08-4794-B710-FEEA13C97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D7D7-F050-41CA-AACB-9BAC49349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F3AA-6C9B-4761-8BF1-CB6330E84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13322-C721-440B-B81A-F8747E4B2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81754-115D-4AA1-A426-8C410CC1B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A57FE-57A9-4125-A8A5-A0FE63039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444A3-7B59-4F53-97D5-E6DAEDC0A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81AED-6311-40EB-9C5C-7495B0226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55EC1-8EA1-4AEF-99A8-0E14ABD5F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FD496-804D-40E8-9E12-09362E1A2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BAE9-A931-4866-9192-7DF706295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71BE8-96B7-4B27-BC04-B470EA299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E2C50-3EA7-4157-A619-342824C96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28974-C2ED-4D9D-AF02-1D54241E4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A0B35-D07D-4B82-86FE-3AE9C427F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FC4F0-D9C7-4685-9AA6-C77F18540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2844BD-DFAB-420D-83DD-A2BFAEBFF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33E441-5D30-469E-9EA3-66EC8BAE0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B13C73-DBD1-42C6-A8E5-77A6C5BFC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1E063F-BEF4-4A84-B47A-A3CC19F4D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3ACFF5-10C1-4C1E-846A-007A57EBA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7A74-A183-485A-A145-5A0650A60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EF869D-32C5-4D06-9DB5-8271CF86F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AF0E01-1066-460D-B7C2-1581A31D6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9F6B5A-A1FB-4FF8-B47B-E6E25B1E7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789DFB-D823-46DA-B497-1432AADB2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913B36-F1B3-4248-B661-55D9F0305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6FB89B-B998-447C-9168-1D437859D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010DEF-9D7B-46C4-B760-EC2CD1D72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7F1374-F880-4542-BE7A-219C4BE65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5A8565-E14D-46F6-A17D-31856C89A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9ABD14-B8F1-40F6-879A-47CA7F944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885A-60C9-424A-AD56-48B8C56AE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C17936-97B3-4B8C-B4EE-BED6F75A4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E5DC3D-1F2B-4DE2-972D-6AF7A0F28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639595-5A66-4CCF-9B79-AB7FA2E26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221984-5B0A-48A3-A98A-940BAC42F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A45903-A9F3-4CC1-B5E2-AB27427DA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E40F3B-1316-4C93-A313-AFB1B58C4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1DC22C-55C0-43FF-81C1-08F24E2D9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CDAAF6-46FF-4053-A903-2FAFE21FA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9C9721-681E-4186-8A84-91D9DA42A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48B250-C4FD-411B-9202-5862087E0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4F1F-61BE-43EB-90E4-4F72C33CA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1B7B4F-23F9-4F8D-8D88-303FD85C8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8914DD-4EE7-44FB-8C95-3FD1BE83F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960CCC-DB4B-429F-A742-3816FB087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C56D66-198A-483D-9C64-CF5D79BBD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0791C2-EF03-4898-A43F-B4B310379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F3B1D0-FC21-4C52-AA95-6E037386A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D170F8-6B35-4275-A982-5C14FDCC5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0CADC5-5586-4362-AAD9-0F5A70859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8F0BA0-5F07-43D1-860E-8F9C04972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905AAE-371E-40E8-A928-29764E4DA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CF1D-DC03-465E-A8D2-6B45189C0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1ACAD8-FE1D-45C9-BB61-515BD02E6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5F9DF5-24B1-4ADC-A65C-9E83D6F11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8F661B-9DF9-49AE-9584-DD89D7F90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42F65A-C53E-4BF3-8D3A-2C675AAAA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215510-1989-4824-87A5-E98FCCD6A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FA889E-4746-4EA8-BB21-40EA34FAF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D75104-B6EC-4181-8A81-5D4D7D0AF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2A9F01-0568-40D2-BD77-AB37C5582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CF2652-56EC-4073-B486-128239DE8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FD2C51-4B4C-4C9A-BA0E-3A0423C3E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2EF0-CE60-45C3-82CE-AE384C817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469598-34A1-45B2-B3ED-C4202E0BF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01DA03-BB1D-4C31-B998-A2688BCEB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11C0F1-2DBA-4DFA-BC9B-6765252CD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E9093B-D89A-4E4E-980C-3EBEBD0A4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CD81D6-9604-43C5-B688-98FE0809C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7F19C1-B10D-450D-8DA1-60BE86EB7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34075E-4BED-4AE7-B560-35AFAA928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78E76A-B7A5-44EF-A0A6-E6888E690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638688-E54E-41AA-BFF8-C4A1A5031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25543C-C8F4-4C33-8823-07F3B64C3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D436-90A2-4C5D-84D7-5285833C5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2517D3-09D6-4630-9243-99377987A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60B62D-142F-4A2A-97B6-04CF19399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FFD0CC-6C04-4966-8AE1-BEAF77B83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1A3843-D61E-4237-9883-EF55F7898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D0EF52-47C9-4F81-A2F6-050A261EF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884607-55EC-41DB-887D-C8168DF5D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51D93F-0648-43F6-BB45-C971E2CAC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2590ED-C62A-4485-A9DD-74A72B623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6C964D-5E23-497C-A3FE-B9F8D5D06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773436-22EA-4A43-88BD-22B8E5920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DEAE-3989-4A16-B4AA-5ECBDF517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CCDB7F-B996-4F83-95C1-8150CA34A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58DF84-4994-4A58-B83E-1A83D126D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6C715C-BE5C-449E-99EA-0A11AE415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0C36C0-0357-44C2-BE82-02028F6B3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20D63D-AF0A-480A-A8FE-35080A6B4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58ED00-A0A3-41CD-A542-283424A2F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46C86B-F358-4999-B660-AE364F2BA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A068C-81EA-4742-B171-3CD5D8A913DC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Vrije v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71E15-21C7-4CB9-8F99-6CFAAE8EBBB0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8837C-23B0-4BD6-93AF-07213BB5B829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383FC-B271-4C80-B31F-1319BDE43BFE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0F340-4181-4EA6-8089-D1EB357CC7C3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E502D-9E43-45C9-8737-823625EF2C0D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23952-DA0E-477F-A8DF-9620356A8078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48D86-B5A5-43AC-BE02-2B8C774E39DC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el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755640" y="1125360"/>
            <a:ext cx="7772400" cy="3686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Lucida Sans Unicode"/>
              </a:rPr>
              <a:t>ECONOMI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Paragraaf 4.2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Een eigen huis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AutoShape 6"/>
          <p:cNvSpPr/>
          <p:nvPr/>
        </p:nvSpPr>
        <p:spPr>
          <a:xfrm>
            <a:off x="155520" y="-2095560"/>
            <a:ext cx="6991560" cy="43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8"/>
          <p:cNvSpPr/>
          <p:nvPr/>
        </p:nvSpPr>
        <p:spPr>
          <a:xfrm>
            <a:off x="307800" y="-1943280"/>
            <a:ext cx="6991560" cy="43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10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12"/>
          <p:cNvSpPr/>
          <p:nvPr/>
        </p:nvSpPr>
        <p:spPr>
          <a:xfrm>
            <a:off x="216000" y="158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11" descr="https://www.onderhandelmakelaar.com/blog/wp-content/uploads/sites/2/2014/12/Huis-kopen.jpg"/>
          <p:cNvPicPr/>
          <p:nvPr/>
        </p:nvPicPr>
        <p:blipFill>
          <a:blip r:embed="rId2"/>
          <a:stretch/>
        </p:blipFill>
        <p:spPr>
          <a:xfrm>
            <a:off x="0" y="0"/>
            <a:ext cx="2916360" cy="291636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13" descr="http://www.duinstramakelaars.nl/wp-content/uploads/2015/05/Nu-een-huis-kopen-wel-of-niet-verstandig.jpg"/>
          <p:cNvPicPr/>
          <p:nvPr/>
        </p:nvPicPr>
        <p:blipFill>
          <a:blip r:embed="rId3"/>
          <a:stretch/>
        </p:blipFill>
        <p:spPr>
          <a:xfrm>
            <a:off x="6372360" y="0"/>
            <a:ext cx="2771640" cy="23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Zelf via het internet zoek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en makelaar inschakel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Hij weet welke woningen er te koop zijn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Hij weet ook wat een redelijke prijs is voor de woninge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Hij kan over de prijs onderhandele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Hij kan zorgen voor een rapport over de kwaliteit van de woning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Hij weet wat er in de omgeving van de woning wel en niet gebouwd mag worde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9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5" descr="https://www.makelaarsland.nl/Content/images/makelaarplaats-landingpage.jpg"/>
          <p:cNvPicPr/>
          <p:nvPr/>
        </p:nvPicPr>
        <p:blipFill>
          <a:blip r:embed="rId2"/>
          <a:stretch/>
        </p:blipFill>
        <p:spPr>
          <a:xfrm>
            <a:off x="5076720" y="0"/>
            <a:ext cx="4067280" cy="16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53964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302760" indent="-2120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Als je een bestaande woning koopt, staat er achter de aankoopsom k.k. (kosten koper)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02760" indent="-212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De nieuwe eigenaar moet rekenen op ongeveer 6%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extra kosten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die hij zelf moet betalen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02760" indent="-212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- Overdrachtsbelasting (2%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02760" indent="-212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- Kosten makelaar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02760" indent="-212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- Notariskosten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02760" indent="-212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- Afsluiten hypotheek       enz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02760" indent="-212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02760" indent="-212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Nieuwe woning kopen??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v.o.n (vrij op naam)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02760" indent="-212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Minder extra kosten betalen! Rest wordt door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02760" indent="-212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verkoper betaald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02760" indent="-212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02760" indent="-212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2" name="Titel 2" descr=""/>
          <p:cNvPicPr/>
          <p:nvPr/>
        </p:nvPicPr>
        <p:blipFill>
          <a:blip r:embed="rId1"/>
          <a:stretch/>
        </p:blipFill>
        <p:spPr>
          <a:xfrm>
            <a:off x="212760" y="0"/>
            <a:ext cx="8486640" cy="124308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2" descr="https://encrypted-tbn1.gstatic.com/images?q=tbn:ANd9GcSX3ginltl9DQXNYxJBgB419BT25sVNZ2Nknwu6YUdxAmwJanIv-A"/>
          <p:cNvPicPr/>
          <p:nvPr/>
        </p:nvPicPr>
        <p:blipFill>
          <a:blip r:embed="rId2"/>
          <a:stretch/>
        </p:blipFill>
        <p:spPr>
          <a:xfrm>
            <a:off x="7524720" y="5249880"/>
            <a:ext cx="1619280" cy="160812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4" descr="http://i204.photobucket.com/albums/bb128/Binnetie/Knipsel_zps344d83ce.jpg"/>
          <p:cNvPicPr/>
          <p:nvPr/>
        </p:nvPicPr>
        <p:blipFill>
          <a:blip r:embed="rId3"/>
          <a:stretch/>
        </p:blipFill>
        <p:spPr>
          <a:xfrm>
            <a:off x="5602320" y="2637000"/>
            <a:ext cx="354168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Koper en verkoper eens over de verkoop?? </a:t>
            </a:r>
            <a:r>
              <a:rPr b="0" lang="en-US" sz="25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 voorlopig koopcontract afsluiten (meestal opgesteld door verkoper).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Het klinkt een beetje gek, maar ‘voorlopig’ betekent dat je maar 3 dagen bedenktijd hebt om het contract te annuleren.  Houd dit in de gaten!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Na deze 3 dagen kun je niet meer zonder boete (10% van de aankoopsom) het contract opzeggen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6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387" name="AutoShape 2"/>
          <p:cNvSpPr/>
          <p:nvPr/>
        </p:nvSpPr>
        <p:spPr>
          <a:xfrm>
            <a:off x="155520" y="-1881360"/>
            <a:ext cx="5886360" cy="39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Picture 4" descr="Gerelateerde afbeelding"/>
          <p:cNvPicPr/>
          <p:nvPr/>
        </p:nvPicPr>
        <p:blipFill>
          <a:blip r:embed="rId2"/>
          <a:stretch/>
        </p:blipFill>
        <p:spPr>
          <a:xfrm>
            <a:off x="6948360" y="5397480"/>
            <a:ext cx="2195640" cy="14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457200" y="1267920"/>
            <a:ext cx="8229600" cy="47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Je kan ook van de koop af als je vantevoren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Lucida Sans Unicode"/>
              </a:rPr>
              <a:t>ontbindende voorwaarden  </a:t>
            </a: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(meestal over financiering en bouwtechnische keuring) in het contract hebt opgenomen. Bijv. als je geen geld kan lenen, dat de koop niet doorgaat.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De definitieve koopovereenkomst wordt opgesteld door de notaris en door de koper en verkoper ondertekend. Deze overeenkomst heet de transportakte.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0" name="Titel 2" descr=""/>
          <p:cNvPicPr/>
          <p:nvPr/>
        </p:nvPicPr>
        <p:blipFill>
          <a:blip r:embed="rId1"/>
          <a:stretch/>
        </p:blipFill>
        <p:spPr>
          <a:xfrm>
            <a:off x="201600" y="249120"/>
            <a:ext cx="8485200" cy="115884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2" descr="http://www.beilen-notaris.nl/files/2012/07/testament.jpg"/>
          <p:cNvPicPr/>
          <p:nvPr/>
        </p:nvPicPr>
        <p:blipFill>
          <a:blip r:embed="rId2"/>
          <a:stretch/>
        </p:blipFill>
        <p:spPr>
          <a:xfrm>
            <a:off x="6516720" y="0"/>
            <a:ext cx="2627280" cy="137952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4" descr="http://www.groningennotaris.nl/files/2011/04/notaris.jpg"/>
          <p:cNvPicPr/>
          <p:nvPr/>
        </p:nvPicPr>
        <p:blipFill>
          <a:blip r:embed="rId3"/>
          <a:stretch/>
        </p:blipFill>
        <p:spPr>
          <a:xfrm>
            <a:off x="3203640" y="3284640"/>
            <a:ext cx="2663640" cy="99540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6" descr="http://www.notarisrotterdam.com/images/transportakte.gif"/>
          <p:cNvPicPr/>
          <p:nvPr/>
        </p:nvPicPr>
        <p:blipFill>
          <a:blip r:embed="rId4"/>
          <a:stretch/>
        </p:blipFill>
        <p:spPr>
          <a:xfrm>
            <a:off x="7956720" y="5275440"/>
            <a:ext cx="1187280" cy="158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" descr=""/>
          <p:cNvPicPr/>
          <p:nvPr/>
        </p:nvPicPr>
        <p:blipFill>
          <a:blip r:embed="rId1"/>
          <a:stretch/>
        </p:blipFill>
        <p:spPr>
          <a:xfrm>
            <a:off x="457200" y="148104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96" name="Picture 2" descr="http://www.wegwijs.nl/media/53832356/unnamed_558x558.jpg"/>
          <p:cNvPicPr/>
          <p:nvPr/>
        </p:nvPicPr>
        <p:blipFill>
          <a:blip r:embed="rId2"/>
          <a:stretch/>
        </p:blipFill>
        <p:spPr>
          <a:xfrm>
            <a:off x="1692360" y="0"/>
            <a:ext cx="6143400" cy="614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457200" y="333360"/>
            <a:ext cx="8229600" cy="567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 eigendomsoverdracht van alle onroerende zaken vindt plaats bij de notaris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 notaris zorgt er vervolgens voor dat de transportakte in het kadaster wordt ingeschrev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nroerende zaken = grond en alles wat daaraan vastzit (gebouwen, huizen, kantoren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Kadaster = instelling waar alle onroerende zaken in Nederland staan geregistreerd. (Hier is dus bekend van wie wat is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14:51:49Z</dcterms:created>
  <dc:creator>rachid</dc:creator>
  <dc:description/>
  <dc:language>en-US</dc:language>
  <cp:lastModifiedBy>Rachid Hamdi</cp:lastModifiedBy>
  <dcterms:modified xsi:type="dcterms:W3CDTF">2016-12-07T10:53:08Z</dcterms:modified>
  <cp:revision>68</cp:revision>
  <dc:subject/>
  <dc:title> </dc:title>
</cp:coreProperties>
</file>