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png" ContentType="image/png"/>
  <Override PartName="/ppt/media/image2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7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9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B8EB-08C5-445B-8435-EC35824E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9307-6644-4B28-BE79-7FB999DA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16A5-108B-4F47-A5B4-6E85E315B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5E73-4A51-4DAE-A6F1-923C971AA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DF93-3F2E-4C3C-8455-0CB24240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BB87-5F29-4F2F-9AF2-2772D9F4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B934-8E7A-409B-8D7B-24833488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CBD9-4ED3-46F8-AB41-D4DF19F5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7F24-AFFC-4BE3-9260-5EBB90AA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5150-CF6A-4EAD-AB80-A214862E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3271-D3AD-476E-B41C-2DE21D12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7066-9C48-4253-AFD0-C4952EA7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871A-936F-4F5E-BD40-7AFD34EA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554A-879A-4648-B80B-9C330752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7EA4-2818-4EB7-9823-518457FF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1B95-7B8C-47F0-99CD-DBF16F22B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1305-70B4-4892-B601-27F2759E1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FF30B-2A2B-4383-B66B-A3F0ADBA0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D21EF-2877-48B6-B881-4E733AB1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D1783-4948-4DD3-9B0D-E0614B69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B92CD-2724-4DF0-B928-FFACE1A5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9E95D-F4A9-49A5-A76A-1377E6B9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6F5E-9B2C-4C96-B82A-9A095F5A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5C8DA-2882-4908-87A0-0EBB2D29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EAA54-7940-4635-8B81-000A16F3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321DB-0971-4E8B-933C-AE9B7BB8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9CFC6-DBF3-4B7E-BD11-54F84111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7EC5B-DDCD-41B6-9822-D9ABBCD6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ABA0A-8F18-4382-B2FC-3B87C75D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D43FA-E095-4605-8650-E4B24C312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43228-1E8F-47A5-9ABB-670D51C9C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9EFE0-48CE-4F96-B25C-A27A4F5D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FACF6-2AE1-4792-B2CA-A93781D4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1AC5-C322-4E53-8465-3F37A54E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C9F7A-0928-461B-B6BD-E99F0E70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E72A3-3197-4A10-9F96-8C6FA48E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54321-364E-4945-8760-C1F92D39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61BDD-16DD-433D-9E7C-DB1326FB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80BED-D87D-45EE-A9D5-0CBC45E8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BB5E7-699D-475E-AD3B-4D1F73D3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BADC3-FF85-463A-9189-2723AE90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5A6E7-33E6-43DC-B211-2BC8CE26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76254-29E7-4132-BDE1-5CEA6715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50635-2F88-4907-8A9F-44137FCC0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E256-2547-4593-991C-624FCFB8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B75F6-BD16-4957-B9FF-D77EEA21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B7719-D728-4B68-BA8E-C3F3EDBB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57B5C-7E1A-4BDB-A014-BBD0F794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76B7B-9458-4A72-862F-96A7ED00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3B027-9D34-4424-B0F7-1067027E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0DDE6-2E54-43E5-9A56-A5A68C2D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71F18-0CCF-4396-A7EB-26C7AFF8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A05D3-D38C-4CC0-BECC-1F283EFF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3702D-9763-466A-81F0-EE89CF7F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68E07-B0C0-4A35-9643-498A712DD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D9B3-3954-4FC6-9FE2-2937CA32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FC362-F56F-46B1-89BF-EF1DD9490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97693-4CFA-48A4-A856-33B0B2EA5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E0FAA-1407-4253-A29C-809C5EEE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7805A-3388-4C7F-92A6-03C6FC6A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36E07-3F6A-4305-BD7A-C7308769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D5C71-C46E-487E-B702-12D65E50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9C93D-1593-4A17-BC32-D8F51660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0F588-D62C-405D-9F13-78F8212F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AB68A-532E-4D9A-9E14-E7D2F326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33DA6-D945-401C-A4EE-4D45A825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BA60-0CA5-4650-B448-5B1412FB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E72B5-DC05-49EA-AE25-69ED9454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C0007-B454-4217-B526-B60C8AD1B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F64D2-A977-497B-9FF4-ACD32E685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706F5-D13C-478C-BC73-10163AC1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27173-DDB0-488F-B0AD-9BA4A9EB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7F669-9E88-42EC-B30B-260AAD20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1B523-5B67-47ED-B715-5770FE42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05E3D-6E97-45D4-BF3D-B6E79CA7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26D1C-2ABA-4FD9-8B36-D34CD057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C51AF-B32F-42E0-A77A-02F02297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F502-14E1-43AE-A6F4-489520B5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11C3A-0DD3-4CFD-A88D-32676298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455A6-05CA-4925-B817-2AF7D514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8CA18-BAAB-4941-927A-F6307D02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CBFA6-40CC-44A1-B2F1-594D2A9BF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5E0D7-E95E-4AB6-B9E0-DAE479568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A9FB1-A4F8-4A49-8A86-44B9F0A06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A2825-3BF6-49D9-BCF0-AAD8D1BA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79F36-BF2A-4F64-8AA4-5FAAA1F5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26E92-8340-41FA-8991-07AD5CB2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4AC50-E138-449D-9C79-234C200C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C663-9587-4952-910C-911E6D83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105B1-D26A-456C-BF7C-29D60CCB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6A4CA-3354-4CB0-9676-5667B3CD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E9AA1-454F-4845-B0EA-746C5960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1A7F0-6A53-4D71-97AB-D5DC27BA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37CFC-A7BD-4E5C-9B18-E80DB5D4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914C2-73D8-4580-884A-CA1DBA02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342C8-358A-40CA-A2B5-F029B923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D4FF-522F-4791-AB5A-39DB39A0F3E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D0DB-EC2A-447D-BF75-66FCDEB13E9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518D-3ED7-484C-ACE7-F8C35389C27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126B-DB0A-4816-B2AF-CAC7E43F74A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4A49-6E38-45DB-8933-768F800B80E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50A4-5EF3-42F0-B0D7-C91354FACA6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25B8-1B22-4526-9756-B19008292AE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35A5-0C11-4615-9F4A-9FEF9DB281A2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oningnet.nl/" TargetMode="External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Huur en verhuu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4" descr="http://www.cie.nl/media/W1siZiIsIjIwMTMvMDkvMDMvMDgvNDYvNTgvOTcyLzA1MDE2X1dhdGVybGFuZHBsZWluXzAxLmpwZyJdXQ/05016_Waterlandplein_01.jpg"/>
          <p:cNvPicPr/>
          <p:nvPr/>
        </p:nvPicPr>
        <p:blipFill>
          <a:blip r:embed="rId2"/>
          <a:stretch/>
        </p:blipFill>
        <p:spPr>
          <a:xfrm>
            <a:off x="0" y="0"/>
            <a:ext cx="320364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 de laatste jar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root tekort aan huurkamers en betaalbare huurwoningen, omdat de vraag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groter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s dan het aanbo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volg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oge prijzen!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Sociale huurwon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bedoeld voor mensen met een laag inkom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Vrije sector won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bedoeld voor mensen met hogere inkome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79" name="PIJL-OMLAAG 4"/>
          <p:cNvSpPr/>
          <p:nvPr/>
        </p:nvSpPr>
        <p:spPr>
          <a:xfrm>
            <a:off x="3924360" y="2455920"/>
            <a:ext cx="503280" cy="8636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2"/>
          <p:cNvSpPr/>
          <p:nvPr/>
        </p:nvSpPr>
        <p:spPr>
          <a:xfrm>
            <a:off x="63360" y="-136440"/>
            <a:ext cx="32101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Gerelateerde afbeelding"/>
          <p:cNvPicPr/>
          <p:nvPr/>
        </p:nvPicPr>
        <p:blipFill>
          <a:blip r:embed="rId2"/>
          <a:stretch/>
        </p:blipFill>
        <p:spPr>
          <a:xfrm>
            <a:off x="7040520" y="0"/>
            <a:ext cx="2131920" cy="12682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http://www.woonnieuws.nl/files/image/61"/>
          <p:cNvPicPr/>
          <p:nvPr/>
        </p:nvPicPr>
        <p:blipFill>
          <a:blip r:embed="rId3"/>
          <a:stretch/>
        </p:blipFill>
        <p:spPr>
          <a:xfrm>
            <a:off x="6156360" y="2637000"/>
            <a:ext cx="2482920" cy="1711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http://www.wv.nl/typo3temp/pics/Label_vrije_sector_10_cm_RGB_1f993fb23a.jpg"/>
          <p:cNvPicPr/>
          <p:nvPr/>
        </p:nvPicPr>
        <p:blipFill>
          <a:blip r:embed="rId4"/>
          <a:stretch/>
        </p:blipFill>
        <p:spPr>
          <a:xfrm>
            <a:off x="7496280" y="5210280"/>
            <a:ext cx="164772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nder woord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uurovereenkomst. Hieruit vloeien rechten en plich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Recht ver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bedrag op tijd krij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Plichten ver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oning in goede staat opleveren en onderhou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Recht 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ivacy en ongestoord woongeno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Plicht 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huur op tijd beta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2"/>
          <p:cNvSpPr/>
          <p:nvPr/>
        </p:nvSpPr>
        <p:spPr>
          <a:xfrm>
            <a:off x="155520" y="-2468520"/>
            <a:ext cx="60958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Gerelateerde afbeelding"/>
          <p:cNvPicPr/>
          <p:nvPr/>
        </p:nvPicPr>
        <p:blipFill>
          <a:blip r:embed="rId2"/>
          <a:stretch/>
        </p:blipFill>
        <p:spPr>
          <a:xfrm>
            <a:off x="7308720" y="-54000"/>
            <a:ext cx="1835280" cy="1549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http://www.psychologiepraktijkberingen.nl/images/praktijkregels.jpg"/>
          <p:cNvPicPr/>
          <p:nvPr/>
        </p:nvPicPr>
        <p:blipFill>
          <a:blip r:embed="rId3"/>
          <a:stretch/>
        </p:blipFill>
        <p:spPr>
          <a:xfrm>
            <a:off x="7385040" y="5229360"/>
            <a:ext cx="1735200" cy="1628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http://www.watzijnkinderrechten.be/oorsprong/_img/oorsprongwat.gif"/>
          <p:cNvPicPr/>
          <p:nvPr/>
        </p:nvPicPr>
        <p:blipFill>
          <a:blip r:embed="rId4"/>
          <a:stretch/>
        </p:blipFill>
        <p:spPr>
          <a:xfrm>
            <a:off x="7554960" y="3662280"/>
            <a:ext cx="1539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bedrag moet in verhouding zijn met de kwaliteit van de wo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e meer luxe en hoe mooier de omgeving, hoe hoger de huur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zij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ijzen vaststell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ebruik maken van landelijk puntensystee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2" name="AutoShape 2"/>
          <p:cNvSpPr/>
          <p:nvPr/>
        </p:nvSpPr>
        <p:spPr>
          <a:xfrm>
            <a:off x="63360" y="-136440"/>
            <a:ext cx="36957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Gerelateerde afbeelding"/>
          <p:cNvPicPr/>
          <p:nvPr/>
        </p:nvPicPr>
        <p:blipFill>
          <a:blip r:embed="rId2"/>
          <a:stretch/>
        </p:blipFill>
        <p:spPr>
          <a:xfrm>
            <a:off x="5435640" y="4564080"/>
            <a:ext cx="368136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uden aan opzegtermij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der houdt zich niet aan huurcontrac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oning in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orspronkelijke staat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rugbre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koop breekt geen 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ood breekt geen 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5386320" y="4221000"/>
            <a:ext cx="371016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8 jaar geworden?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irect schrijven op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www.woningnet.n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eenmalig 50 euro betalen en daarna jaarlijks 10 euro verlengingskost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chttijd voor betaalbare huurwoningen is lang, omdat de vraag naar deze huurwoningen groter is dan het aanbod hiervan. De prijzen liggen hierdoor ook hoog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9" name="AutoShape 5"/>
          <p:cNvSpPr/>
          <p:nvPr/>
        </p:nvSpPr>
        <p:spPr>
          <a:xfrm>
            <a:off x="155520" y="-677880"/>
            <a:ext cx="1847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155520" y="-677880"/>
            <a:ext cx="1847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9" descr="Gerelateerde afbeelding"/>
          <p:cNvPicPr/>
          <p:nvPr/>
        </p:nvPicPr>
        <p:blipFill>
          <a:blip r:embed="rId3"/>
          <a:stretch/>
        </p:blipFill>
        <p:spPr>
          <a:xfrm>
            <a:off x="5867280" y="2421000"/>
            <a:ext cx="2160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sen met ee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laag inkomen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 die in een huurwoning wonen met ee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uurbedrag dat ligt tussen de minimale en de maximal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huurgrens, krijgen huurtoeslag van de overheid, als hulp in de huurlas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on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asisbehoef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http://stuworld.nl/uploads/content/Wie%20krijgt%20huurtoeslag_600x266.jpg"/>
          <p:cNvPicPr/>
          <p:nvPr/>
        </p:nvPicPr>
        <p:blipFill>
          <a:blip r:embed="rId2"/>
          <a:stretch/>
        </p:blipFill>
        <p:spPr>
          <a:xfrm>
            <a:off x="1403280" y="4508640"/>
            <a:ext cx="3203640" cy="14205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3"/>
          <a:stretch/>
        </p:blipFill>
        <p:spPr>
          <a:xfrm>
            <a:off x="5000760" y="3860640"/>
            <a:ext cx="41432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lein onderhoud (wordt door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huurd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etaal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nderhou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root onderhoud (wordt door            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verhuurd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etaal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cxnSp>
        <p:nvCxnSpPr>
          <p:cNvPr id="408" name="Rechte verbindingslijn met pijl 4"/>
          <p:cNvCxnSpPr/>
          <p:nvPr/>
        </p:nvCxnSpPr>
        <p:spPr>
          <a:xfrm flipV="1">
            <a:off x="2987640" y="2275920"/>
            <a:ext cx="721440" cy="1081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09" name="Rechte verbindingslijn met pijl 7"/>
          <p:cNvCxnSpPr/>
          <p:nvPr/>
        </p:nvCxnSpPr>
        <p:spPr>
          <a:xfrm>
            <a:off x="2987280" y="3357720"/>
            <a:ext cx="577080" cy="10800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pic>
        <p:nvPicPr>
          <p:cNvPr id="410" name="Picture 9" descr="http://www.derietdekker.nl/images/user/nieuw-rieten-dak/inspectie-rieten-dak.jpg"/>
          <p:cNvPicPr/>
          <p:nvPr/>
        </p:nvPicPr>
        <p:blipFill>
          <a:blip r:embed="rId2"/>
          <a:stretch/>
        </p:blipFill>
        <p:spPr>
          <a:xfrm>
            <a:off x="1042920" y="3716280"/>
            <a:ext cx="1513080" cy="16938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3" descr="http://ohsosteffi.files.wordpress.com/2014/04/dsc_0421.jpg"/>
          <p:cNvPicPr/>
          <p:nvPr/>
        </p:nvPicPr>
        <p:blipFill>
          <a:blip r:embed="rId3"/>
          <a:stretch/>
        </p:blipFill>
        <p:spPr>
          <a:xfrm>
            <a:off x="6593040" y="0"/>
            <a:ext cx="2550960" cy="17002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7" descr="http://www.vanloonschilderwerken.nl/wp-content/uploads/2013/03/Buitenschilderwerk-Halsteren.jpg"/>
          <p:cNvPicPr/>
          <p:nvPr/>
        </p:nvPicPr>
        <p:blipFill>
          <a:blip r:embed="rId4"/>
          <a:stretch/>
        </p:blipFill>
        <p:spPr>
          <a:xfrm>
            <a:off x="6873840" y="5157720"/>
            <a:ext cx="2270160" cy="1700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9" descr="http://www.klusidee.nl/Forum/userpix/91339_2vv2u7q_2.jpg"/>
          <p:cNvPicPr/>
          <p:nvPr/>
        </p:nvPicPr>
        <p:blipFill>
          <a:blip r:embed="rId5"/>
          <a:stretch/>
        </p:blipFill>
        <p:spPr>
          <a:xfrm>
            <a:off x="4716360" y="5183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1" descr="https://static.karwei.nl/medias/sys_master/h39/h17/8796287827998.jpg"/>
          <p:cNvPicPr/>
          <p:nvPr/>
        </p:nvPicPr>
        <p:blipFill>
          <a:blip r:embed="rId6"/>
          <a:stretch/>
        </p:blipFill>
        <p:spPr>
          <a:xfrm>
            <a:off x="5126040" y="0"/>
            <a:ext cx="1444680" cy="17002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3" descr="http://www.fantv.nl/images/stories/klus/behangen.jpg"/>
          <p:cNvPicPr/>
          <p:nvPr/>
        </p:nvPicPr>
        <p:blipFill>
          <a:blip r:embed="rId7"/>
          <a:stretch/>
        </p:blipFill>
        <p:spPr>
          <a:xfrm>
            <a:off x="3492360" y="0"/>
            <a:ext cx="1659240" cy="17002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5" descr="http://www.zkkf.nl/foto/zelf-kozijnen-monteren/plaatsen_kunststof_kozijnen.jpg"/>
          <p:cNvPicPr/>
          <p:nvPr/>
        </p:nvPicPr>
        <p:blipFill>
          <a:blip r:embed="rId8"/>
          <a:stretch/>
        </p:blipFill>
        <p:spPr>
          <a:xfrm>
            <a:off x="2484360" y="5165640"/>
            <a:ext cx="224964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07T10:55:26Z</dcterms:modified>
  <cp:revision>61</cp:revision>
  <dc:subject/>
  <dc:title> </dc:title>
</cp:coreProperties>
</file>