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5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2EB2-4E8C-4F57-AE35-B9783ECAD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1B82-64C4-4F62-A5AF-F171FE02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833B-9C45-4C9F-BE14-5E63FA14A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CE3A-744E-4950-A4DB-B8653F2E4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8372-0518-4968-BD41-5B02D9C6F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D100-7A25-4BE9-B2CD-18B11257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1CDD-BC8F-418E-B9FA-E31896FD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3714-E0AA-4FDD-BA60-B81FE66A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60D7-AC5B-41B0-9BAA-48C81939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BD82-C335-4BD1-983C-8F27F3D0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7622-BDE5-4B46-94CB-471C6441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65C7-1E99-4A25-B75E-E03581E5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98FA-4332-4C29-AB3F-1D9012FC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3ED8-78E2-49DF-B5FB-4B57D48A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92DA-6344-4EB9-94B7-2A398CF4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5F4D-0657-45A0-B571-3ADF4C7DD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C321-843F-4CA0-B39F-C31F02E5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2F244-4C36-4779-B51F-D11AB52B1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2273F-5EF8-47CC-80D0-C9B2417E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37420-5DC2-4208-BBB4-63E77C66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68BF5-8C06-4DA6-849B-7FD872B3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5FD94-EDC8-4204-8726-7010E20E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8691-1834-4AFC-B065-4F566718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73F84-A224-422F-A906-43E01159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967EE-2C8E-4BDA-9CD7-4F10CF64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2E098-3B11-4EB2-AB78-A8D1E732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444B2-D642-46F3-BC46-73AF0F4C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D868A-3BEF-45C6-B2C2-684F8996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4F30A-7A65-49F7-8665-3B5CB9F19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2081F-E8FB-4C21-8F9C-A5FA64094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A31E7-3656-4BDC-B74E-CD3556005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D59FA-70F2-4784-96D2-9EBFBE5C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27734-76FF-4D74-954D-690D6B38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F4E2-0D2B-476C-B5AD-1ECFCE88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62387-9E31-4FA3-94F7-998ACE46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4E99C-FC6E-4FB5-B0FF-859AE3AD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8FD69-89B3-40C3-9624-EB999BD8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61820-E0DA-4F64-92FB-FCD5E03A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DF78B-4DA1-4551-AA71-6CB075C5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0B2A5-1DA9-4F90-A03B-A6B28D76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69C3E-F088-41CC-9B62-66CB73C3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BE71E-0325-4CEA-83D5-D9482104C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36F47-0E65-469F-A8F8-95E4A8B3B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B36D2-A8E4-4070-9184-C9DC3BAD1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9773-918E-4845-8B63-F609B56A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AEF18-A20B-4D48-BFC2-E7AA91C2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D8409-6E74-4C48-9057-F254520D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1DD0F-60BF-4797-A375-45C23E9F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0EE2D-5AFD-4096-AE5F-20BD2F7B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51627-D4B1-4FF1-BFA3-6D7DC1D5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CCC3B-5738-4542-A21D-F4883E18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BF821-4E52-44A5-AC69-62FCB4DA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805EF-F6E7-4FD9-BBEE-E543B056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C0085-DD7F-4872-8B07-D2A021D6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1CC9C-A1F4-4DAB-A548-F69364CA3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7777-C491-4DF6-9B3D-FA28C479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164B9-4349-4840-9C4C-B5C2459A6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E5CCE-D5BF-474B-86D0-9547BF6A0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463C4-C025-4324-B669-D1F4E899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A1CA4-4A10-4280-9DDA-3760CCEA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4F3F2-DB2D-4EB9-B75C-00D54A99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D6E4B-B8E1-4B24-A7D4-47CF478E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E9514-F76E-4763-9C68-4E64E026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57665-A85B-40FE-A58C-CCE7B744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BD1AD-CCFC-4735-BF2E-788CEA0F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31D65-BB61-4FAC-9976-C8475045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77F5-58B1-46D8-8163-37A418B7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F5EAF-5846-46FC-B2AE-16E603B0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A2885-BC77-47A3-BC8F-BB34BD99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B2E54-CB0F-4975-9038-4E7D8932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0DE0C-E800-461D-BE31-9170CCCFF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13C04-9A1B-41A3-9690-2878C687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1AFD5-D344-4B52-B1C0-B041E6FE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76BD6-1872-495E-AB00-7A648EB9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DDA9A-8D7B-41BF-9ED7-BD43F338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39E25-4080-4B7A-8452-EDB750EC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80A10-7D89-4365-986A-3C73EEE9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E4E6-4B82-4599-B66A-39E2A7AE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AB39F-359D-4236-9ACB-C8FD3282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71E85-4AB5-42C2-B9F4-713A97D4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D3715-007D-46BF-94EB-3AA60BBC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46814-5D69-4B10-B316-BE0ED2A28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29318-6339-4A5C-8B23-5B69107EC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F5317-892D-4A00-9E2C-F6BEF1E69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C9F1A-4F0C-4B41-9BFE-ED24EA21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C7D59-8807-4B72-9FA4-8E1D1971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024BB-69D0-481A-8033-01387253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132C3-8C1D-4A28-84BD-44050348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D103-13CE-4841-8CEE-2429CC58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8567B-5151-46CA-B4DF-8B979EC5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5C820-5FEC-4D1A-ABD5-73621F66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A879C-3E1F-4ECA-83F4-0B0C9C0E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20A09-A194-44F4-B184-C6851356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8132E-6744-41A0-BCC2-9C971DA0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DC8E7-0A90-441C-96BF-105B31E93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B9E8A-FA5C-4BF6-92BB-3040ED5B8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1EE8-D0FB-47A1-B18E-F63CBC8C02F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235D-29FD-46CB-A024-C38E33EA3068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E05A-C6E2-40FD-9FE5-C605B5B8A40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ACD6-D858-4A1A-8354-716BC6744EE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DAE3-A29F-4542-A8D5-0FE1F655251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EB45-F747-4F5E-9208-14FA0005938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ECD0-80CB-444D-844C-D6A238B959B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CD7F-D0AA-4E3E-8E31-F3B430172EBD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BzqwjF4RIQU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Verzekeren, hoe dan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0" descr="Afbeeldingsresultaat voor verzekeren"/>
          <p:cNvPicPr/>
          <p:nvPr/>
        </p:nvPicPr>
        <p:blipFill>
          <a:blip r:embed="rId2"/>
          <a:stretch/>
        </p:blipFill>
        <p:spPr>
          <a:xfrm>
            <a:off x="0" y="-27000"/>
            <a:ext cx="2719440" cy="28321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2" descr="Afbeeldingsresultaat voor verzekeren"/>
          <p:cNvPicPr/>
          <p:nvPr/>
        </p:nvPicPr>
        <p:blipFill>
          <a:blip r:embed="rId3"/>
          <a:stretch/>
        </p:blipFill>
        <p:spPr>
          <a:xfrm>
            <a:off x="6081840" y="15840"/>
            <a:ext cx="306216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s://www.youtube.com/watch?v=BzqwjF4RIQU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"/>
          <p:cNvPicPr/>
          <p:nvPr/>
        </p:nvPicPr>
        <p:blipFill>
          <a:blip r:embed="rId3"/>
          <a:stretch/>
        </p:blipFill>
        <p:spPr>
          <a:xfrm>
            <a:off x="1638360" y="2637000"/>
            <a:ext cx="5924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6836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Je kunt je verzeker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ateriël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schade (= schade die in geld is uit te drukk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schade di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onzeker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is (dus alleen als je niet van tevoren kan weten dat er schade ontstaa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schade die j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niet opzettelijk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oorzaak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3" name="AutoShape 2"/>
          <p:cNvSpPr/>
          <p:nvPr/>
        </p:nvSpPr>
        <p:spPr>
          <a:xfrm>
            <a:off x="155520" y="-83016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4606920" y="41400"/>
            <a:ext cx="453708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zekeringsovereenkomst tussen verzekerde en verzekeraar (= verzekeringsmaatschappij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olis + polisvoorwaar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Uitsluitingen (de zaken die niet worden vergoe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igen risico (bedrag wat je niet vergoed krijg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Afbeeldingsresultaat voor verzekeringspremie"/>
          <p:cNvPicPr/>
          <p:nvPr/>
        </p:nvPicPr>
        <p:blipFill>
          <a:blip r:embed="rId2"/>
          <a:stretch/>
        </p:blipFill>
        <p:spPr>
          <a:xfrm>
            <a:off x="6300720" y="2349360"/>
            <a:ext cx="284328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fhankelijk van kans op schad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eigen risic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emie uitreken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romillage (1 duizendste deel) van verzekerde waard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Voorbeeld: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erzekerde waarde is € 45.000 en promillage is 2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€ 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45.000 : 1000 x 2 = € 90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60112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Afbeeldingsresultaat voor promillage"/>
          <p:cNvPicPr/>
          <p:nvPr/>
        </p:nvPicPr>
        <p:blipFill>
          <a:blip r:embed="rId2"/>
          <a:stretch/>
        </p:blipFill>
        <p:spPr>
          <a:xfrm>
            <a:off x="7164360" y="5284800"/>
            <a:ext cx="189864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92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"/>
          <p:cNvPicPr/>
          <p:nvPr/>
        </p:nvPicPr>
        <p:blipFill>
          <a:blip r:embed="rId3"/>
          <a:stretch/>
        </p:blipFill>
        <p:spPr>
          <a:xfrm>
            <a:off x="611280" y="1557360"/>
            <a:ext cx="766584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Voor het afsluiten van een verzekering kun je terecht bij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verzekeraar zelf via internet bijv. =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irect wri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 verzekeringsadviseur die voor 1 verzekeraar werkt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 verzekeringsadviseur die voor meerdere verzekeraars werkt. Deze geeft het meest onafhankelijk adv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20T09:28:13Z</dcterms:modified>
  <cp:revision>76</cp:revision>
  <dc:subject/>
  <dc:title> </dc:title>
</cp:coreProperties>
</file>