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FE5-D4E8-4EC4-9BE7-C7CBEC6F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0C6D-F61F-4D91-AB3A-B8D3E9CC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829-CEF6-4975-95D9-9025B16C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63D9-B670-47C1-9755-F1A76F40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B34C-2043-4DF1-A8A9-C4CF2662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3950-7BD4-4B7D-B745-7517A7D2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C778-EDB8-4D19-908E-F7BD8100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7052-CB10-4005-9769-0836E662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8D89-4E61-4D1E-B5BA-5D50C431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3105-7D2D-4EE7-9FE0-D670DB68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CC4D-DD50-403C-B222-2A941F10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A3E-A933-47CC-83F8-A6DB9700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3DEB-10C7-416E-AD5D-48F82BB7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00F8-6032-4A21-9E58-EE3B9CDA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17A8-FE9A-4987-8704-41154048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8917-F0EB-4A33-BC5B-577AC707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297A-D1A5-44CB-A434-917758F4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6189D-4C3E-426B-AB31-DA0E4FA2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A7C12-4DF0-4BF9-B0E2-FE298409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34E8E-0630-4B3F-B42B-3BEDAFEF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FA0B9-4870-41D2-B3C0-317723E4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2435D-976C-46AF-A649-3ABB7A22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5C75-96C8-40D2-9B49-460F53D2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86D56-0C09-4992-BAC0-5A77CE0D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9D25B-EE92-42A8-AD76-ACF11806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A91E7-56A3-4125-8E07-96F7A7A1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62088-493B-4692-A8B7-97754692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F58FA-25EF-4012-A507-0C402169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13D30-9C26-4D6F-BAE0-9160D46E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DCEF9-6588-4D02-AE2F-6F43718D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3234F-E711-4116-9698-83D647B5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30B07-3700-4EDF-9696-A9AC723E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87CC5-BC8C-445F-9F07-1C90A604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D37-FB16-495A-B443-3E25D9EC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F0A1F-EF3C-42B4-838F-25EAC5C2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EA6C9-7862-4EC6-8BB8-BE78C818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A84AE-1602-45F2-B829-0ADD6255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F1F59-1BC2-42F5-A1A6-A002350B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7D25D-B022-4D6A-A61D-32B81808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B2625-01CA-4A42-8985-AAA738E1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0505C-F39E-4744-804C-7E736488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ACAD3-561C-4787-A2F3-64B6E8D8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AD2AB-AFCB-4293-A14B-AEEFD899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AC947-690C-4422-966B-D9CA6D92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516-E80E-458E-8601-22F2A527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25B33-2BF5-429C-A5BF-9A95C37E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E5893-F16D-444F-A1F5-3822FA10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30A93-C11C-45D1-B76C-4C441045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D6CB5-C897-4342-9AF9-DBBD5F9F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090C1-3932-4E3B-B358-F1ECB58A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F1E79-1AF8-4AAC-AA20-8950CC67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66CE1-8748-470F-8FE1-9D947841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8E7C1-C86C-4C44-832B-01CF1E4F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81FC5-5CC4-4C26-BB87-43A6844C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109E0-477C-4921-BFDE-90B3508C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1B6A-ECF7-43FF-8AC5-D75A6C81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38DBE-964B-4591-B44C-4C27CA71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297B9-4459-42C0-A147-8ABE7F85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1094F-6E6E-4352-902F-B7139386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69914-C957-4AA5-973A-4E57E192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C36C3-C00C-462A-A010-6EFAFBE7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A8633-2C77-49B9-804C-13811884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999AE-6B32-4B5A-896D-A57FC6EC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ED56C-468B-4347-B1CE-B7FAB890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C9BDF-60D4-463F-B688-307FE5C1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4659A-400E-4DBD-B374-EAAD2AF0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346F-910B-439A-811C-EEB6C448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48DC3-1412-400E-84D4-4A6E034C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7CF21-4FEA-4111-AC54-6186F39C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A5DD8-AB2A-47CC-AA01-E46BE622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36784-16E7-4089-9449-0531A936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CDAFC-310F-4B50-9769-40E24B0C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FB8B8-7C05-4FD2-A680-DCD1FC13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7C48F-CCC4-4EB0-BA4F-628746D9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3E28E-9977-443C-9642-D1789E5F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8596F-DC31-4FA5-82D9-E7165517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0053D-7C91-4B1E-9141-CBCD7FB7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7C7-6F2C-4168-B88F-89B55DD4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A52F9-36A7-4B38-8356-A84BB9E5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607F6-D752-4B55-817C-D3AA1656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1B013-4A7F-43F6-A571-560A74E9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0F478-C427-492D-8AA2-CC79A5AB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6A935-C840-40F3-A907-F82F77C6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9ED90-872D-4428-9819-B9750E27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129B9-66A1-41E3-9020-FC4CA4CC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FF003-5531-49BD-968A-C1B02165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C75F6-75C2-4BE2-80C4-F5E82650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B68B0-6A81-4A1E-9AFF-4001C193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3A3-FC7B-4C36-A82F-57F6E4F1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1364D-9E6C-4F22-830A-DD7F6B06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72B3C-1717-429F-9844-28EBAC93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BBC03-7DDF-4AA5-A382-243DBDEA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E66E9-10CC-493C-8496-AAEB2F89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7BE3D-A504-45A3-94F4-887F33DC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57967-782B-446E-85F1-DD617D68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639AE-2094-48E2-8410-59CEFB59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224F-137C-4BB7-AFD1-D3350281B2B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44A6-270B-4028-91D1-D5A3A578FFF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0372-D2D1-4462-9B37-41F3C87CBBF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5F89-3351-40E4-BBEE-5AA45AF4D55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2FDA-0DBE-4C4D-935F-6A7F512A653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1AA1-E643-4CC2-A026-D802B47CD34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456A-CC58-4400-83B4-3BB53EE1088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3404-C51B-455C-9258-4A09FFF4EE9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Een eigen hu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s://www.onderhandelmakelaar.com/blog/wp-content/uploads/sites/2/2014/12/Huis-kopen.jpg"/>
          <p:cNvPicPr/>
          <p:nvPr/>
        </p:nvPicPr>
        <p:blipFill>
          <a:blip r:embed="rId2"/>
          <a:stretch/>
        </p:blipFill>
        <p:spPr>
          <a:xfrm>
            <a:off x="0" y="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http://www.duinstramakelaars.nl/wp-content/uploads/2015/05/Nu-een-huis-kopen-wel-of-niet-verstandig.jpg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lf via het internet zoe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makelaar inschake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elke woningen er te koop zij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ook wat een redelijke prijs is voor de woning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over de prijs onderhande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zorgen voor een rapport over de kwaliteit van de wo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at er in de omgeving van de woning wel en niet gebouwd mag wor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https://www.makelaarsland.nl/Content/images/makelaarplaats-landingpage.jpg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s je een bestaande woning koopt, staat er achter de aankoopsom k.k. (kosten koper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 nieuwe eigenaar moet rekenen op ongeveer 6%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extra koste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e hij zelf moet betal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Overdrachtsbelasting (2%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Kosten makela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Notariskost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Afsluiten hypotheek       enz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euwe woning kopen?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.o.n (vrij op naa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nder extra kosten betalen! Rest wordt do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koper betaal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s://encrypted-tbn1.gstatic.com/images?q=tbn:ANd9GcSX3ginltl9DQXNYxJBgB419BT25sVNZ2Nknwu6YUdxAmwJanIv-A"/>
          <p:cNvPicPr/>
          <p:nvPr/>
        </p:nvPicPr>
        <p:blipFill>
          <a:blip r:embed="rId2"/>
          <a:stretch/>
        </p:blipFill>
        <p:spPr>
          <a:xfrm>
            <a:off x="7524720" y="5249880"/>
            <a:ext cx="1619280" cy="1608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i204.photobucket.com/albums/bb128/Binnetie/Knipsel_zps344d83ce.jpg"/>
          <p:cNvPicPr/>
          <p:nvPr/>
        </p:nvPicPr>
        <p:blipFill>
          <a:blip r:embed="rId3"/>
          <a:stretch/>
        </p:blipFill>
        <p:spPr>
          <a:xfrm>
            <a:off x="5602320" y="2637000"/>
            <a:ext cx="35416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Koper en verkoper eens over de verkoop??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voorlopig koopcontract afsluiten (meestal opgesteld door verkoper)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et klinkt een beetje gek, maar ‘voorlopig’ betekent dat je maar 3 dagen bedenktijd hebt om het contract te annuleren.  Houd dit in de gaten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a deze 3 dagen kun je niet meer zonder boete (10% van de aankoopsom) het contract opzegg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2"/>
          <p:cNvSpPr/>
          <p:nvPr/>
        </p:nvSpPr>
        <p:spPr>
          <a:xfrm>
            <a:off x="155520" y="-1881360"/>
            <a:ext cx="5886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Gerelateerde afbeelding"/>
          <p:cNvPicPr/>
          <p:nvPr/>
        </p:nvPicPr>
        <p:blipFill>
          <a:blip r:embed="rId2"/>
          <a:stretch/>
        </p:blipFill>
        <p:spPr>
          <a:xfrm>
            <a:off x="6948360" y="5397480"/>
            <a:ext cx="21956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kan ook van de koop af als je vantevore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ontbindende voorwaarden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(meestal over financiering en bouwtechnische keuring) in het contract hebt opgenomen. Bijv. als je geen geld kan lenen, dat de koop niet doorgaat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definitieve koopovereenkomst wordt opgesteld door de notaris en door de koper en verkoper ondertekend. Deze overeenkomst heet de transportakt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www.beilen-notaris.nl/files/2012/07/testament.jpg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137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groningennotaris.nl/files/2011/04/notaris.jpg"/>
          <p:cNvPicPr/>
          <p:nvPr/>
        </p:nvPicPr>
        <p:blipFill>
          <a:blip r:embed="rId3"/>
          <a:stretch/>
        </p:blipFill>
        <p:spPr>
          <a:xfrm>
            <a:off x="3203640" y="3284640"/>
            <a:ext cx="2663640" cy="995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http://www.notarisrotterdam.com/images/transportakte.gif"/>
          <p:cNvPicPr/>
          <p:nvPr/>
        </p:nvPicPr>
        <p:blipFill>
          <a:blip r:embed="rId4"/>
          <a:stretch/>
        </p:blipFill>
        <p:spPr>
          <a:xfrm>
            <a:off x="7956720" y="5275440"/>
            <a:ext cx="11872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6" name="Picture 2" descr="http://www.wegwijs.nl/media/53832356/unnamed_558x558.jpg"/>
          <p:cNvPicPr/>
          <p:nvPr/>
        </p:nvPicPr>
        <p:blipFill>
          <a:blip r:embed="rId2"/>
          <a:stretch/>
        </p:blipFill>
        <p:spPr>
          <a:xfrm>
            <a:off x="1692360" y="0"/>
            <a:ext cx="6143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eigendomsoverdracht van alle onroerende zaken vindt plaats bij de notar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notaris zorgt er vervolgens voor dat de transportakte in het kadaster wordt ingeschr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roerende zaken = grond en alles wat daaraan vastzit (gebouwen, huizen, kantor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daster = instelling waar alle onroerende zaken in Nederland staan geregistreerd. (Hier is dus bekend van wie wat i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3:08Z</dcterms:modified>
  <cp:revision>68</cp:revision>
  <dc:subject/>
  <dc:title> </dc:title>
</cp:coreProperties>
</file>